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CCB-BCD8-4543-8C50-998F5C46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819-1E01-467B-9BDE-536CCB6D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671-03B6-4145-8DFD-C13FF738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886-AF41-462A-901D-38F838C6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4B0-07BF-47A3-A12C-AAEB98F9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AEA-1736-4BF8-AA64-30F2F43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446-D263-4299-81FD-78D74F2C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2BA-C298-4D7A-93A0-272563A3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802-58DE-4430-9551-CC0D372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855-6923-4C82-AE5E-84C0272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ECAF-5EAB-4426-B625-D92B9CE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C0D-FBD5-4E7C-941F-0A19348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E21F-A6AA-45AE-9A59-0192DF4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3489-E898-4A11-899D-7F8740B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2AD-08A5-4BB1-B1D0-7EB0C993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5660-91B7-4FCC-A5C7-3A0A0E84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1F4-D4AA-498E-A093-8EA18AD5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CDA-84F1-46EF-9C09-DA4953E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94A-194C-4A1E-8A29-265A5DD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205-8459-4035-8895-0FEEC81B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181-0E7D-4976-A508-A39E43B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8F0-996D-4799-92C8-1368733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DA9-E870-46C4-B991-D578B56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F30-B90E-4EDC-9A01-39D0E60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1848-BE6D-4971-9F9B-6FB91E61CB8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21A-CCCD-46C3-93C0-099BFDADD8E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Verdana"/>
                <a:cs typeface="IranNastaliq"/>
              </a:rPr>
              <a:t>بسم الله الرحمن الرحیم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7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3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r" rtl="1">
              <a:lnSpc>
                <a:spcPct val="160000"/>
              </a:lnSpc>
              <a:spcBef>
                <a:spcPts val="9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أَكُفَّارُكُمْ خَيْرٌ مِنْ أُولَئِكُمْ أَمْ لَكُمْ بَرَاءَةٌ فِي الزُّبُرِ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٤٣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أَمْ يَقُولُونَ نَحْنُ جَمِيعٌ مُنْتَصِرٌ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٤٤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سَيُهْزَمُ الْجَمْعُ وَيُوَلُّونَ الدُّبُرَ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٤٥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بَلِ السَّاعَةُ مَوْعِدُهُمْ وَالسَّاعَةُ أَدْهَى وَأَمَرُّ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٤٦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8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7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r" rtl="1">
              <a:lnSpc>
                <a:spcPct val="160000"/>
              </a:lnSpc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جْرِمِينَ فِي ضَلالٍ وَسُعُرٍ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٤٧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يَوْمَ يُسْحَبُونَ فِي النَّارِ عَلَى وُجُوهِهِمْ ذُوقُوا مَسَّ سَقَرَ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٤٨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31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كُلَّ شَيْءٍ خَلَقْنَاهُ بِقَدَرٍ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٤٩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وَمَا أَمْرُنَا إِلا وَاحِدَةٌ كَلَمْحٍ بِالْبَصَرِ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٥٠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 وَلَقَدْ أَهْلَكْنَا أَشْيَاعَكُمْ فَهَلْ مِنْ مُدَّكِرٍ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٥١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31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وَكُلُّ شَيْءٍ فَعَلُوهُ فِي الزُّبُرِ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٥٢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وَكُلُّ صَغِيرٍ وَكَبِيرٍ مُسْتَطَرٌ (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cs typeface="me_quran"/>
              </a:rPr>
              <a:t>٥٣</a:t>
            </a:r>
            <a:r>
              <a:rPr b="0" lang="ar-SA" sz="3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9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54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r" rtl="1">
              <a:lnSpc>
                <a:spcPct val="140000"/>
              </a:lnSpc>
              <a:spcBef>
                <a:spcPts val="15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تَّقِينَ فِي جَنَّاتٍ وَنَهَرٍ (</a:t>
            </a:r>
            <a:r>
              <a:rPr b="0" lang="ar-SA" sz="6100" spc="-1" strike="noStrike">
                <a:solidFill>
                  <a:srgbClr val="000000"/>
                </a:solidFill>
                <a:latin typeface="Verdana"/>
                <a:cs typeface="me_quran"/>
              </a:rPr>
              <a:t>٥٤</a:t>
            </a:r>
            <a:r>
              <a:rPr b="0" lang="ar-SA" sz="6100" spc="-1" strike="noStrike">
                <a:solidFill>
                  <a:srgbClr val="000000"/>
                </a:solidFill>
                <a:latin typeface="Verdana"/>
                <a:ea typeface="me_quran"/>
              </a:rPr>
              <a:t>)فِي مَقْعَدِ صِدْقٍ عِنْدَ مَلِيكٍ مُقْتَدِرٍ (</a:t>
            </a:r>
            <a:r>
              <a:rPr b="0" lang="ar-SA" sz="6100" spc="-1" strike="noStrike">
                <a:solidFill>
                  <a:srgbClr val="000000"/>
                </a:solidFill>
                <a:latin typeface="Verdana"/>
                <a:cs typeface="me_quran"/>
              </a:rPr>
              <a:t>٥٥</a:t>
            </a:r>
            <a:r>
              <a:rPr b="0" lang="ar-SA" sz="6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  <a:cs typeface="B Jadid"/>
              </a:rPr>
              <a:t>نمودار مطال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433440" y="1706400"/>
            <a:ext cx="819792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تشخیص سیاقها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ct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بِسْمِ اللَّهِ الرَّحْمَنِ الرَّحِيم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r" rtl="1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اقْتَرَبَتِ السَّاعَةُ وَانْشَقَّ الْقَمَرُ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١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إِنْ يَرَوْا آيَةً يُعْرِضُوا وَيَقُولُوا سِحْرٌ مُسْتَمِرّ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كَذَّبُوا وَاتَّبَعُوا أَهْوَاءَهُمْ وَكُلُّ أَمْرٍ مُسْتَقِرّ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٣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جَاءَهُمْ مِنَ الأنْبَاءِ مَا فِيهِ مُزْدَجَ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٤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حِكْمَةٌ بَالِغَةٌ فَمَا تُغْنِ النُّذُرُ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فَتَوَلَّ عَنْهُمْ يَوْمَ يَدْعُو الدَّاعِ إِلَى شَيْءٍ نُكُ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٦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خُشَّعًا أَبْصَارُهُمْ يَخْرُجُونَ مِنَ الأجْدَاثِ كَأَنَّهُمْ جَرَادٌ مُنْتَشِ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٧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مُهْطِعِينَ إِلَى الدَّاعِ يَقُولُ الْكَافِرُونَ هَذَا يَوْمٌ عَسِ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٨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2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9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بْلَهُمْ قَوْمُ نُوحٍ فَكَذَّبُوا عَبْدَنَا وَقَالُوا مَجْنُونٌ وَازْدُجِ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٩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دَعَا رَبَّهُ أَنِّي مَغْلُوبٌ فَانْتَصِرْ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٠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فَتَحْنَا أَبْوَابَ السَّمَاءِ بِمَاءٍ مُنْهَم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١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فَجَّرْنَا الأرْضَ عُيُونًا فَالْتَقَى الْمَاءُ عَلَى أَمْرٍ قَدْ قُدِ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٢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حَمَلْنَاهُ عَلَى ذَاتِ أَلْوَاحٍ وَدُسُ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٣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تَجْرِي بِأَعْيُنِنَا جَزَاءً لِمَنْ كَانَ كُفِ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٤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تَرَكْنَاهَا آيَةً فَهَلْ مِنْ مُدَّك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٥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٦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٧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عَادٌ فَكَيْفَ كَانَ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٨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رِيحًا صَرْصَرًا فِي يَوْمِ نَحْسٍ مُسْتَمِرّ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١٩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تَنْزِعُ النَّاسَ كَأَنَّهُمْ أَعْجَازُ نَخْلٍ مُنْقَع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٠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١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٢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ثَمُودُ بِالنّ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٣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قَالُوا أَبَشَرًا مِنَّا وَاحِدًا نَتَّبِعُهُ إِنَّا إِذًا لَفِي ضَلالٍ وَسُعُ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٤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أَؤُلْقِيَ الذِّكْرُ عَلَيْهِ مِنْ بَيْنِنَا بَلْ هُوَ كَذَّابٌ أَشِرٌ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٥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سَيَعْلَمُونَ غَدًا مَنِ الْكَذَّابُ الأشِرُ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٦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مُرْسِلُو النَّاقَةِ فِتْنَةً لَهُمْ فَارْتَقِبْهُمْ وَاصْطَبِرْ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٧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نَبِّئْهُمْ أَنَّ الْمَاءَ قِسْمَةٌ بَيْنَهُمْ كُلُّ شِرْبٍ مُحْتَضَرٌ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٨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نَادَوْا صَاحِبَهُمْ فَتَعَاطَى فَعَقَ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٢٩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٠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صَيْحَةً وَاحِدَةً فَكَانُوا كَهَشِيمِ الْمُحْتَظِ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١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٢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وْمُ لُوطٍ بِالنّ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٣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حَاصِبًا إِلا آلَ لُوطٍ نَجَّيْنَاهُمْ بِسَحَ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٤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نِعْمَةً مِنْ عِنْدِنَا كَذَلِكَ نَجْزِي مَنْ شَكَ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٥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أَنْذَرَهُمْ بَطْشَتَنَا فَتَمَارَوْا بِالنّ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٦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رَاوَدُوهُ عَنْ ضَيْفِهِ فَطَمَسْنَا أَعْيُنَهُمْ فَذُوقُوا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٧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صَبَّحَهُمْ بُكْرَةً عَذَابٌ مُسْتَقِرٌّ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٨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فَذُوقُوا عَذَابِي وَنُذ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٣٩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٠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جَاءَ آلَ فِرْعَوْنَ النُّذُرُ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١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كَذَّبُوا بِآيَاتِنَا كُلِّهَا فَأَخَذْنَاهُمْ أَخْذَ عَزِيزٍ مُقْتَدِرٍ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٢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r" rtl="1">
              <a:lnSpc>
                <a:spcPct val="15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أَكُفَّارُكُمْ خَيْرٌ مِنْ أُولَئِكُمْ أَمْ لَكُمْ بَرَاءَةٌ فِي الزُّبُرِ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٣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أَمْ يَقُولُونَ نَحْنُ جَمِيعٌ مُنْتَصِرٌ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٤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سَيُهْزَمُ الْجَمْعُ وَيُوَلُّونَ الدُّبُرَ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٥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بَلِ السَّاعَةُ مَوْعِدُهُمْ وَالسَّاعَةُ أَدْهَى وَأَمَرُّ (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cs typeface="me_quran"/>
              </a:rPr>
              <a:t>٤٦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3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7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0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15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جْرِمِينَ فِي ضَلالٍ وَسُعُرٍ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٤٧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يَوْمَ يُسْحَبُونَ فِي النَّارِ عَلَى وُجُوهِهِمْ ذُوقُوا مَسَّ سَقَرَ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٤٨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كُلَّ شَيْءٍ خَلَقْنَاهُ بِقَدَرٍ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٤٩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وَمَا أَمْرُنَا إِلا وَاحِدَةٌ كَلَمْحٍ بِالْبَصَرِ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٠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 وَلَقَدْ أَهْلَكْنَا أَشْيَاعَكُمْ فَهَلْ مِنْ مُدَّكِرٍ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١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5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وَكُلُّ شَيْءٍ فَعَلُوهُ فِي الزُّبُرِ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٢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وَكُلُّ صَغِيرٍ وَكَبِيرٍ مُسْتَطَرٌ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٣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تَّقِينَ فِي جَنَّاتٍ وَنَهَرٍ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٤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فِي مَقْعَدِ صِدْقٍ عِنْدَ مَلِيكٍ مُقْتَدِرٍ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٥٥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  <a:cs typeface="B Jadid"/>
              </a:rPr>
              <a:t>نمودار سیاقه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476280" y="1706400"/>
            <a:ext cx="813132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او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cc0000"/>
                </a:solidFill>
                <a:latin typeface="Verdana"/>
                <a:cs typeface="Mj_Box Negative"/>
              </a:rPr>
              <a:t>تدبر در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Verdana"/>
                <a:cs typeface="Mj_Moshfegh"/>
              </a:rPr>
              <a:t>سوره مبارکه قمر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فضای سخ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r" rtl="1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  <a:cs typeface="B Compset"/>
              </a:rPr>
              <a:t>پیامبر خدا صلی الله علیه و آله و سلم، از حتمیت قیامت سخن می گوید و دعوت خویش را بر آن استوار می سازد. او پیوسته بر حقانیت ادعای خویش، آیه و نشانه می آور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r" rtl="1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  <a:cs typeface="B Compset"/>
              </a:rPr>
              <a:t>از قبول ادعای او سر باز زده و  نشانه های صدق او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  <a:ea typeface="ALAEM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  <a:cs typeface="B Compset"/>
              </a:rPr>
              <a:t>را، سحر می خوانند. دعوتش را دروغ شمرده و از هواهای نفسانی خویش، تبعیت می کن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 rtl="1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بِسْمِ اللَّهِ الرَّحْمَنِ الرَّحِيمِ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 rtl="1">
              <a:lnSpc>
                <a:spcPct val="13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اقْتَرَبَتِ السَّاعَةُ وَانْشَقَّ الْقَمَرُ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١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وَإِنْ يَرَوْا آيَةً يُعْرِضُوا وَيَقُولُوا سِحْرٌ مُسْتَمِرٌّ (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me_quran"/>
              </a:rPr>
              <a:t>٢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وَكَذَّبُوا وَاتَّبَعُوا أَهْوَاءَهُمْ وَكُلُّ أَمْرٍ مُسْتَقِرٌّ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٣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جَاءَهُمْ مِنَ الأنْبَاءِ مَا فِيهِ مُزْدَجَرٌ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٤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حِكْمَةٌ بَالِغَةٌ فَمَا تُغْنِ النُّذُرُ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٥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rtl="1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فَتَوَلَّ عَنْهُمْ 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يَوْمَ يَدْعُو الدَّاعِ إِلَى شَيْءٍ نُكُرٍ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٦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خُشَّعًا أَبْصَارُهُمْ 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يَخْرُجُونَ مِنَ الأجْدَاثِ كَأَنَّهُمْ جَرَادٌ مُنْتَشِرٌ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٧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مُهْطِعِينَ إِلَى الدَّاعِ</a:t>
            </a:r>
            <a:r>
              <a:rPr b="0" lang="fa-IR" sz="24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 يَقُولُ الْكَافِرُونَ هَذَا يَوْمٌ عَسِرٌ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cs typeface="me_quran"/>
              </a:rPr>
              <a:t>٨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جهت هدایت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47400" indent="-347400" algn="r" rtl="1">
              <a:lnSpc>
                <a:spcPct val="150000"/>
              </a:lnSpc>
              <a:spcBef>
                <a:spcPts val="18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300" spc="-1" strike="noStrike">
                <a:solidFill>
                  <a:srgbClr val="000000"/>
                </a:solidFill>
                <a:latin typeface="Verdana"/>
                <a:cs typeface="IranNastaliq"/>
              </a:rPr>
              <a:t>هشدار، انذار و اتمام حجّت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  <a:p>
            <a:pPr marL="347400" indent="-34740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  <a:cs typeface="B Compset"/>
              </a:rPr>
              <a:t>خطاب به کسانی که اخبار حکیمانه، مؤثر، باز دارنده و انذار دهنده رسول خدا صلی الله علیه و آله و سلم، مبنی بر حتمیت برپایی قیامت را تکذیب کرده و به جای پیروی از آن حضرت، از هواهای نفسانی خویش تبعیت می کنن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دو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فضای سخ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  <a:cs typeface="B Compset"/>
              </a:rPr>
              <a:t>تکذیب پیامبر خدا صلی الله علیه و آله و سلم و ایراد تهمت جنون به ایشان؛ تا جایی که در آستانه طلب یاری از خداس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  <a:cs typeface="B Compset"/>
              </a:rPr>
              <a:t>دروغ خواندن انذارهای رسول خدا صلی الله علیه و آله و سلم و استکبار ورزیدن از تبعیت آن حضرت و ایذاء ایشان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  <a:cs typeface="B Compset"/>
              </a:rPr>
              <a:t>هواپرستی و گرایشهای انحرافی جنسی؛ که موجب به بازی گرفتن انذارهای رسول خدا صلی الله علیه و آله و سلم شده اس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  <a:cs typeface="B Compset"/>
              </a:rPr>
              <a:t>تکذیب آیات و نشانه های صدق ادعای رسول خدا صلی الله علیه و آله و سلم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  <a:cs typeface="B Compset"/>
              </a:rPr>
              <a:t>دل خوش بودن به جماعت انبوه کافران و تنها بودن رسول خدا صلی الله علیه و آله و سلم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بْلَهُمْ قَوْمُ نُوحٍ 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فَكَذَّبُوا عَبْدَنَا وَقَالُوا مَجْنُونٌ وَازْدُجِرَ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٩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فَدَعَا رَبَّهُ أَنِّي مَغْلُوبٌ فَانْتَصِرْ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٠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فَفَتَحْنَا أَبْوَابَ السَّمَاءِ بِمَاءٍ مُنْهَمِرٍ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١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وَفَجَّرْنَا الأرْضَ عُيُونًا فَالْتَقَى الْمَاءُ عَلَى أَمْرٍ قَدْ قُدِرَ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٢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وَحَمَلْنَاهُ عَلَى ذَاتِ أَلْوَاحٍ وَدُسُرٍ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٣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تَجْرِي بِأَعْيُنِنَا جَزَاءً لِمَنْ كَانَ كُفِرَ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٤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تَرَكْنَاهَا آيَةً فَهَلْ مِنْ مُدَّكِرٍ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٥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فَكَيْفَ كَانَ عَذَابِي وَنُذُرِ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٦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 rtl="1">
              <a:lnSpc>
                <a:spcPct val="15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يَسَّرْنَا الْقُرْآنَ لِلذِّكْرِ فَهَلْ مِنْ مُدَّكِرٍ (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cs typeface="me_quran"/>
              </a:rPr>
              <a:t>١٧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عَادٌ فَكَيْفَ كَانَ عَذَابِي وَن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٨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أَرْسَلْنَا عَلَيْهِمْ رِيحًا صَرْصَرًا فِي يَوْمِ نَحْسٍ مُسْتَمِرّ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تَنْزِعُ النَّاسَ كَأَنَّهُمْ أَعْجَازُ نَخْلٍ مُنْقَع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٢٠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فَكَيْفَ كَانَ عَذَابِي وَن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٢١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ct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يَسَّرْنَا الْقُرْآنَ لِلذِّكْرِ فَهَلْ مِنْ مُدَّك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٢٢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r" rtl="1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ثَمُودُ بِالنُّذُرِ (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me_quran"/>
              </a:rPr>
              <a:t>٢٣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me_quran"/>
              </a:rPr>
              <a:t>)فَقَالُوا أَبَشَرًا مِنَّا وَاحِدًا نَتَّبِعُهُ إِنَّا إِذًا لَفِي ضَلالٍ وَسُعُرٍ (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me_quran"/>
              </a:rPr>
              <a:t>٢٤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me_quran"/>
              </a:rPr>
              <a:t>)أَؤُلْقِيَ الذِّكْرُ عَلَيْهِ مِنْ بَيْنِنَا بَلْ هُوَ كَذَّابٌ أَشِرٌ (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me_quran"/>
              </a:rPr>
              <a:t>٢٥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me_quran"/>
              </a:rPr>
              <a:t>)سَيَعْلَمُونَ غَدًا مَنِ الْكَذَّابُ الأشِرُ (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me_quran"/>
              </a:rPr>
              <a:t>٢٦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rtl="1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مُرْسِلُو النَّاقَةِ فِتْنَةً لَهُمْ فَارْتَقِبْهُمْ وَاصْطَبِرْ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٢٧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وَنَبِّئْهُمْ أَنَّ الْمَاءَ قِسْمَةٌ بَيْنَهُمْ كُلُّ شِرْبٍ مُحْتَضَرٌ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٢٨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فَنَادَوْا صَاحِبَهُمْ فَتَعَاطَى فَعَقَرَ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٢٩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r" rtl="1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فَكَيْفَ كَانَ عَذَابِي وَنُذُرِ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٣٠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ctr" rtl="1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أَرْسَلْنَا عَلَيْهِمْ صَيْحَةً وَاحِدَةً فَكَانُوا كَهَشِيمِ الْمُحْتَظِرِ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٣١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ctr" rtl="1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يَسَّرْنَا الْقُرْآنَ لِلذِّكْرِ فَهَلْ مِنْ مُدَّكِرٍ (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cs typeface="me_quran"/>
              </a:rPr>
              <a:t>٣٢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15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وْمُ لُوطٍ بِالنُّذُرِ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٣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rtl="1">
              <a:lnSpc>
                <a:spcPct val="15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أَرْسَلْنَا عَلَيْهِمْ حَاصِبًا إِلا آلَ لُوطٍ نَجَّيْنَاهُمْ بِسَحَرٍ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٤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نِعْمَةً مِنْ عِنْدِنَا كَذَلِكَ نَجْزِي مَنْ شَكَرَ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٥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أَنْذَرَهُمْ بَطْشَتَنَا فَتَمَارَوْا بِالنُّذُرِ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٦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رَاوَدُوهُ عَنْ ضَيْفِهِ فَطَمَسْنَا أَعْيُنَهُمْ فَذُوقُوا عَذَابِي وَنُذُرِ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٧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صَبَّحَهُمْ بُكْرَةً عَذَابٌ مُسْتَقِرٌّ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٨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فَذُوقُوا عَذَابِي وَنُذُرِ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٣٩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 rtl="1">
              <a:lnSpc>
                <a:spcPct val="15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يَسَّرْنَا الْقُرْآنَ لِلذِّكْرِ فَهَلْ مِنْ مُدَّكِرٍ (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cs typeface="me_quran"/>
              </a:rPr>
              <a:t>٤٠</a:t>
            </a:r>
            <a:r>
              <a:rPr b="0" lang="ar-SA" sz="23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r" rtl="1">
              <a:lnSpc>
                <a:spcPct val="140000"/>
              </a:lnSpc>
              <a:spcBef>
                <a:spcPts val="12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جَاءَ آلَ فِرْعَوْنَ النُّذُرُ (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٤١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ea typeface="me_quran"/>
              </a:rPr>
              <a:t>)كَذَّبُوا بِآيَاتِنَا كُلِّهَا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rtl="1">
              <a:lnSpc>
                <a:spcPct val="140000"/>
              </a:lnSpc>
              <a:spcBef>
                <a:spcPts val="12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فَأَخَذْنَاهُمْ أَخْذَ عَزِيزٍ مُقْتَدِرٍ (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٤٢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تشخیص مطالب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أَكُفَّارُكُمْ خَيْرٌ مِنْ أُولَئِكُمْ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 أَمْ لَكُمْ بَرَاءَةٌ فِي الزُّب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٤٣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أَمْ يَقُولُونَ نَحْنُ جَمِيعٌ مُنْتَصِرٌ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٤٤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سَيُهْزَمُ الْجَمْعُ وَيُوَلُّونَ الدُّبُرَ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٤٥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بَلِ السَّاعَةُ مَوْعِدُهُمْ وَالسَّاعَةُ أَدْهَى وَأَمَرُّ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٤٦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جهت هدایت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38040" indent="-338040" algn="r" rtl="1">
              <a:lnSpc>
                <a:spcPct val="14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Verdana"/>
                <a:cs typeface="IranNastaliq"/>
              </a:rPr>
              <a:t>دعوت کافران مکذب رسول منذر صلی الله علیه و آله و سلم به تذکرپذیری از قرآن کری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8040" indent="-33804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عاقبت دردبا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31392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دروغگو خواندن پیامبران الهی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ALAE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31392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دروغ خواندن انذارهای پیامبران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ALAEM"/>
              </a:rPr>
              <a:t>: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B Compset"/>
              </a:rPr>
              <a:t> و استکبار ورزیدن از تبعیت آنان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ALAE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31392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دروغ خواندن و به بازی گرفتن انذارهای پیامبران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ALAEM"/>
              </a:rPr>
              <a:t>: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B Compset"/>
              </a:rPr>
              <a:t> و هواپرست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31392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دروغ خواندن آیات و نشانه های صدق انبیا</a:t>
            </a:r>
            <a:r>
              <a:rPr b="1" lang="fa-IR" sz="2000" spc="-1" strike="noStrike">
                <a:solidFill>
                  <a:srgbClr val="000000"/>
                </a:solidFill>
                <a:latin typeface="Verdana"/>
                <a:ea typeface="ALAE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9600" indent="-284400" algn="r" rtl="1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Verdana"/>
                <a:cs typeface="B Compset"/>
              </a:rPr>
              <a:t>در طول تاریخ بشری را بخوانید و بفهمید و متذکر شوید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یاق سو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فضای سخ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Verdana"/>
                <a:cs typeface="B Compset"/>
              </a:rPr>
              <a:t>مکذبان رسول منذر صلی الله علیه و آله و سلم، فرمانروایی مقتدرانه خدا را باور نکرده و راه جرم را در پیش گرفته اند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 algn="r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جْرِمِينَ فِي ضَلالٍ وَسُعُ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٤٧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ctr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يَوْمَ يُسْحَبُونَ فِي النَّارِ عَلَى وُجُوهِهِم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ذُوقُوا مَسَّ سَقَرَ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٤٨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r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إِنَّا كُلَّ شَيْءٍ خَلَقْنَاهُ بِقَدَ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٤٩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ctr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مَا أَمْرُنَا إِلا وَاحِدَةٌ كَلَمْحٍ بِالْبَصَرِ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٠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أَهْلَكْنَا أَشْيَاعَكُمْ فَهَلْ مِنْ مُدَّكِ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١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r" rtl="1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كُلُّ شَيْءٍ فَعَلُوهُ فِي الزُّبُرِ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٢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وَكُلُّ صَغِيرٍ وَكَبِيرٍ مُسْتَطَ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٣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اختا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 algn="r" rtl="1">
              <a:lnSpc>
                <a:spcPct val="15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000000"/>
                </a:solidFill>
                <a:latin typeface="Verdana"/>
                <a:cs typeface="me_quran"/>
              </a:rPr>
              <a:t>إِنَّ الْمُتَّقِينَ فِي جَنَّاتٍ وَنَهَرٍ (</a:t>
            </a:r>
            <a:r>
              <a:rPr b="0" lang="ar-SA" sz="5600" spc="-1" strike="noStrike">
                <a:solidFill>
                  <a:srgbClr val="000000"/>
                </a:solidFill>
                <a:latin typeface="Verdana"/>
                <a:cs typeface="me_quran"/>
              </a:rPr>
              <a:t>٥٤</a:t>
            </a:r>
            <a:r>
              <a:rPr b="0" lang="ar-SA" sz="5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 algn="ctr" rtl="1">
              <a:lnSpc>
                <a:spcPct val="15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000000"/>
                </a:solidFill>
                <a:latin typeface="Verdana"/>
                <a:cs typeface="me_quran"/>
              </a:rPr>
              <a:t>فِي مَقْعَدِ صِدْقٍ عِنْدَ مَلِيكٍ مُقْتَدِرٍ (</a:t>
            </a:r>
            <a:r>
              <a:rPr b="0" lang="ar-SA" sz="5600" spc="-1" strike="noStrike">
                <a:solidFill>
                  <a:srgbClr val="000000"/>
                </a:solidFill>
                <a:latin typeface="Verdana"/>
                <a:cs typeface="me_quran"/>
              </a:rPr>
              <a:t>٥٥</a:t>
            </a:r>
            <a:r>
              <a:rPr b="0" lang="ar-SA" sz="5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جهت هدایت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 algn="r" rtl="1">
              <a:lnSpc>
                <a:spcPct val="15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نذارشدید مجرمان مکذب رسول منذر صلی الله علیه و آله و سلم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 algn="r" rtl="1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LAEM"/>
                <a:cs typeface="ALAEM"/>
              </a:rPr>
              <a:t>همراه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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cs typeface="ALAEM"/>
              </a:rPr>
              <a:t>با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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cs typeface="ALAEM"/>
              </a:rPr>
              <a:t>تبشیر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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cs typeface="ALAEM"/>
              </a:rPr>
              <a:t>متقیا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سور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فضای سخ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  <a:cs typeface="B Compset"/>
              </a:rPr>
              <a:t>پیامبر خدا صلی الله علیه و آله و سلم، از حتمیت قیامت سخن می گوید و دعوت خویش را بر آن استوار می سازد. او پیوسته بر حقانیت ادعای خویش، آیه و نشانه می آورد. از قبول ادعای او سر باز زده و آیه ها و نشانه های صدق او را، سحر و دروغ می خوانند. خودش را مجنون و دروغگو و انذارهایش را دروغ شمرده و با استکبار ورزیدن از تبعیت آن حضرت، از هواهای نفسانی خویش تبعیت می کنند. به جماعت انبوه خویش، دل خوشند و فرمانروایی مقتدرانه خدا را باور نکرده و راه جرم را در پیش گرفته ان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جهت هدایت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19320" indent="-319320" algn="r" rtl="1">
              <a:lnSpc>
                <a:spcPct val="15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Verdana"/>
                <a:cs typeface="IranNastaliq"/>
              </a:rPr>
              <a:t>هشدار، اتمام حجّت، دعوت به تذکرپذیری از قرآن کریم و انذار از عاقبت دردبار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19320" indent="-31932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Verdana"/>
                <a:cs typeface="B Compset"/>
              </a:rPr>
              <a:t>خطاب به کسانی که از قبول ادعای رسول خدا صلی الله علیه و آله و سلم (حتمیت قیامت) سر باز زده و آیه ها و نشانه های صدق او را، سحر و دروغ می خوانند و با استکبار ورزیدن از تبعیت آن حضرت، از هواهای نفسانی خویش تبعیت می کنند. به جماعت انبوه خویش، دل خوشند و فرمانروایی مقتدرانه خدا را باور نکرده و راه جرم را در پیش گرفته ان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ct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بِسْمِ اللَّهِ الرَّحْمَنِ الرَّحِيم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r" rtl="1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اقْتَرَبَتِ السَّاعَةُ وَانْشَقَّ الْقَمَرُ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١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إِنْ يَرَوْا آيَةً يُعْرِضُوا وَيَقُولُوا سِحْرٌ مُسْتَمِرّ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كَذَّبُوا وَاتَّبَعُوا أَهْوَاءَهُمْ وَكُلُّ أَمْرٍ مُسْتَقِرّ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٣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جَاءَهُمْ مِنَ الأنْبَاءِ مَا فِيهِ مُزْدَجَ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٤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حِكْمَةٌ بَالِغَةٌ فَمَا تُغْنِ النُّذُرُ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٥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  <a:ea typeface="me_qur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فَتَوَلَّ عَنْهُمْ يَوْمَ يَدْعُو الدَّاعِ إِلَى شَيْءٍ نُكُ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٦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خُشَّعًا أَبْصَارُهُمْ يَخْرُجُونَ مِنَ الأجْدَاثِ كَأَنَّهُمْ جَرَادٌ مُنْتَشِ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٧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مُهْطِعِينَ إِلَى الدَّاعِ يَقُولُ الْكَافِرُونَ هَذَا يَوْمٌ عَسِ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٨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2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9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r" rtl="1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بْلَهُمْ قَوْمُ نُوحٍ فَكَذَّبُوا عَبْدَنَا وَقَالُوا مَجْنُونٌ وَازْدُجِرَ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فَدَعَا رَبَّهُ أَنِّي مَغْلُوبٌ فَانْتَصِرْ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٠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فَفَتَحْنَا أَبْوَابَ السَّمَاءِ بِمَاءٍ مُنْهَم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١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فَجَّرْنَا الأرْضَ عُيُونًا فَالْتَقَى الْمَاءُ عَلَى أَمْرٍ قَدْ قُدِرَ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٢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حَمَلْنَاهُ عَلَى ذَاتِ أَلْوَاحٍ وَدُسُ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٣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تَجْرِي بِأَعْيُنِنَا جَزَاءً لِمَنْ كَانَ كُفِرَ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٤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تَرَكْنَاهَا آيَةً فَهَلْ مِنْ مُدَّك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٥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٦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١٧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3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18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r" rtl="1">
              <a:lnSpc>
                <a:spcPct val="140000"/>
              </a:lnSpc>
              <a:spcBef>
                <a:spcPts val="9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عَادٌ فَكَيْفَ كَانَ عَذَابِي وَنُذُرِ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١٨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رِيحًا صَرْصَرًا فِي يَوْمِ نَحْسٍ مُسْتَمِرٍّ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١٩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تَنْزِعُ النَّاسَ كَأَنَّهُمْ أَعْجَازُ نَخْلٍ مُنْقَعِرٍ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٢٠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٢١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cs typeface="me_quran"/>
              </a:rPr>
              <a:t>٢٢</a:t>
            </a:r>
            <a:r>
              <a:rPr b="0" lang="ar-SA" sz="37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23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r" rtl="1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ثَمُودُ بِالنُّذُرِ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٣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فَقَالُوا أَبَشَرًا مِنَّا وَاحِدًا نَتَّبِعُهُ إِنَّا إِذًا لَفِي ضَلالٍ وَسُعُ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٤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أَؤُلْقِيَ الذِّكْرُ عَلَيْهِ مِنْ بَيْنِنَا بَلْ هُوَ كَذَّابٌ أَشِ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٥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سَيَعْلَمُونَ غَدًا مَنِ الْكَذَّابُ الأشِرُ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٦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مُرْسِلُو النَّاقَةِ فِتْنَةً لَهُمْ فَارْتَقِبْهُمْ وَاصْطَبِرْ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٧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وَنَبِّئْهُمْ أَنَّ الْمَاءَ قِسْمَةٌ بَيْنَهُمْ كُلُّ شِرْبٍ مُحْتَضَرٌ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٨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فَنَادَوْا صَاحِبَهُمْ فَتَعَاطَى فَعَقَرَ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٢٩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فَكَيْفَ كَانَ عَذَابِي وَنُذُرِ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٣٠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صَيْحَةً وَاحِدَةً فَكَانُوا كَهَشِيمِ الْمُحْتَظِرِ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٣١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cs typeface="me_quran"/>
              </a:rPr>
              <a:t>٣٢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5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33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r" rtl="1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كَذَّبَتْ قَوْمُ لُوطٍ بِالنّ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٣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إِنَّا أَرْسَلْنَا عَلَيْهِمْ حَاصِبًا إِلا آلَ لُوطٍ نَجَّيْنَاهُمْ بِسَحَ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٤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نِعْمَةً مِنْ عِنْدِنَا كَذَلِكَ نَجْزِي مَنْ شَكَرَ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٥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أَنْذَرَهُمْ بَطْشَتَنَا فَتَمَارَوْا بِالنّ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٦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رَاوَدُوهُ عَنْ ضَيْفِهِ فَطَمَسْنَا أَعْيُنَهُمْ فَذُوقُوا عَذَابِي وَن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٧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صَبَّحَهُمْ بُكْرَةً عَذَابٌ مُسْتَقِرٌّ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٨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فَذُوقُوا عَذَابِي وَنُذُرِ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٣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وَلَقَدْ يَسَّرْنَا الْقُرْآنَ لِلذِّكْرِ فَهَلْ مِنْ مُدَّكِرٍ (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cs typeface="me_quran"/>
              </a:rPr>
              <a:t>٤٠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Jadid"/>
              </a:rPr>
              <a:t>مطلب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6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. آیه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ea typeface="B Jadid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r" rtl="1">
              <a:lnSpc>
                <a:spcPct val="150000"/>
              </a:lnSpc>
              <a:spcBef>
                <a:spcPts val="12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وَلَقَدْ جَاءَ آلَ فِرْعَوْنَ النُّذُرُ (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٤١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ea typeface="me_quran"/>
              </a:rPr>
              <a:t>)كَذَّبُوا بِآيَاتِنَا كُلِّهَا فَأَخَذْنَاهُمْ أَخْذَ عَزِيزٍ مُقْتَدِرٍ (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cs typeface="me_quran"/>
              </a:rPr>
              <a:t>٤٢</a:t>
            </a:r>
            <a:r>
              <a:rPr b="0" lang="ar-SA" sz="5100" spc="-1" strike="noStrike">
                <a:solidFill>
                  <a:srgbClr val="000000"/>
                </a:solidFill>
                <a:latin typeface="Verdana"/>
                <a:ea typeface="me_quran"/>
              </a:rPr>
              <a:t>)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3:51:58Z</dcterms:created>
  <dc:creator>Ali</dc:creator>
  <dc:description/>
  <dc:language>en-US</dc:language>
  <cp:lastModifiedBy>Ali</cp:lastModifiedBy>
  <dcterms:modified xsi:type="dcterms:W3CDTF">2011-07-09T13:35:55Z</dcterms:modified>
  <cp:revision>75</cp:revision>
  <dc:subject/>
  <dc:title>بسم الله الرحمن الرحیم</dc:title>
</cp:coreProperties>
</file>