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25C1-5068-4D86-A39C-CD6826F6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D33-BDCA-4689-84DD-5DA24196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C708-D314-4A2F-B75A-EA9EAF99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8DC9-F100-42B3-A409-5B6BAE9E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2D39-C7CA-4139-BA6B-F27B6B16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978E-E66F-434D-A1DD-A5A9906B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DAF1-D928-478D-8FE7-95E3E32F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F412-EFD0-4DDF-9E24-886F6222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487F-4A94-429B-93A6-D790F636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EFD6-8446-4DB0-9199-5D469E32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6080-73AC-4087-BFFE-D4DBE8E2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BC71-5155-44E7-B717-EED65A54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FBFB-89B2-496A-AD19-FC2DD480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3610-AE01-45D2-993A-96188AB5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C790-278E-4E95-9348-0CC669E7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273E-CA1C-4022-BC26-A4A09EB1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A5EF-9F06-4A67-BA68-82EA23D4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4D0DD-2768-4B25-A720-BD098DDC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6094F-0C25-4C3C-89F2-A6F000EB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F73D6-9B43-4CB5-9492-3C58D7CE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65C45-B21F-46F5-9A30-7AB0AC16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0AD30-21A7-417F-978F-5E867FA6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810-1BC2-4D6E-ABF4-D83FFDE8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33329-96AF-4141-A11F-D9315B88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A0489-A0F2-4AD8-8450-C699E5F3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7DE35-C640-465C-96C3-C5F4C84A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D5A12-E8C2-42B9-B8DF-5C73E001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6639A-893B-4BF7-AE15-2497C909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CB6B4-E8AF-47A2-B461-D85DA7D3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9F602-6942-4275-B9CE-CD8A2E7E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2DD2B-259C-4FDC-B4DA-D20C1BFE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75792-EC69-44C2-807A-9C1361BC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2789E-6166-4D67-BDB1-2FBA19DE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894-BF8D-4DBE-91BA-F6300829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8DA3F-0BD4-4250-AD9D-9E27AA71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F226A-0E1E-4866-8B54-03E59AC0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ACA85-28F1-43AE-A4D2-D46F2156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376E3-7BB0-4440-A0C9-0C9C8C58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A2364-2EA4-4660-8365-808710E3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A68FB-127B-4EA4-9B19-1BCB6227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56571-E52A-4124-96A9-515A1F4C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E356C-FF35-41B7-8DCF-8358940F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CF0C8-3647-4B20-B831-CF9FAB1B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184A-12A6-49B9-BD00-4BB767DE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6271-01CE-44A4-8CAA-7F72BB93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3B86-E3CD-43BB-B28B-E0DE87F0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29E-0111-4FC9-B21C-F49D47FD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58C2-C34B-4854-A421-3B2F8518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فرم آزاد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فرم آزاد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2DA8-79E6-4652-A5E8-1D08CB308FF6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گروه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فرم آزاد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فرم آزاد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فرم آزاد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فرم آزاد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فرم آزاد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فرم آزاد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گروه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فرم آزاد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فرم آزاد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فرم آزاد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فرم آزاد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E533-C7B2-439F-81D7-145A5BB5F3BD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فرم آزاد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فرم آزاد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گروه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فرم آزاد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فرم آزاد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فرم آزاد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فرم آزاد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726F-7AFD-4D68-B506-2D8E59508474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فرم آزاد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فرم آزاد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CB15-A242-4454-9211-5A326067A6D7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620200" cy="1920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00"/>
                </a:solidFill>
                <a:latin typeface="Constantia"/>
                <a:cs typeface="Mj_Moshfegh"/>
              </a:rPr>
              <a:t>تدبر در سوره مبارکه رحمن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مطلب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8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. آیه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29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 تا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3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lnSpc>
                <a:spcPct val="15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e_quran"/>
              </a:rPr>
              <a:t>يَسْأَلُهُ مَنْ فِي السَّمَاوَاتِ وَالأرْضِ كُلَّ يَوْمٍ هُوَ فِي شَأْنٍ (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e_quran"/>
              </a:rPr>
              <a:t>٢٩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4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4400" spc="-1" strike="noStrike">
                <a:solidFill>
                  <a:srgbClr val="990000"/>
                </a:solidFill>
                <a:latin typeface="Constantia"/>
                <a:cs typeface="me_quran"/>
              </a:rPr>
              <a:t>٣٠</a:t>
            </a:r>
            <a:r>
              <a:rPr b="0" lang="ar-SA" sz="4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e_quran"/>
              </a:rPr>
              <a:t>سَنَفْرُغُ لَكُمْ أَيُّهَا الثَّقَلانِ (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e_quran"/>
              </a:rPr>
              <a:t>٣١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4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4400" spc="-1" strike="noStrike">
                <a:solidFill>
                  <a:srgbClr val="990000"/>
                </a:solidFill>
                <a:latin typeface="Constantia"/>
                <a:cs typeface="me_quran"/>
              </a:rPr>
              <a:t>٣٢</a:t>
            </a:r>
            <a:r>
              <a:rPr b="0" lang="ar-SA" sz="4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مطلب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9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. آیه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33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 تا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36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r" rtl="1">
              <a:lnSpc>
                <a:spcPct val="15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يَا مَعْشَرَ الْجِنِّ وَالإنْسِ إِنِ اسْتَطَعْتُمْ أَنْ تَنْفُذُوا مِنْ أَقْطَارِ السَّمَاوَاتِ</a:t>
            </a:r>
            <a:r>
              <a:rPr b="0" lang="fa-IR" sz="3700" spc="-1" strike="noStrike">
                <a:solidFill>
                  <a:srgbClr val="000000"/>
                </a:solidFill>
                <a:latin typeface="Constantia"/>
                <a:ea typeface="me_quran"/>
              </a:rPr>
              <a:t> 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وَالأرْضِ فَانْفُذُوا لا تَنْفُذُونَ إِلا بِسُلْطَانٍ (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٣٣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37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3700" spc="-1" strike="noStrike">
                <a:solidFill>
                  <a:srgbClr val="990000"/>
                </a:solidFill>
                <a:latin typeface="Constantia"/>
                <a:cs typeface="me_quran"/>
              </a:rPr>
              <a:t>٣٤</a:t>
            </a:r>
            <a:r>
              <a:rPr b="0" lang="ar-SA" sz="37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يُرْسَلُ عَلَيْكُمَا شُوَاظٌ مِنْ نَارٍ وَنُحَاسٌ فَلا تَنْتَصِرَانِ (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٣٥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37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3700" spc="-1" strike="noStrike">
                <a:solidFill>
                  <a:srgbClr val="990000"/>
                </a:solidFill>
                <a:latin typeface="Constantia"/>
                <a:cs typeface="me_quran"/>
              </a:rPr>
              <a:t>٣٦</a:t>
            </a:r>
            <a:r>
              <a:rPr b="0" lang="ar-SA" sz="37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مطلب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10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. آیه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37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 تا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4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lnSpc>
                <a:spcPct val="15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Constantia"/>
                <a:cs typeface="me_quran"/>
              </a:rPr>
              <a:t>فَإِذَا انْشَقَّتِ السَّمَاءُ فَكَانَتْ وَرْدَةً كَالدِّهَانِ (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cs typeface="me_quran"/>
              </a:rPr>
              <a:t>٣٧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31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3100" spc="-1" strike="noStrike">
                <a:solidFill>
                  <a:srgbClr val="990000"/>
                </a:solidFill>
                <a:latin typeface="Constantia"/>
                <a:cs typeface="me_quran"/>
              </a:rPr>
              <a:t>٣٨</a:t>
            </a:r>
            <a:r>
              <a:rPr b="0" lang="ar-SA" sz="31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cs typeface="me_quran"/>
              </a:rPr>
              <a:t>فَيَوْمَئِذٍ لا يُسْأَلُ عَنْ ذَنْبِهِ إِنْسٌ وَلا جَانٌّ (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cs typeface="me_quran"/>
              </a:rPr>
              <a:t>٣٩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31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3100" spc="-1" strike="noStrike">
                <a:solidFill>
                  <a:srgbClr val="990000"/>
                </a:solidFill>
                <a:latin typeface="Constantia"/>
                <a:cs typeface="me_quran"/>
              </a:rPr>
              <a:t>٤٠</a:t>
            </a:r>
            <a:r>
              <a:rPr b="0" lang="ar-SA" sz="31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cs typeface="me_quran"/>
              </a:rPr>
              <a:t>يُعْرَفُ الْمُجْرِمُونَ بِسِيمَاهُمْ فَيُؤْخَذُ بِالنَّوَاصِي وَالأقْدَامِ (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cs typeface="me_quran"/>
              </a:rPr>
              <a:t>٤١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31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3100" spc="-1" strike="noStrike">
                <a:solidFill>
                  <a:srgbClr val="990000"/>
                </a:solidFill>
                <a:latin typeface="Constantia"/>
                <a:cs typeface="me_quran"/>
              </a:rPr>
              <a:t>٤٢</a:t>
            </a:r>
            <a:r>
              <a:rPr b="0" lang="ar-SA" sz="31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cs typeface="me_quran"/>
              </a:rPr>
              <a:t>هَذِهِ جَهَنَّمُ الَّتِي يُكَذِّبُ بِهَا الْمُجْرِمُونَ (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cs typeface="me_quran"/>
              </a:rPr>
              <a:t>٤٣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ea typeface="me_quran"/>
              </a:rPr>
              <a:t>)يَطُوفُونَ بَيْنَهَا وَبَيْنَ حَمِيمٍ آنٍ (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cs typeface="me_quran"/>
              </a:rPr>
              <a:t>٤٤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31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3100" spc="-1" strike="noStrike">
                <a:solidFill>
                  <a:srgbClr val="990000"/>
                </a:solidFill>
                <a:latin typeface="Constantia"/>
                <a:cs typeface="me_quran"/>
              </a:rPr>
              <a:t>٤٥</a:t>
            </a:r>
            <a:r>
              <a:rPr b="0" lang="ar-SA" sz="31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مطلب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11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. آیه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46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 تا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6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وَلِمَنْ خَافَ مَقَامَ رَبِّهِ جَنَّتَانِ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٤٦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٤٧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ذَوَاتَا أَفْنَانٍ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٤٨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٤٩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فِيهِمَا عَيْنَانِ تَجْرِيَانِ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٥٠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٥١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فِيهِمَا مِنْ كُلِّ فَاكِهَةٍ زَوْجَانِ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٥٢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٥٣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مُتَّكِئِينَ عَلَى فُرُشٍ بَطَائِنُهَا مِنْ إِسْتَبْرَقٍ وَجَنَى الْجَنَّتَيْنِ دَانٍ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٥٤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٥٥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فِيهِنَّ قَاصِرَاتُ الطَّرْفِ لَمْ يَطْمِثْهُنَّ إِنْسٌ قَبْلَهُمْ وَلا جَانٌّ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٥٦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٥٧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كَأَنَّهُنَّ الْيَاقُوتُ وَالْمَرْجَانُ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٥٨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٥٩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هَلْ جَزَاءُ الإحْسَانِ إِلا الإحْسَانُ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٦٠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٦١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مطلب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12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. آیه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62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 تا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7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وَمِنْ دُونِهِمَا جَنَّتَانِ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٦٢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٦٣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مُدْهَامَّتَانِ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٦٤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٦٥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فِيهِمَا عَيْنَانِ نَضَّاخَتَانِ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٦٦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٦٧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فِيهِمَا فَاكِهَةٌ وَنَخْلٌ وَرُمَّانٌ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٦٨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٦٩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فِيهِنَّ خَيْرَاتٌ حِسَانٌ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٧٠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٧١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حُورٌ مَقْصُورَاتٌ فِي الْخِيَامِ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٧٢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٧٣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لَمْ يَطْمِثْهُنَّ إِنْسٌ قَبْلَهُمْ وَلا جَانٌّ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٧٤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٧٥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مُتَّكِئِينَ عَلَى رَفْرَفٍ خُضْرٍ وَعَبْقَرِيٍّ حِسَانٍ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٧٦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٧٧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تَبَارَكَ اسْمُ رَبِّكَ ذِي الْجَلالِ وَالإكْرَامِ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٧٨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نمودار مطالب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نگهدارنده مکان محتوا 3" descr=""/>
          <p:cNvPicPr/>
          <p:nvPr/>
        </p:nvPicPr>
        <p:blipFill>
          <a:blip r:embed="rId1"/>
          <a:stretch/>
        </p:blipFill>
        <p:spPr>
          <a:xfrm>
            <a:off x="274680" y="1798560"/>
            <a:ext cx="855828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سیاق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1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. آیه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1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 تا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1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onstantia"/>
                <a:cs typeface="me_quran"/>
              </a:rPr>
              <a:t>بِسْمِ اللَّهِ الرَّحْمَنِ الرَّحِيم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onstantia"/>
                <a:cs typeface="me_quran"/>
              </a:rPr>
              <a:t>الرَّحْمَنُ (</a:t>
            </a:r>
            <a:r>
              <a:rPr b="0" lang="ar-SA" sz="2500" spc="-1" strike="noStrike">
                <a:solidFill>
                  <a:srgbClr val="000000"/>
                </a:solidFill>
                <a:latin typeface="Constantia"/>
                <a:cs typeface="me_quran"/>
              </a:rPr>
              <a:t>١</a:t>
            </a:r>
            <a:r>
              <a:rPr b="0" lang="ar-SA" sz="2500" spc="-1" strike="noStrike">
                <a:solidFill>
                  <a:srgbClr val="000000"/>
                </a:solidFill>
                <a:latin typeface="Constantia"/>
                <a:ea typeface="me_quran"/>
              </a:rPr>
              <a:t>)عَلَّمَ الْقُرْآنَ (</a:t>
            </a:r>
            <a:r>
              <a:rPr b="0" lang="ar-SA" sz="2500" spc="-1" strike="noStrike">
                <a:solidFill>
                  <a:srgbClr val="000000"/>
                </a:solidFill>
                <a:latin typeface="Constantia"/>
                <a:cs typeface="me_quran"/>
              </a:rPr>
              <a:t>٢</a:t>
            </a:r>
            <a:r>
              <a:rPr b="0" lang="ar-SA" sz="2500" spc="-1" strike="noStrike">
                <a:solidFill>
                  <a:srgbClr val="000000"/>
                </a:solidFill>
                <a:latin typeface="Constantia"/>
                <a:ea typeface="me_quran"/>
              </a:rPr>
              <a:t>)خَلَقَ الإنْسَانَ (</a:t>
            </a:r>
            <a:r>
              <a:rPr b="0" lang="ar-SA" sz="2500" spc="-1" strike="noStrike">
                <a:solidFill>
                  <a:srgbClr val="000000"/>
                </a:solidFill>
                <a:latin typeface="Constantia"/>
                <a:cs typeface="me_quran"/>
              </a:rPr>
              <a:t>٣</a:t>
            </a:r>
            <a:r>
              <a:rPr b="0" lang="ar-SA" sz="2500" spc="-1" strike="noStrike">
                <a:solidFill>
                  <a:srgbClr val="000000"/>
                </a:solidFill>
                <a:latin typeface="Constantia"/>
                <a:ea typeface="me_quran"/>
              </a:rPr>
              <a:t>)عَلَّمَهُ الْبَيَانَ (</a:t>
            </a:r>
            <a:r>
              <a:rPr b="0" lang="ar-SA" sz="2500" spc="-1" strike="noStrike">
                <a:solidFill>
                  <a:srgbClr val="000000"/>
                </a:solidFill>
                <a:latin typeface="Constantia"/>
                <a:cs typeface="me_quran"/>
              </a:rPr>
              <a:t>٤</a:t>
            </a:r>
            <a:r>
              <a:rPr b="0" lang="ar-SA" sz="25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onstantia"/>
                <a:cs typeface="me_quran"/>
              </a:rPr>
              <a:t>الشَّمْسُ وَالْقَمَرُ بِحُسْبَانٍ (</a:t>
            </a:r>
            <a:r>
              <a:rPr b="0" lang="ar-SA" sz="2500" spc="-1" strike="noStrike">
                <a:solidFill>
                  <a:srgbClr val="000000"/>
                </a:solidFill>
                <a:latin typeface="Constantia"/>
                <a:cs typeface="me_quran"/>
              </a:rPr>
              <a:t>٥</a:t>
            </a:r>
            <a:r>
              <a:rPr b="0" lang="ar-SA" sz="2500" spc="-1" strike="noStrike">
                <a:solidFill>
                  <a:srgbClr val="000000"/>
                </a:solidFill>
                <a:latin typeface="Constantia"/>
                <a:ea typeface="me_quran"/>
              </a:rPr>
              <a:t>)وَالنَّجْمُ وَالشَّجَرُ يَسْجُدَانِ (</a:t>
            </a:r>
            <a:r>
              <a:rPr b="0" lang="ar-SA" sz="2500" spc="-1" strike="noStrike">
                <a:solidFill>
                  <a:srgbClr val="000000"/>
                </a:solidFill>
                <a:latin typeface="Constantia"/>
                <a:cs typeface="me_quran"/>
              </a:rPr>
              <a:t>٦</a:t>
            </a:r>
            <a:r>
              <a:rPr b="0" lang="ar-SA" sz="25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onstantia"/>
                <a:cs typeface="me_quran"/>
              </a:rPr>
              <a:t>وَالسَّمَاءَ رَفَعَهَا وَوَضَعَ الْمِيزَانَ (</a:t>
            </a:r>
            <a:r>
              <a:rPr b="0" lang="ar-SA" sz="2500" spc="-1" strike="noStrike">
                <a:solidFill>
                  <a:srgbClr val="000000"/>
                </a:solidFill>
                <a:latin typeface="Constantia"/>
                <a:cs typeface="me_quran"/>
              </a:rPr>
              <a:t>٧</a:t>
            </a:r>
            <a:r>
              <a:rPr b="0" lang="ar-SA" sz="2500" spc="-1" strike="noStrike">
                <a:solidFill>
                  <a:srgbClr val="000000"/>
                </a:solidFill>
                <a:latin typeface="Constantia"/>
                <a:ea typeface="me_quran"/>
              </a:rPr>
              <a:t>)أَلا تَطْغَوْا فِي الْمِيزَانِ (</a:t>
            </a:r>
            <a:r>
              <a:rPr b="0" lang="ar-SA" sz="2500" spc="-1" strike="noStrike">
                <a:solidFill>
                  <a:srgbClr val="000000"/>
                </a:solidFill>
                <a:latin typeface="Constantia"/>
                <a:cs typeface="me_quran"/>
              </a:rPr>
              <a:t>٨</a:t>
            </a:r>
            <a:r>
              <a:rPr b="0" lang="ar-SA" sz="2500" spc="-1" strike="noStrike">
                <a:solidFill>
                  <a:srgbClr val="000000"/>
                </a:solidFill>
                <a:latin typeface="Constantia"/>
                <a:ea typeface="me_quran"/>
              </a:rPr>
              <a:t>)وَأَقِيمُوا الْوَزْنَ بِالْقِسْطِ وَلا تُخْسِرُوا الْمِيزَانَ (</a:t>
            </a:r>
            <a:r>
              <a:rPr b="0" lang="ar-SA" sz="2500" spc="-1" strike="noStrike">
                <a:solidFill>
                  <a:srgbClr val="000000"/>
                </a:solidFill>
                <a:latin typeface="Constantia"/>
                <a:cs typeface="me_quran"/>
              </a:rPr>
              <a:t>٩</a:t>
            </a:r>
            <a:r>
              <a:rPr b="0" lang="ar-SA" sz="2500" spc="-1" strike="noStrike">
                <a:solidFill>
                  <a:srgbClr val="000000"/>
                </a:solidFill>
                <a:latin typeface="Constantia"/>
                <a:ea typeface="me_quran"/>
              </a:rPr>
              <a:t>)وَالأرْضَ وَضَعَهَا لِلأنَامِ (</a:t>
            </a:r>
            <a:r>
              <a:rPr b="0" lang="ar-SA" sz="2500" spc="-1" strike="noStrike">
                <a:solidFill>
                  <a:srgbClr val="000000"/>
                </a:solidFill>
                <a:latin typeface="Constantia"/>
                <a:cs typeface="me_quran"/>
              </a:rPr>
              <a:t>١٠</a:t>
            </a:r>
            <a:r>
              <a:rPr b="0" lang="ar-SA" sz="2500" spc="-1" strike="noStrike">
                <a:solidFill>
                  <a:srgbClr val="000000"/>
                </a:solidFill>
                <a:latin typeface="Constantia"/>
                <a:ea typeface="me_quran"/>
              </a:rPr>
              <a:t>)فِيهَا فَاكِهَةٌ وَالنَّخْلُ ذَاتُ الأكْمَامِ (</a:t>
            </a:r>
            <a:r>
              <a:rPr b="0" lang="ar-SA" sz="2500" spc="-1" strike="noStrike">
                <a:solidFill>
                  <a:srgbClr val="000000"/>
                </a:solidFill>
                <a:latin typeface="Constantia"/>
                <a:cs typeface="me_quran"/>
              </a:rPr>
              <a:t>١١</a:t>
            </a:r>
            <a:r>
              <a:rPr b="0" lang="ar-SA" sz="2500" spc="-1" strike="noStrike">
                <a:solidFill>
                  <a:srgbClr val="000000"/>
                </a:solidFill>
                <a:latin typeface="Constantia"/>
                <a:ea typeface="me_quran"/>
              </a:rPr>
              <a:t>) وَالْحَبُّ ذُو الْعَصْفِ وَالرَّيْحَانُ (</a:t>
            </a:r>
            <a:r>
              <a:rPr b="0" lang="ar-SA" sz="2500" spc="-1" strike="noStrike">
                <a:solidFill>
                  <a:srgbClr val="000000"/>
                </a:solidFill>
                <a:latin typeface="Constantia"/>
                <a:cs typeface="me_quran"/>
              </a:rPr>
              <a:t>١٢</a:t>
            </a:r>
            <a:r>
              <a:rPr b="0" lang="ar-SA" sz="25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5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500" spc="-1" strike="noStrike">
                <a:solidFill>
                  <a:srgbClr val="990000"/>
                </a:solidFill>
                <a:latin typeface="Constantia"/>
                <a:cs typeface="me_quran"/>
              </a:rPr>
              <a:t>١٣</a:t>
            </a:r>
            <a:r>
              <a:rPr b="0" lang="ar-SA" sz="25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سیاق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2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. آیه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14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 تا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36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r" rtl="1">
              <a:lnSpc>
                <a:spcPct val="15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onstantia"/>
                <a:cs typeface="me_quran"/>
              </a:rPr>
              <a:t>خَلَقَ الإنْسَانَ مِنْ صَلْصَالٍ كَالْفَخَّارِ (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cs typeface="me_quran"/>
              </a:rPr>
              <a:t>١٤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ea typeface="me_quran"/>
              </a:rPr>
              <a:t>)وَخَلَقَ الْجَانَّ مِنْ مَارِجٍ مِنْ نَارٍ (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cs typeface="me_quran"/>
              </a:rPr>
              <a:t>١٥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cs typeface="me_quran"/>
              </a:rPr>
              <a:t>١٦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lnSpc>
                <a:spcPct val="15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onstantia"/>
                <a:cs typeface="me_quran"/>
              </a:rPr>
              <a:t>رَبُّ الْمَشْرِقَيْنِ وَرَبُّ الْمَغْرِبَيْنِ (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cs typeface="me_quran"/>
              </a:rPr>
              <a:t>١٧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ea typeface="me_quran"/>
              </a:rPr>
              <a:t>) 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cs typeface="me_quran"/>
              </a:rPr>
              <a:t>١٨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lnSpc>
                <a:spcPct val="15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onstantia"/>
                <a:cs typeface="me_quran"/>
              </a:rPr>
              <a:t>مَرَجَ الْبَحْرَيْنِ يَلْتَقِيَانِ (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cs typeface="me_quran"/>
              </a:rPr>
              <a:t>١٩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ea typeface="me_quran"/>
              </a:rPr>
              <a:t>)بَيْنَهُمَا بَرْزَخٌ لا يَبْغِيَانِ (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cs typeface="me_quran"/>
              </a:rPr>
              <a:t>٢٠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cs typeface="me_quran"/>
              </a:rPr>
              <a:t>٢١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cs typeface="me_quran"/>
              </a:rPr>
              <a:t>يَخْرُجُ مِنْهُمَا اللُّؤْلُؤُ وَالْمَرْجَانُ (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cs typeface="me_quran"/>
              </a:rPr>
              <a:t>٢٢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ea typeface="me_quran"/>
              </a:rPr>
              <a:t>) 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cs typeface="me_quran"/>
              </a:rPr>
              <a:t>٢٣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lnSpc>
                <a:spcPct val="15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onstantia"/>
                <a:cs typeface="me_quran"/>
              </a:rPr>
              <a:t>وَلَهُ الْجَوَارِ الْمُنْشَآتُ فِي الْبَحْرِ كَالأعْلامِ (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cs typeface="me_quran"/>
              </a:rPr>
              <a:t>٢٤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cs typeface="me_quran"/>
              </a:rPr>
              <a:t>٢٥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cs typeface="me_quran"/>
              </a:rPr>
              <a:t>كُلُّ مَنْ عَلَيْهَا فَانٍ (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cs typeface="me_quran"/>
              </a:rPr>
              <a:t>٢٦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ea typeface="me_quran"/>
              </a:rPr>
              <a:t>)وَيَبْقَى وَجْهُ رَبِّكَ ذُو الْجَلالِ وَالإكْرَامِ (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cs typeface="me_quran"/>
              </a:rPr>
              <a:t>٢٧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cs typeface="me_quran"/>
              </a:rPr>
              <a:t>٢٨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lnSpc>
                <a:spcPct val="15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onstantia"/>
                <a:cs typeface="me_quran"/>
              </a:rPr>
              <a:t>يَسْأَلُهُ مَنْ فِي السَّمَاوَاتِ وَالأرْضِ كُلَّ يَوْمٍ هُوَ فِي شَأْنٍ (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cs typeface="me_quran"/>
              </a:rPr>
              <a:t>٢٩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cs typeface="me_quran"/>
              </a:rPr>
              <a:t>٣٠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cs typeface="me_quran"/>
              </a:rPr>
              <a:t>سَنَفْرُغُ لَكُمْ أَيُّهَا الثَّقَلانِ (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cs typeface="me_quran"/>
              </a:rPr>
              <a:t>٣١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cs typeface="me_quran"/>
              </a:rPr>
              <a:t>٣٢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lnSpc>
                <a:spcPct val="15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onstantia"/>
                <a:cs typeface="me_quran"/>
              </a:rPr>
              <a:t>يَا مَعْشَرَ الْجِنِّ وَالإنْسِ إِنِ اسْتَطَعْتُمْ أَنْ تَنْفُذُوا مِنْ أَقْطَارِ السَّمَاوَاتِ</a:t>
            </a:r>
            <a:r>
              <a:rPr b="0" lang="fa-IR" sz="1500" spc="-1" strike="noStrike">
                <a:solidFill>
                  <a:srgbClr val="000000"/>
                </a:solidFill>
                <a:latin typeface="Constantia"/>
                <a:ea typeface="me_quran"/>
              </a:rPr>
              <a:t> 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cs typeface="me_quran"/>
              </a:rPr>
              <a:t>وَالأرْضِ فَانْفُذُوا لا تَنْفُذُونَ إِلا بِسُلْطَانٍ (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cs typeface="me_quran"/>
              </a:rPr>
              <a:t>٣٣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cs typeface="me_quran"/>
              </a:rPr>
              <a:t>٣٤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cs typeface="me_quran"/>
              </a:rPr>
              <a:t>يُرْسَلُ عَلَيْكُمَا شُوَاظٌ مِنْ نَارٍ وَنُحَاسٌ فَلا تَنْتَصِرَانِ (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cs typeface="me_quran"/>
              </a:rPr>
              <a:t>٣٥</a:t>
            </a:r>
            <a:r>
              <a:rPr b="0" lang="ar-SA" sz="15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cs typeface="me_quran"/>
              </a:rPr>
              <a:t>٣٦</a:t>
            </a:r>
            <a:r>
              <a:rPr b="0" lang="ar-SA" sz="15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سیاق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3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.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37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 تا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7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15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فَإِذَا انْشَقَّتِ السَّمَاءُ فَكَانَتْ وَرْدَةً كَالدِّهَانِ 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٣٧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٣٨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fa-IR" sz="1400" spc="-1" strike="noStrike">
                <a:solidFill>
                  <a:srgbClr val="990000"/>
                </a:solidFill>
                <a:latin typeface="Constantia"/>
                <a:ea typeface="me_quran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فَيَوْمَئِذٍ لا يُسْأَلُ عَنْ ذَنْبِهِ إِنْسٌ وَلا جَانٌّ 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٣٩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٤٠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يُعْرَفُ الْمُجْرِمُونَ بِسِيمَاهُمْ فَيُؤْخَذُ بِالنَّوَاصِي وَالأقْدَامِ 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٤١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٤٢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هَذِهِ جَهَنَّمُ الَّتِي يُكَذِّبُ بِهَا الْمُجْرِمُونَ 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٤٣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e_quran"/>
              </a:rPr>
              <a:t>)يَطُوفُونَ بَيْنَهَا وَبَيْنَ حَمِيمٍ آنٍ 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٤٤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٤٥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15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وَلِمَنْ خَافَ مَقَامَ رَبِّهِ جَنَّتَانِ 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٤٦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٤٧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ذَوَاتَا أَفْنَانٍ 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٤٨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٤٩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فِيهِمَا عَيْنَانِ تَجْرِيَانِ 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٥٠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٥١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فِيهِمَا مِنْ كُلِّ فَاكِهَةٍ زَوْجَانِ 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٥٢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٥٣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مُتَّكِئِينَ عَلَى فُرُشٍ بَطَائِنُهَا مِنْ إِسْتَبْرَقٍ وَجَنَى الْجَنَّتَيْنِ دَانٍ 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٥٤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٥٥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فِيهِنَّ قَاصِرَاتُ الطَّرْفِ لَمْ يَطْمِثْهُنَّ إِنْسٌ قَبْلَهُمْ وَلا جَانٌّ 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٥٦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٥٧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كَأَنَّهُنَّ الْيَاقُوتُ وَالْمَرْجَانُ 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٥٨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٥٩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هَلْ جَزَاءُ الإحْسَانِ إِلا الإحْسَانُ 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٦٠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٦١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15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وَمِنْ دُونِهِمَا جَنَّتَانِ 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٦٢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٦٣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مُدْهَامَّتَانِ 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٦٤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٦٥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فِيهِمَا عَيْنَانِ نَضَّاخَتَانِ 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٦٦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٦٧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فِيهِمَا فَاكِهَةٌ وَنَخْلٌ وَرُمَّانٌ 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٦٨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٦٩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فِيهِنَّ خَيْرَاتٌ حِسَانٌ 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٧٠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٧١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حُورٌ مَقْصُورَاتٌ فِي الْخِيَامِ 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٧٢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٧٣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لَمْ يَطْمِثْهُنَّ إِنْسٌ قَبْلَهُمْ وَلا جَانٌّ 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٧٤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٧٥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مُتَّكِئِينَ عَلَى رَفْرَفٍ خُضْرٍ وَعَبْقَرِيٍّ حِسَانٍ 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٧٦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cs typeface="me_quran"/>
              </a:rPr>
              <a:t>٧٧</a:t>
            </a:r>
            <a:r>
              <a:rPr b="0" lang="ar-SA" sz="1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تَبَارَكَ اسْمُ رَبِّكَ ذِي الْجَلالِ وَالإكْرَامِ 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e_quran"/>
              </a:rPr>
              <a:t>٧٨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Rectangle 2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4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فضای سخ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ساختا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ctr" rtl="1">
              <a:lnSpc>
                <a:spcPct val="14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100" spc="-1" strike="noStrike">
                <a:solidFill>
                  <a:srgbClr val="000000"/>
                </a:solidFill>
                <a:latin typeface="Constantia"/>
                <a:cs typeface="me_quran"/>
              </a:rPr>
              <a:t>بِسْمِ اللَّهِ الرَّحْمَنِ الرَّحِيم </a:t>
            </a: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lnSpc>
                <a:spcPct val="140000"/>
              </a:lnSpc>
              <a:spcBef>
                <a:spcPts val="15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100" spc="-1" strike="noStrike">
                <a:solidFill>
                  <a:srgbClr val="000000"/>
                </a:solidFill>
                <a:latin typeface="Constantia"/>
                <a:cs typeface="me_quran"/>
              </a:rPr>
              <a:t>الرَّحْمَنُ (</a:t>
            </a:r>
            <a:r>
              <a:rPr b="0" lang="ar-SA" sz="6100" spc="-1" strike="noStrike">
                <a:solidFill>
                  <a:srgbClr val="000000"/>
                </a:solidFill>
                <a:latin typeface="Constantia"/>
                <a:cs typeface="me_quran"/>
              </a:rPr>
              <a:t>١</a:t>
            </a:r>
            <a:r>
              <a:rPr b="0" lang="ar-SA" sz="6100" spc="-1" strike="noStrike">
                <a:solidFill>
                  <a:srgbClr val="000000"/>
                </a:solidFill>
                <a:latin typeface="Constantia"/>
                <a:ea typeface="me_quran"/>
              </a:rPr>
              <a:t>)عَلَّمَ الْقُرْآنَ (</a:t>
            </a:r>
            <a:r>
              <a:rPr b="0" lang="ar-SA" sz="6100" spc="-1" strike="noStrike">
                <a:solidFill>
                  <a:srgbClr val="000000"/>
                </a:solidFill>
                <a:latin typeface="Constantia"/>
                <a:cs typeface="me_quran"/>
              </a:rPr>
              <a:t>٢</a:t>
            </a:r>
            <a:r>
              <a:rPr b="0" lang="ar-SA" sz="6100" spc="-1" strike="noStrike">
                <a:solidFill>
                  <a:srgbClr val="000000"/>
                </a:solidFill>
                <a:latin typeface="Constantia"/>
                <a:ea typeface="me_quran"/>
              </a:rPr>
              <a:t>)خَلَقَ الإنْسَانَ (</a:t>
            </a:r>
            <a:r>
              <a:rPr b="0" lang="ar-SA" sz="6100" spc="-1" strike="noStrike">
                <a:solidFill>
                  <a:srgbClr val="000000"/>
                </a:solidFill>
                <a:latin typeface="Constantia"/>
                <a:cs typeface="me_quran"/>
              </a:rPr>
              <a:t>٣</a:t>
            </a:r>
            <a:r>
              <a:rPr b="0" lang="ar-SA" sz="6100" spc="-1" strike="noStrike">
                <a:solidFill>
                  <a:srgbClr val="000000"/>
                </a:solidFill>
                <a:latin typeface="Constantia"/>
                <a:ea typeface="me_quran"/>
              </a:rPr>
              <a:t>)عَلَّمَهُ الْبَيَانَ (</a:t>
            </a:r>
            <a:r>
              <a:rPr b="0" lang="ar-SA" sz="6100" spc="-1" strike="noStrike">
                <a:solidFill>
                  <a:srgbClr val="000000"/>
                </a:solidFill>
                <a:latin typeface="Constantia"/>
                <a:cs typeface="me_quran"/>
              </a:rPr>
              <a:t>٤</a:t>
            </a:r>
            <a:r>
              <a:rPr b="0" lang="ar-SA" sz="61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ساختا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40000"/>
              </a:lnSpc>
              <a:spcBef>
                <a:spcPts val="16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Constantia"/>
                <a:cs typeface="me_quran"/>
              </a:rPr>
              <a:t>الشَّمْسُ وَالْقَمَرُ بِحُسْبَانٍ (</a:t>
            </a:r>
            <a:r>
              <a:rPr b="0" lang="ar-SA" sz="6600" spc="-1" strike="noStrike">
                <a:solidFill>
                  <a:srgbClr val="000000"/>
                </a:solidFill>
                <a:latin typeface="Constantia"/>
                <a:cs typeface="me_quran"/>
              </a:rPr>
              <a:t>٥</a:t>
            </a:r>
            <a:r>
              <a:rPr b="0" lang="ar-SA" sz="6600" spc="-1" strike="noStrike">
                <a:solidFill>
                  <a:srgbClr val="000000"/>
                </a:solidFill>
                <a:latin typeface="Constantia"/>
                <a:ea typeface="me_quran"/>
              </a:rPr>
              <a:t>)وَالنَّجْمُ وَالشَّجَرُ يَسْجُدَانِ (</a:t>
            </a:r>
            <a:r>
              <a:rPr b="0" lang="ar-SA" sz="6600" spc="-1" strike="noStrike">
                <a:solidFill>
                  <a:srgbClr val="000000"/>
                </a:solidFill>
                <a:latin typeface="Constantia"/>
                <a:cs typeface="me_quran"/>
              </a:rPr>
              <a:t>٦</a:t>
            </a:r>
            <a:r>
              <a:rPr b="0" lang="ar-SA" sz="66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ساختا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lnSpc>
                <a:spcPct val="15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وَالسَّمَاءَ رَفَعَهَا وَوَضَعَ الْمِيزَانَ (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٧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ea typeface="me_quran"/>
              </a:rPr>
              <a:t>)أَلا تَطْغَوْا فِي الْمِيزَانِ (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٨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ea typeface="me_quran"/>
              </a:rPr>
              <a:t>)وَأَقِيمُوا الْوَزْنَ بِالْقِسْطِ وَلا تُخْسِرُوا الْمِيزَانَ (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٩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ea typeface="me_quran"/>
              </a:rPr>
              <a:t>)وَالأرْضَ وَضَعَهَا لِلأنَامِ (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١٠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ea typeface="me_quran"/>
              </a:rPr>
              <a:t>)فِيهَا فَاكِهَةٌ وَالنَّخْلُ ذَاتُ الأكْمَامِ (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١١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ea typeface="me_quran"/>
              </a:rPr>
              <a:t>) وَالْحَبُّ ذُو الْعَصْفِ وَالرَّيْحَانُ (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١٢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37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3700" spc="-1" strike="noStrike">
                <a:solidFill>
                  <a:srgbClr val="990000"/>
                </a:solidFill>
                <a:latin typeface="Constantia"/>
                <a:cs typeface="me_quran"/>
              </a:rPr>
              <a:t>١٣</a:t>
            </a:r>
            <a:r>
              <a:rPr b="0" lang="ar-SA" sz="37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جهت هدایت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4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فضای سخ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ساختا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lnSpc>
                <a:spcPct val="170000"/>
              </a:lnSpc>
              <a:spcBef>
                <a:spcPts val="12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Constantia"/>
                <a:cs typeface="me_quran"/>
              </a:rPr>
              <a:t>خَلَقَ الإنْسَانَ مِنْ صَلْصَالٍ كَالْفَخَّارِ (</a:t>
            </a:r>
            <a:r>
              <a:rPr b="0" lang="ar-SA" sz="5000" spc="-1" strike="noStrike">
                <a:solidFill>
                  <a:srgbClr val="000000"/>
                </a:solidFill>
                <a:latin typeface="Constantia"/>
                <a:cs typeface="me_quran"/>
              </a:rPr>
              <a:t>١٤</a:t>
            </a:r>
            <a:r>
              <a:rPr b="0" lang="ar-SA" sz="5000" spc="-1" strike="noStrike">
                <a:solidFill>
                  <a:srgbClr val="000000"/>
                </a:solidFill>
                <a:latin typeface="Constantia"/>
                <a:ea typeface="me_quran"/>
              </a:rPr>
              <a:t>)وَخَلَقَ الْجَانَّ مِنْ مَارِجٍ مِنْ نَارٍ (</a:t>
            </a:r>
            <a:r>
              <a:rPr b="0" lang="ar-SA" sz="5000" spc="-1" strike="noStrike">
                <a:solidFill>
                  <a:srgbClr val="000000"/>
                </a:solidFill>
                <a:latin typeface="Constantia"/>
                <a:cs typeface="me_quran"/>
              </a:rPr>
              <a:t>١٥</a:t>
            </a:r>
            <a:r>
              <a:rPr b="0" lang="ar-SA" sz="50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50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5000" spc="-1" strike="noStrike">
                <a:solidFill>
                  <a:srgbClr val="990000"/>
                </a:solidFill>
                <a:latin typeface="Constantia"/>
                <a:cs typeface="me_quran"/>
              </a:rPr>
              <a:t>١٦</a:t>
            </a:r>
            <a:r>
              <a:rPr b="0" lang="ar-SA" sz="50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ساختا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15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100" spc="-1" strike="noStrike">
                <a:solidFill>
                  <a:srgbClr val="000000"/>
                </a:solidFill>
                <a:latin typeface="Constantia"/>
                <a:cs typeface="me_quran"/>
              </a:rPr>
              <a:t>رَبُّ الْمَ</a:t>
            </a:r>
            <a:r>
              <a:rPr b="0" lang="fa-IR" sz="6100" spc="-1" strike="noStrike">
                <a:solidFill>
                  <a:srgbClr val="000000"/>
                </a:solidFill>
                <a:latin typeface="Constantia"/>
                <a:cs typeface="me_quran"/>
              </a:rPr>
              <a:t>ـ</a:t>
            </a:r>
            <a:r>
              <a:rPr b="0" lang="ar-SA" sz="6100" spc="-1" strike="noStrike">
                <a:solidFill>
                  <a:srgbClr val="000000"/>
                </a:solidFill>
                <a:latin typeface="Constantia"/>
                <a:cs typeface="me_quran"/>
              </a:rPr>
              <a:t>شْرِقَيْنِ وَرَبُّ الْمَغْرِبَيْنِ (</a:t>
            </a:r>
            <a:r>
              <a:rPr b="0" lang="ar-SA" sz="6100" spc="-1" strike="noStrike">
                <a:solidFill>
                  <a:srgbClr val="000000"/>
                </a:solidFill>
                <a:latin typeface="Constantia"/>
                <a:cs typeface="me_quran"/>
              </a:rPr>
              <a:t>١٧</a:t>
            </a:r>
            <a:r>
              <a:rPr b="0" lang="ar-SA" sz="6100" spc="-1" strike="noStrike">
                <a:solidFill>
                  <a:srgbClr val="000000"/>
                </a:solidFill>
                <a:latin typeface="Constantia"/>
                <a:ea typeface="me_quran"/>
              </a:rPr>
              <a:t>) </a:t>
            </a:r>
            <a:r>
              <a:rPr b="0" lang="ar-SA" sz="61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6100" spc="-1" strike="noStrike">
                <a:solidFill>
                  <a:srgbClr val="990000"/>
                </a:solidFill>
                <a:latin typeface="Constantia"/>
                <a:cs typeface="me_quran"/>
              </a:rPr>
              <a:t>١٨</a:t>
            </a:r>
            <a:r>
              <a:rPr b="0" lang="ar-SA" sz="61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مطلب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1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. آیه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1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 تا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ctr" rtl="1">
              <a:lnSpc>
                <a:spcPct val="14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100" spc="-1" strike="noStrike">
                <a:solidFill>
                  <a:srgbClr val="000000"/>
                </a:solidFill>
                <a:latin typeface="Constantia"/>
                <a:cs typeface="me_quran"/>
              </a:rPr>
              <a:t>بِسْمِ اللَّهِ الرَّحْمَنِ الرَّحِيم </a:t>
            </a: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lnSpc>
                <a:spcPct val="140000"/>
              </a:lnSpc>
              <a:spcBef>
                <a:spcPts val="15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100" spc="-1" strike="noStrike">
                <a:solidFill>
                  <a:srgbClr val="000000"/>
                </a:solidFill>
                <a:latin typeface="Constantia"/>
                <a:cs typeface="me_quran"/>
              </a:rPr>
              <a:t>الرَّحْمَنُ (</a:t>
            </a:r>
            <a:r>
              <a:rPr b="0" lang="ar-SA" sz="6100" spc="-1" strike="noStrike">
                <a:solidFill>
                  <a:srgbClr val="000000"/>
                </a:solidFill>
                <a:latin typeface="Constantia"/>
                <a:cs typeface="me_quran"/>
              </a:rPr>
              <a:t>١</a:t>
            </a:r>
            <a:r>
              <a:rPr b="0" lang="ar-SA" sz="6100" spc="-1" strike="noStrike">
                <a:solidFill>
                  <a:srgbClr val="000000"/>
                </a:solidFill>
                <a:latin typeface="Constantia"/>
                <a:ea typeface="me_quran"/>
              </a:rPr>
              <a:t>)عَلَّمَ الْقُرْآنَ (</a:t>
            </a:r>
            <a:r>
              <a:rPr b="0" lang="ar-SA" sz="6100" spc="-1" strike="noStrike">
                <a:solidFill>
                  <a:srgbClr val="000000"/>
                </a:solidFill>
                <a:latin typeface="Constantia"/>
                <a:cs typeface="me_quran"/>
              </a:rPr>
              <a:t>٢</a:t>
            </a:r>
            <a:r>
              <a:rPr b="0" lang="ar-SA" sz="6100" spc="-1" strike="noStrike">
                <a:solidFill>
                  <a:srgbClr val="000000"/>
                </a:solidFill>
                <a:latin typeface="Constantia"/>
                <a:ea typeface="me_quran"/>
              </a:rPr>
              <a:t>)خَلَقَ الإنْسَانَ (</a:t>
            </a:r>
            <a:r>
              <a:rPr b="0" lang="ar-SA" sz="6100" spc="-1" strike="noStrike">
                <a:solidFill>
                  <a:srgbClr val="000000"/>
                </a:solidFill>
                <a:latin typeface="Constantia"/>
                <a:cs typeface="me_quran"/>
              </a:rPr>
              <a:t>٣</a:t>
            </a:r>
            <a:r>
              <a:rPr b="0" lang="ar-SA" sz="6100" spc="-1" strike="noStrike">
                <a:solidFill>
                  <a:srgbClr val="000000"/>
                </a:solidFill>
                <a:latin typeface="Constantia"/>
                <a:ea typeface="me_quran"/>
              </a:rPr>
              <a:t>)عَلَّمَهُ الْبَيَانَ (</a:t>
            </a:r>
            <a:r>
              <a:rPr b="0" lang="ar-SA" sz="6100" spc="-1" strike="noStrike">
                <a:solidFill>
                  <a:srgbClr val="000000"/>
                </a:solidFill>
                <a:latin typeface="Constantia"/>
                <a:cs typeface="me_quran"/>
              </a:rPr>
              <a:t>٤</a:t>
            </a:r>
            <a:r>
              <a:rPr b="0" lang="ar-SA" sz="61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ساختا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lnSpc>
                <a:spcPct val="16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e_quran"/>
              </a:rPr>
              <a:t>مَرَجَ الْبَحْرَيْنِ يَلْتَقِيَانِ (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e_quran"/>
              </a:rPr>
              <a:t>١٩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e_quran"/>
              </a:rPr>
              <a:t>)بَيْنَهُمَا بَرْزَخٌ لا يَبْغِيَانِ (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e_quran"/>
              </a:rPr>
              <a:t>٢٠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4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4400" spc="-1" strike="noStrike">
                <a:solidFill>
                  <a:srgbClr val="990000"/>
                </a:solidFill>
                <a:latin typeface="Constantia"/>
                <a:cs typeface="me_quran"/>
              </a:rPr>
              <a:t>٢١</a:t>
            </a:r>
            <a:r>
              <a:rPr b="0" lang="ar-SA" sz="4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e_quran"/>
              </a:rPr>
              <a:t>يَخْرُجُ مِنْهُمَا اللُّؤْلُؤُ وَالْمَرْجَانُ (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e_quran"/>
              </a:rPr>
              <a:t>٢٢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e_quran"/>
              </a:rPr>
              <a:t>) </a:t>
            </a:r>
            <a:r>
              <a:rPr b="0" lang="ar-SA" sz="4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4400" spc="-1" strike="noStrike">
                <a:solidFill>
                  <a:srgbClr val="990000"/>
                </a:solidFill>
                <a:latin typeface="Constantia"/>
                <a:cs typeface="me_quran"/>
              </a:rPr>
              <a:t>٢٣</a:t>
            </a:r>
            <a:r>
              <a:rPr b="0" lang="ar-SA" sz="4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ساختا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lnSpc>
                <a:spcPct val="15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100" spc="-1" strike="noStrike">
                <a:solidFill>
                  <a:srgbClr val="000000"/>
                </a:solidFill>
                <a:latin typeface="Constantia"/>
                <a:cs typeface="me_quran"/>
              </a:rPr>
              <a:t>وَلَهُ الْجَوَارِ الْمُنْشَآتُ فِي الْبَحْرِ كَالأعْلامِ (</a:t>
            </a:r>
            <a:r>
              <a:rPr b="0" lang="ar-SA" sz="4100" spc="-1" strike="noStrike">
                <a:solidFill>
                  <a:srgbClr val="000000"/>
                </a:solidFill>
                <a:latin typeface="Constantia"/>
                <a:cs typeface="me_quran"/>
              </a:rPr>
              <a:t>٢٤</a:t>
            </a:r>
            <a:r>
              <a:rPr b="0" lang="ar-SA" sz="41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41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4100" spc="-1" strike="noStrike">
                <a:solidFill>
                  <a:srgbClr val="990000"/>
                </a:solidFill>
                <a:latin typeface="Constantia"/>
                <a:cs typeface="me_quran"/>
              </a:rPr>
              <a:t>٢٥</a:t>
            </a:r>
            <a:r>
              <a:rPr b="0" lang="ar-SA" sz="41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4100" spc="-1" strike="noStrike">
                <a:solidFill>
                  <a:srgbClr val="000000"/>
                </a:solidFill>
                <a:latin typeface="Constantia"/>
                <a:cs typeface="me_quran"/>
              </a:rPr>
              <a:t>كُلُّ مَنْ عَلَيْهَا فَانٍ (</a:t>
            </a:r>
            <a:r>
              <a:rPr b="0" lang="ar-SA" sz="4100" spc="-1" strike="noStrike">
                <a:solidFill>
                  <a:srgbClr val="000000"/>
                </a:solidFill>
                <a:latin typeface="Constantia"/>
                <a:cs typeface="me_quran"/>
              </a:rPr>
              <a:t>٢٦</a:t>
            </a:r>
            <a:r>
              <a:rPr b="0" lang="ar-SA" sz="4100" spc="-1" strike="noStrike">
                <a:solidFill>
                  <a:srgbClr val="000000"/>
                </a:solidFill>
                <a:latin typeface="Constantia"/>
                <a:ea typeface="me_quran"/>
              </a:rPr>
              <a:t>)وَيَبْقَى وَجْهُ رَبِّكَ ذُو الْجَلالِ وَالإكْرَامِ (</a:t>
            </a:r>
            <a:r>
              <a:rPr b="0" lang="ar-SA" sz="4100" spc="-1" strike="noStrike">
                <a:solidFill>
                  <a:srgbClr val="000000"/>
                </a:solidFill>
                <a:latin typeface="Constantia"/>
                <a:cs typeface="me_quran"/>
              </a:rPr>
              <a:t>٢٧</a:t>
            </a:r>
            <a:r>
              <a:rPr b="0" lang="ar-SA" sz="41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41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4100" spc="-1" strike="noStrike">
                <a:solidFill>
                  <a:srgbClr val="990000"/>
                </a:solidFill>
                <a:latin typeface="Constantia"/>
                <a:cs typeface="me_quran"/>
              </a:rPr>
              <a:t>٢٨</a:t>
            </a:r>
            <a:r>
              <a:rPr b="0" lang="ar-SA" sz="41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ساختا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lnSpc>
                <a:spcPct val="15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e_quran"/>
              </a:rPr>
              <a:t>يَسْأَلُهُ مَنْ فِي السَّمَاوَاتِ وَالأرْضِ كُلَّ يَوْمٍ هُوَ فِي شَأْنٍ (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e_quran"/>
              </a:rPr>
              <a:t>٢٩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4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4400" spc="-1" strike="noStrike">
                <a:solidFill>
                  <a:srgbClr val="990000"/>
                </a:solidFill>
                <a:latin typeface="Constantia"/>
                <a:cs typeface="me_quran"/>
              </a:rPr>
              <a:t>٣٠</a:t>
            </a:r>
            <a:r>
              <a:rPr b="0" lang="ar-SA" sz="4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e_quran"/>
              </a:rPr>
              <a:t>سَنَفْرُغُ لَكُمْ أَيُّهَا الثَّقَلانِ (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e_quran"/>
              </a:rPr>
              <a:t>٣١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4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4400" spc="-1" strike="noStrike">
                <a:solidFill>
                  <a:srgbClr val="990000"/>
                </a:solidFill>
                <a:latin typeface="Constantia"/>
                <a:cs typeface="me_quran"/>
              </a:rPr>
              <a:t>٣٢</a:t>
            </a:r>
            <a:r>
              <a:rPr b="0" lang="ar-SA" sz="4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ساختا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r" rtl="1">
              <a:lnSpc>
                <a:spcPct val="15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يَا مَعْشَرَ الْجِنِّ وَالإنْسِ إِنِ اسْتَطَعْتُمْ أَنْ تَنْفُذُوا مِنْ أَقْطَارِ السَّمَاوَاتِ</a:t>
            </a:r>
            <a:r>
              <a:rPr b="0" lang="fa-IR" sz="3700" spc="-1" strike="noStrike">
                <a:solidFill>
                  <a:srgbClr val="000000"/>
                </a:solidFill>
                <a:latin typeface="Constantia"/>
                <a:ea typeface="me_quran"/>
              </a:rPr>
              <a:t> 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وَالأرْضِ فَانْفُذُوا لا تَنْفُذُونَ إِلا بِسُلْطَانٍ (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٣٣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37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3700" spc="-1" strike="noStrike">
                <a:solidFill>
                  <a:srgbClr val="990000"/>
                </a:solidFill>
                <a:latin typeface="Constantia"/>
                <a:cs typeface="me_quran"/>
              </a:rPr>
              <a:t>٣٤</a:t>
            </a:r>
            <a:r>
              <a:rPr b="0" lang="ar-SA" sz="37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يُرْسَلُ عَلَيْكُمَا شُوَاظٌ مِنْ نَارٍ وَنُحَاسٌ فَلا تَنْتَصِرَانِ (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٣٥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37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3700" spc="-1" strike="noStrike">
                <a:solidFill>
                  <a:srgbClr val="990000"/>
                </a:solidFill>
                <a:latin typeface="Constantia"/>
                <a:cs typeface="me_quran"/>
              </a:rPr>
              <a:t>٣٦</a:t>
            </a:r>
            <a:r>
              <a:rPr b="0" lang="ar-SA" sz="37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جهت هدایت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4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فضای سخ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ساختا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lnSpc>
                <a:spcPct val="15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Constantia"/>
                <a:cs typeface="me_quran"/>
              </a:rPr>
              <a:t>فَإِذَا انْشَقَّتِ السَّمَاءُ فَكَانَتْ وَرْدَةً كَالدِّهَانِ (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cs typeface="me_quran"/>
              </a:rPr>
              <a:t>٣٧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31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3100" spc="-1" strike="noStrike">
                <a:solidFill>
                  <a:srgbClr val="990000"/>
                </a:solidFill>
                <a:latin typeface="Constantia"/>
                <a:cs typeface="me_quran"/>
              </a:rPr>
              <a:t>٣٨</a:t>
            </a:r>
            <a:r>
              <a:rPr b="0" lang="ar-SA" sz="31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cs typeface="me_quran"/>
              </a:rPr>
              <a:t>فَيَوْمَئِذٍ لا يُسْأَلُ عَنْ ذَنْبِهِ إِنْسٌ وَلا جَانٌّ (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cs typeface="me_quran"/>
              </a:rPr>
              <a:t>٣٩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31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3100" spc="-1" strike="noStrike">
                <a:solidFill>
                  <a:srgbClr val="990000"/>
                </a:solidFill>
                <a:latin typeface="Constantia"/>
                <a:cs typeface="me_quran"/>
              </a:rPr>
              <a:t>٤٠</a:t>
            </a:r>
            <a:r>
              <a:rPr b="0" lang="ar-SA" sz="31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cs typeface="me_quran"/>
              </a:rPr>
              <a:t>يُعْرَفُ الْمُجْرِمُونَ بِسِيمَاهُمْ فَيُؤْخَذُ بِالنَّوَاصِي وَالأقْدَامِ (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cs typeface="me_quran"/>
              </a:rPr>
              <a:t>٤١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31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3100" spc="-1" strike="noStrike">
                <a:solidFill>
                  <a:srgbClr val="990000"/>
                </a:solidFill>
                <a:latin typeface="Constantia"/>
                <a:cs typeface="me_quran"/>
              </a:rPr>
              <a:t>٤٢</a:t>
            </a:r>
            <a:r>
              <a:rPr b="0" lang="ar-SA" sz="31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cs typeface="me_quran"/>
              </a:rPr>
              <a:t>هَذِهِ جَهَنَّمُ الَّتِي يُكَذِّبُ بِهَا الْمُجْرِمُونَ (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cs typeface="me_quran"/>
              </a:rPr>
              <a:t>٤٣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ea typeface="me_quran"/>
              </a:rPr>
              <a:t>)يَطُوفُونَ بَيْنَهَا وَبَيْنَ حَمِيمٍ آنٍ (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cs typeface="me_quran"/>
              </a:rPr>
              <a:t>٤٤</a:t>
            </a:r>
            <a:r>
              <a:rPr b="0" lang="ar-SA" sz="31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31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3100" spc="-1" strike="noStrike">
                <a:solidFill>
                  <a:srgbClr val="990000"/>
                </a:solidFill>
                <a:latin typeface="Constantia"/>
                <a:cs typeface="me_quran"/>
              </a:rPr>
              <a:t>٤٥</a:t>
            </a:r>
            <a:r>
              <a:rPr b="0" lang="ar-SA" sz="31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ساختا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وَلِمَنْ خَافَ مَقَامَ رَبِّهِ جَنَّتَانِ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٤٦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٤٧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ذَوَاتَا أَفْنَانٍ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٤٨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٤٩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فِيهِمَا عَيْنَانِ تَجْرِيَانِ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٥٠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٥١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فِيهِمَا مِنْ كُلِّ فَاكِهَةٍ زَوْجَانِ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٥٢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٥٣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مُتَّكِئِينَ عَلَى فُرُشٍ بَطَائِنُهَا مِنْ إِسْتَبْرَقٍ وَجَنَى الْجَنَّتَيْنِ دَانٍ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٥٤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٥٥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فِيهِنَّ قَاصِرَاتُ الطَّرْفِ لَمْ يَطْمِثْهُنَّ إِنْسٌ قَبْلَهُمْ وَلا جَانٌّ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٥٦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٥٧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كَأَنَّهُنَّ الْيَاقُوتُ وَالْمَرْجَانُ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٥٨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٥٩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هَلْ جَزَاءُ الإحْسَانِ إِلا الإحْسَانُ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٦٠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٦١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ساختا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وَمِنْ دُونِهِمَا جَنَّتَانِ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٦٢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٦٣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مُدْهَامَّتَانِ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٦٤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٦٥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فِيهِمَا عَيْنَانِ نَضَّاخَتَانِ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٦٦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٦٧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فِيهِمَا فَاكِهَةٌ وَنَخْلٌ وَرُمَّانٌ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٦٨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٦٩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فِيهِنَّ خَيْرَاتٌ حِسَانٌ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٧٠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٧١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حُورٌ مَقْصُورَاتٌ فِي الْخِيَامِ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٧٢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٧٣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لَمْ يَطْمِثْهُنَّ إِنْسٌ قَبْلَهُمْ وَلا جَانٌّ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٧٤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٧٥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مُتَّكِئِينَ عَلَى رَفْرَفٍ خُضْرٍ وَعَبْقَرِيٍّ حِسَانٍ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٧٦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cs typeface="me_quran"/>
              </a:rPr>
              <a:t>٧٧</a:t>
            </a:r>
            <a:r>
              <a:rPr b="0" lang="ar-SA" sz="2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تَبَارَكَ اسْمُ رَبِّكَ ذِي الْجَلالِ وَالإكْرَامِ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e_quran"/>
              </a:rPr>
              <a:t>٧٨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مطلب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2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. آیه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5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 تا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6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30000"/>
              </a:lnSpc>
              <a:spcBef>
                <a:spcPts val="1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700" spc="-1" strike="noStrike">
                <a:solidFill>
                  <a:srgbClr val="000000"/>
                </a:solidFill>
                <a:latin typeface="Constantia"/>
                <a:cs typeface="me_quran"/>
              </a:rPr>
              <a:t>الشَّمْسُ وَالْقَمَرُ بِحُسْبَانٍ (</a:t>
            </a:r>
            <a:r>
              <a:rPr b="0" lang="ar-SA" sz="6700" spc="-1" strike="noStrike">
                <a:solidFill>
                  <a:srgbClr val="000000"/>
                </a:solidFill>
                <a:latin typeface="Constantia"/>
                <a:cs typeface="me_quran"/>
              </a:rPr>
              <a:t>٥</a:t>
            </a:r>
            <a:r>
              <a:rPr b="0" lang="ar-SA" sz="6700" spc="-1" strike="noStrike">
                <a:solidFill>
                  <a:srgbClr val="000000"/>
                </a:solidFill>
                <a:latin typeface="Constantia"/>
                <a:ea typeface="me_quran"/>
              </a:rPr>
              <a:t>)وَالنَّجْمُ وَالشَّجَرُ يَسْجُدَانِ (</a:t>
            </a:r>
            <a:r>
              <a:rPr b="0" lang="ar-SA" sz="6700" spc="-1" strike="noStrike">
                <a:solidFill>
                  <a:srgbClr val="000000"/>
                </a:solidFill>
                <a:latin typeface="Constantia"/>
                <a:cs typeface="me_quran"/>
              </a:rPr>
              <a:t>٦</a:t>
            </a:r>
            <a:r>
              <a:rPr b="0" lang="ar-SA" sz="67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endParaRPr b="0" lang="en-US" sz="6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جهت هدایت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4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فضای سخ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جهت هدایت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مطلب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3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. آیه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7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 تا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1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lnSpc>
                <a:spcPct val="15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وَالسَّمَاءَ رَفَعَهَا وَوَضَعَ الْمِيزَانَ (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٧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ea typeface="me_quran"/>
              </a:rPr>
              <a:t>)أَلا تَطْغَوْا فِي الْمِيزَانِ (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٨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ea typeface="me_quran"/>
              </a:rPr>
              <a:t>)وَأَقِيمُوا الْوَزْنَ بِالْقِسْ</a:t>
            </a:r>
            <a:r>
              <a:rPr b="0" lang="fa-IR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ــ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طِ وَلا تُخْسِرُوا الْمِيزَانَ (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٩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ea typeface="me_quran"/>
              </a:rPr>
              <a:t>)وَالأرْضَ وَضَعَهَا لِلأنَامِ (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١٠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ea typeface="me_quran"/>
              </a:rPr>
              <a:t>)فِيهَا فَاكِهَةٌ وَالنَّخْلُ ذَاتُ الأكْمَامِ (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١١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ea typeface="me_quran"/>
              </a:rPr>
              <a:t>) وَالْحَبُّ ذُو الْعَصْفِ وَالرَّيْحَانُ (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cs typeface="me_quran"/>
              </a:rPr>
              <a:t>١٢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37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3700" spc="-1" strike="noStrike">
                <a:solidFill>
                  <a:srgbClr val="990000"/>
                </a:solidFill>
                <a:latin typeface="Constantia"/>
                <a:cs typeface="me_quran"/>
              </a:rPr>
              <a:t>١٣</a:t>
            </a:r>
            <a:r>
              <a:rPr b="0" lang="ar-SA" sz="37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مطلب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4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. آیه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14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 تا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16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r" rtl="1">
              <a:lnSpc>
                <a:spcPct val="150000"/>
              </a:lnSpc>
              <a:spcBef>
                <a:spcPts val="12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100" spc="-1" strike="noStrike">
                <a:solidFill>
                  <a:srgbClr val="000000"/>
                </a:solidFill>
                <a:latin typeface="Constantia"/>
                <a:cs typeface="me_quran"/>
              </a:rPr>
              <a:t>خَلَقَ الإنْسَانَ مِنْ صَلْصَالٍ كَالْفَخَّارِ (</a:t>
            </a:r>
            <a:r>
              <a:rPr b="0" lang="ar-SA" sz="5100" spc="-1" strike="noStrike">
                <a:solidFill>
                  <a:srgbClr val="000000"/>
                </a:solidFill>
                <a:latin typeface="Constantia"/>
                <a:cs typeface="me_quran"/>
              </a:rPr>
              <a:t>١٤</a:t>
            </a:r>
            <a:r>
              <a:rPr b="0" lang="ar-SA" sz="5100" spc="-1" strike="noStrike">
                <a:solidFill>
                  <a:srgbClr val="000000"/>
                </a:solidFill>
                <a:latin typeface="Constantia"/>
                <a:ea typeface="me_quran"/>
              </a:rPr>
              <a:t>)وَخَلَقَ الْجَانَّ مِنْ مَارِجٍ مِنْ نَارٍ (</a:t>
            </a:r>
            <a:r>
              <a:rPr b="0" lang="ar-SA" sz="5100" spc="-1" strike="noStrike">
                <a:solidFill>
                  <a:srgbClr val="000000"/>
                </a:solidFill>
                <a:latin typeface="Constantia"/>
                <a:cs typeface="me_quran"/>
              </a:rPr>
              <a:t>١٥</a:t>
            </a:r>
            <a:r>
              <a:rPr b="0" lang="ar-SA" sz="51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51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5100" spc="-1" strike="noStrike">
                <a:solidFill>
                  <a:srgbClr val="990000"/>
                </a:solidFill>
                <a:latin typeface="Constantia"/>
                <a:cs typeface="me_quran"/>
              </a:rPr>
              <a:t>١٦</a:t>
            </a:r>
            <a:r>
              <a:rPr b="0" lang="ar-SA" sz="51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5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مطلب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5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. آیه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17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 تا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1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40000"/>
              </a:lnSpc>
              <a:spcBef>
                <a:spcPts val="1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700" spc="-1" strike="noStrike">
                <a:solidFill>
                  <a:srgbClr val="000000"/>
                </a:solidFill>
                <a:latin typeface="Constantia"/>
                <a:cs typeface="me_quran"/>
              </a:rPr>
              <a:t>رَبُّ الْمَ</a:t>
            </a:r>
            <a:r>
              <a:rPr b="0" lang="fa-IR" sz="6700" spc="-1" strike="noStrike">
                <a:solidFill>
                  <a:srgbClr val="000000"/>
                </a:solidFill>
                <a:latin typeface="Constantia"/>
                <a:cs typeface="me_quran"/>
              </a:rPr>
              <a:t>ـ</a:t>
            </a:r>
            <a:r>
              <a:rPr b="0" lang="ar-SA" sz="6700" spc="-1" strike="noStrike">
                <a:solidFill>
                  <a:srgbClr val="000000"/>
                </a:solidFill>
                <a:latin typeface="Constantia"/>
                <a:cs typeface="me_quran"/>
              </a:rPr>
              <a:t>شْرِقَيْنِ وَرَبُّ الْمَغْرِبَيْنِ (</a:t>
            </a:r>
            <a:r>
              <a:rPr b="0" lang="ar-SA" sz="6700" spc="-1" strike="noStrike">
                <a:solidFill>
                  <a:srgbClr val="000000"/>
                </a:solidFill>
                <a:latin typeface="Constantia"/>
                <a:cs typeface="me_quran"/>
              </a:rPr>
              <a:t>١٧</a:t>
            </a:r>
            <a:r>
              <a:rPr b="0" lang="ar-SA" sz="6700" spc="-1" strike="noStrike">
                <a:solidFill>
                  <a:srgbClr val="000000"/>
                </a:solidFill>
                <a:latin typeface="Constantia"/>
                <a:ea typeface="me_quran"/>
              </a:rPr>
              <a:t>) </a:t>
            </a:r>
            <a:r>
              <a:rPr b="0" lang="ar-SA" sz="67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6700" spc="-1" strike="noStrike">
                <a:solidFill>
                  <a:srgbClr val="990000"/>
                </a:solidFill>
                <a:latin typeface="Constantia"/>
                <a:cs typeface="me_quran"/>
              </a:rPr>
              <a:t>١٨</a:t>
            </a:r>
            <a:r>
              <a:rPr b="0" lang="ar-SA" sz="67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6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مطلب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6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. آیه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19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 تا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2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lnSpc>
                <a:spcPct val="15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e_quran"/>
              </a:rPr>
              <a:t>مَرَجَ الْبَحْرَيْنِ يَلْتَقِيَانِ (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e_quran"/>
              </a:rPr>
              <a:t>١٩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e_quran"/>
              </a:rPr>
              <a:t>)بَيْنَهُمَا بَرْزَخٌ لا يَبْغِيَانِ (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e_quran"/>
              </a:rPr>
              <a:t>٢٠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4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4400" spc="-1" strike="noStrike">
                <a:solidFill>
                  <a:srgbClr val="990000"/>
                </a:solidFill>
                <a:latin typeface="Constantia"/>
                <a:cs typeface="me_quran"/>
              </a:rPr>
              <a:t>٢١</a:t>
            </a:r>
            <a:r>
              <a:rPr b="0" lang="ar-SA" sz="4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e_quran"/>
              </a:rPr>
              <a:t>يَخْرُجُ مِنْهُمَا اللُّؤْلُؤُ وَالْمَرْجَانُ (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e_quran"/>
              </a:rPr>
              <a:t>٢٢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e_quran"/>
              </a:rPr>
              <a:t>) </a:t>
            </a:r>
            <a:r>
              <a:rPr b="0" lang="ar-SA" sz="44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4400" spc="-1" strike="noStrike">
                <a:solidFill>
                  <a:srgbClr val="990000"/>
                </a:solidFill>
                <a:latin typeface="Constantia"/>
                <a:cs typeface="me_quran"/>
              </a:rPr>
              <a:t>٢٣</a:t>
            </a:r>
            <a:r>
              <a:rPr b="0" lang="ar-SA" sz="44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4617b"/>
                </a:solidFill>
                <a:latin typeface="Calibri"/>
                <a:cs typeface="Mj_Egypt"/>
              </a:rPr>
              <a:t>مطلب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7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. آیه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24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 تا </a:t>
            </a:r>
            <a:r>
              <a:rPr b="0" lang="fa-IR" sz="5000" spc="-1" strike="noStrike">
                <a:solidFill>
                  <a:srgbClr val="04617b"/>
                </a:solidFill>
                <a:latin typeface="Calibri"/>
                <a:ea typeface="Mj_Egypt"/>
              </a:rPr>
              <a:t>2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lnSpc>
                <a:spcPct val="150000"/>
              </a:lnSpc>
              <a:spcBef>
                <a:spcPts val="10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000000"/>
                </a:solidFill>
                <a:latin typeface="Constantia"/>
                <a:cs typeface="me_quran"/>
              </a:rPr>
              <a:t>وَلَهُ الْجَوَارِ الْمُنْشَآتُ فِي الْبَحْرِ كَالأعْلامِ (</a:t>
            </a:r>
            <a:r>
              <a:rPr b="0" lang="ar-SA" sz="4200" spc="-1" strike="noStrike">
                <a:solidFill>
                  <a:srgbClr val="000000"/>
                </a:solidFill>
                <a:latin typeface="Constantia"/>
                <a:cs typeface="me_quran"/>
              </a:rPr>
              <a:t>٢٤</a:t>
            </a:r>
            <a:r>
              <a:rPr b="0" lang="ar-SA" sz="4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4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4200" spc="-1" strike="noStrike">
                <a:solidFill>
                  <a:srgbClr val="990000"/>
                </a:solidFill>
                <a:latin typeface="Constantia"/>
                <a:cs typeface="me_quran"/>
              </a:rPr>
              <a:t>٢٥</a:t>
            </a:r>
            <a:r>
              <a:rPr b="0" lang="ar-SA" sz="4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r>
              <a:rPr b="0" lang="ar-SA" sz="4200" spc="-1" strike="noStrike">
                <a:solidFill>
                  <a:srgbClr val="000000"/>
                </a:solidFill>
                <a:latin typeface="Constantia"/>
                <a:cs typeface="me_quran"/>
              </a:rPr>
              <a:t>كُلُّ مَنْ عَلَيْهَا فَانٍ (</a:t>
            </a:r>
            <a:r>
              <a:rPr b="0" lang="ar-SA" sz="4200" spc="-1" strike="noStrike">
                <a:solidFill>
                  <a:srgbClr val="000000"/>
                </a:solidFill>
                <a:latin typeface="Constantia"/>
                <a:cs typeface="me_quran"/>
              </a:rPr>
              <a:t>٢٦</a:t>
            </a:r>
            <a:r>
              <a:rPr b="0" lang="ar-SA" sz="4200" spc="-1" strike="noStrike">
                <a:solidFill>
                  <a:srgbClr val="000000"/>
                </a:solidFill>
                <a:latin typeface="Constantia"/>
                <a:ea typeface="me_quran"/>
              </a:rPr>
              <a:t>)وَيَبْقَى وَجْهُ رَبِّكَ ذُو الْجَلالِ وَالإكْرَامِ (</a:t>
            </a:r>
            <a:r>
              <a:rPr b="0" lang="ar-SA" sz="4200" spc="-1" strike="noStrike">
                <a:solidFill>
                  <a:srgbClr val="000000"/>
                </a:solidFill>
                <a:latin typeface="Constantia"/>
                <a:cs typeface="me_quran"/>
              </a:rPr>
              <a:t>٢٧</a:t>
            </a:r>
            <a:r>
              <a:rPr b="0" lang="ar-SA" sz="4200" spc="-1" strike="noStrike">
                <a:solidFill>
                  <a:srgbClr val="000000"/>
                </a:solidFill>
                <a:latin typeface="Constantia"/>
                <a:ea typeface="me_quran"/>
              </a:rPr>
              <a:t>)</a:t>
            </a:r>
            <a:r>
              <a:rPr b="0" lang="ar-SA" sz="4200" spc="-1" strike="noStrike">
                <a:solidFill>
                  <a:srgbClr val="990000"/>
                </a:solidFill>
                <a:latin typeface="Constantia"/>
                <a:cs typeface="me_quran"/>
              </a:rPr>
              <a:t>فَبِأَيِّ آلاءِ رَبِّكُمَا تُكَذِّبَانِ (</a:t>
            </a:r>
            <a:r>
              <a:rPr b="0" lang="ar-SA" sz="4200" spc="-1" strike="noStrike">
                <a:solidFill>
                  <a:srgbClr val="990000"/>
                </a:solidFill>
                <a:latin typeface="Constantia"/>
                <a:cs typeface="me_quran"/>
              </a:rPr>
              <a:t>٢٨</a:t>
            </a:r>
            <a:r>
              <a:rPr b="0" lang="ar-SA" sz="4200" spc="-1" strike="noStrike">
                <a:solidFill>
                  <a:srgbClr val="990000"/>
                </a:solidFill>
                <a:latin typeface="Constantia"/>
                <a:ea typeface="me_quran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11:54:10Z</dcterms:created>
  <dc:creator>Ali</dc:creator>
  <dc:description/>
  <cp:keywords/>
  <dc:language>en-US</dc:language>
  <cp:lastModifiedBy>Ali</cp:lastModifiedBy>
  <dcterms:modified xsi:type="dcterms:W3CDTF">2011-07-07T15:35:55Z</dcterms:modified>
  <cp:revision>45</cp:revision>
  <dc:subject/>
  <dc:title>بسم الله الرحمن الرحی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2011033</vt:lpwstr>
  </property>
</Properties>
</file>