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C62-A2EE-4A7A-A1EE-0C5F18A8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782-1DC9-4F1F-8BC7-AC300F06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825-FA6E-4AA8-B7AB-7BF5C27C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6DE-E9AA-4613-9271-F34373FB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A8D-F743-4CE8-9010-7AD541B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919-604A-45AA-A867-4C4A0F3F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F94-DEF5-4857-A4FB-9B8C6189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FE2-E977-4E7F-A8F6-71EB7AC1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CAC-18C7-40BC-BDB6-3EE5699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EC3-4A2E-421B-8FCD-17655AE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98B-6ADB-434A-BD98-5C59362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659-5500-4009-974E-976CAE2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1D04-2337-440D-9986-8F81D0E0100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4005360" y="5187960"/>
            <a:ext cx="5651280" cy="16700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6529320" y="1401840"/>
            <a:ext cx="3181320" cy="4120920"/>
          </a:xfrm>
          <a:prstGeom prst="rect">
            <a:avLst/>
          </a:prstGeom>
          <a:ln w="0">
            <a:noFill/>
          </a:ln>
        </p:spPr>
      </p:pic>
      <p:pic>
        <p:nvPicPr>
          <p:cNvPr id="44" name="besm.wav" descr=""/>
          <p:cNvPicPr/>
          <p:nvPr/>
        </p:nvPicPr>
        <p:blipFill>
          <a:blip r:embed="rId4"/>
          <a:stretch/>
        </p:blipFill>
        <p:spPr>
          <a:xfrm>
            <a:off x="1014408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0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928800" y="2643120"/>
            <a:ext cx="7215120" cy="228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بعید دانستن و سخت پنداشتن تحقق معاد و زنده شدن دوباره انسانها در روز قیام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تصویر 1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1571760" y="1000080"/>
            <a:ext cx="6000480" cy="4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النَّازِعَاتِ غَرْقًا * وَالنَّاشِطَاتِ نَشْطًا *  وَالسَّابِحَاتِ سَبْحًا * فَالسَّابِقَاتِ سَبْقً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500280" y="1714680"/>
            <a:ext cx="2143440" cy="357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فَالْمُدَبِّرَاتِ أَمْرً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3000240" y="2417760"/>
            <a:ext cx="314352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يَوْمَ تَرْجُفُ الرَّاجِفَةُ * تَتْبَعُهَا الرَّادِفَة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857680" y="3228840"/>
            <a:ext cx="3429000" cy="35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قُلُوبٌ يَوْمَئِذٍ وَاجِفَةٌ * أَبْصَارُهَا خَاشِعَة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357280" y="3922560"/>
            <a:ext cx="4429440" cy="35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يَقُولُونَ أَئِنَّا لَمَرْدُودُونَ فِي الْحَافِرَةِ * أَئِذَا كُنَّا عِظَامًا نَخِرَة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3514680" y="4649760"/>
            <a:ext cx="2112840" cy="351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قَالُوا تِلْكَ إِذًا كَرَّةٌ خَاسِرَة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857680" y="5521320"/>
            <a:ext cx="3429000" cy="407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فَإِنَّمَا هِيَ زَجْرَةٌ وَاحِدَةٌ * فَإِذَا هُمْ بِالسَّاهِرَةِ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5"/>
          <p:cNvCxnSpPr>
            <a:stCxn id="79" idx="2"/>
            <a:endCxn id="80" idx="0"/>
          </p:cNvCxnSpPr>
          <p:nvPr/>
        </p:nvCxnSpPr>
        <p:spPr>
          <a:xfrm flipH="1">
            <a:off x="4570200" y="2071440"/>
            <a:ext cx="36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6"/>
          <p:cNvCxnSpPr>
            <a:stCxn id="78" idx="2"/>
            <a:endCxn id="79" idx="0"/>
          </p:cNvCxnSpPr>
          <p:nvPr/>
        </p:nvCxnSpPr>
        <p:spPr>
          <a:xfrm flipH="1">
            <a:off x="4570200" y="1413000"/>
            <a:ext cx="36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AutoShape 17"/>
          <p:cNvSpPr/>
          <p:nvPr/>
        </p:nvSpPr>
        <p:spPr>
          <a:xfrm rot="16200000">
            <a:off x="4393440" y="2256480"/>
            <a:ext cx="357120" cy="442944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080 h 4429440"/>
              <a:gd name="textAreaBottom" fmla="*/ 4374360 h 442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0"/>
                  <a:pt x="10800" y="859"/>
                </a:cubicBezTo>
                <a:lnTo>
                  <a:pt x="10800" y="9941"/>
                </a:lnTo>
                <a:cubicBezTo>
                  <a:pt x="10800" y="10371"/>
                  <a:pt x="5400" y="10800"/>
                  <a:pt x="0" y="10800"/>
                </a:cubicBezTo>
                <a:cubicBezTo>
                  <a:pt x="5400" y="10800"/>
                  <a:pt x="10800" y="11230"/>
                  <a:pt x="10800" y="11659"/>
                </a:cubicBezTo>
                <a:lnTo>
                  <a:pt x="10800" y="20741"/>
                </a:lnTo>
                <a:cubicBezTo>
                  <a:pt x="10800" y="211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8"/>
          <p:cNvSpPr/>
          <p:nvPr/>
        </p:nvSpPr>
        <p:spPr>
          <a:xfrm>
            <a:off x="3929040" y="2786040"/>
            <a:ext cx="1285920" cy="422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3929040" y="5000760"/>
            <a:ext cx="12859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AutoShape 20"/>
          <p:cNvCxnSpPr>
            <a:stCxn id="81" idx="2"/>
            <a:endCxn id="82" idx="0"/>
          </p:cNvCxnSpPr>
          <p:nvPr/>
        </p:nvCxnSpPr>
        <p:spPr>
          <a:xfrm flipH="1">
            <a:off x="4571640" y="3587400"/>
            <a:ext cx="216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900000" y="364500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در پاسخ به کسانی که بیان قرآن را در خصوص ترس و سرافکندگی بعید شماران و سخت پنداران معاد به سخره گرفتند و به هشدار الهی توجهی نکردن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63480" y="1700280"/>
            <a:ext cx="781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أکید بر وقوع معا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428920" y="3936960"/>
            <a:ext cx="428616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8"/>
          <p:cNvSpPr/>
          <p:nvPr/>
        </p:nvSpPr>
        <p:spPr>
          <a:xfrm>
            <a:off x="785880" y="714240"/>
            <a:ext cx="7643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هَلْ أتَاكَ حَدِيثُ مُوس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ذْ نَادَاهُ رَبُّهُ بِالْوَادِي الْمُقَدَّسِ طُوً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اذْهَبْ إِلَى فِرْعَوْنَ إِنَّهُ طَغ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قُلْ هَلْ لَكَ إِلَى أَنْ تَزَكّ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أَهْدِيَكَ إِلَى رَبِّكَ فَتَخْشَى</a:t>
            </a:r>
            <a:r>
              <a:rPr b="0" lang="ar-SA" sz="3200" spc="-1" strike="noStrike">
                <a:solidFill>
                  <a:srgbClr val="007635"/>
                </a:solidFill>
                <a:latin typeface="Arial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أَرَاهُ الآيَةَ الْكُبْر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كَذَّبَ وَعَص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أَدْبَرَ يَسْع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حَشَرَ فَنَاد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قَالَ أَنَا رَبُّكُمُ الأعْلَى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أَخَذَهُ اللَّهُ نَكَالَ الآخِرَةِ وَالأولَى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نَّ فِي ذَلِكَ لَعِبْرَةً لِمَنْ يَخْشَى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5-26.wav" descr=""/>
          <p:cNvPicPr/>
          <p:nvPr/>
        </p:nvPicPr>
        <p:blipFill>
          <a:blip r:embed="rId2"/>
          <a:stretch/>
        </p:blipFill>
        <p:spPr>
          <a:xfrm>
            <a:off x="1035828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58559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690560" y="3071880"/>
            <a:ext cx="57218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طغیان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در برابر پروردگا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143160" y="1500120"/>
            <a:ext cx="1214640" cy="765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كَذَّبَ وَعَص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143160" y="2521080"/>
            <a:ext cx="1214640" cy="765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ثُمَّ أَدْبَرَ يَسْع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121200" y="3500280"/>
            <a:ext cx="1214280" cy="765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حَشَرَ فَنَاد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121200" y="4500720"/>
            <a:ext cx="1214280" cy="765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قَالَ أَنَا رَبُّكُمُ الأعْل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003400" y="2500200"/>
            <a:ext cx="854280" cy="1785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أَخَذَهُ اللَّهُ نَكَالَ الآخِرَةِ وَالأول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786280" y="1500120"/>
            <a:ext cx="1500480" cy="77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B Badr"/>
              </a:rPr>
              <a:t>إِذْ نَادَاهُ رَبُّهُ بِالْوَادِي الْمُقَدَّسِ طُوً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786280" y="2516040"/>
            <a:ext cx="1500480" cy="77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اذْهَبْ إِلَى فِرْعَوْنَ إِنَّهُ طَغ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5786280" y="3516480"/>
            <a:ext cx="1500480" cy="769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قُلْ هَلْ لَكَ إِلَى أَنْ تَزَكّ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5786280" y="4516560"/>
            <a:ext cx="1500480" cy="769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أَهْدِيَكَ إِلَى رَبِّكَ فَتَخْش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643280" y="2857680"/>
            <a:ext cx="857520" cy="1071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أَرَاهُ الآيَةَ الْكُبْر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7572240" y="2870280"/>
            <a:ext cx="857520" cy="1106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هَلْ أتَاكَ حَدِيثُ مُوس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857160" y="2502000"/>
            <a:ext cx="852480" cy="1785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إِنَّ فِي ذَلِكَ لَعِبْرَةً لِمَنْ يَخْش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7278840" y="1500120"/>
            <a:ext cx="293400" cy="3786120"/>
          </a:xfrm>
          <a:custGeom>
            <a:avLst/>
            <a:gdLst>
              <a:gd name="textAreaLeft" fmla="*/ 0 w 293400"/>
              <a:gd name="textAreaRight" fmla="*/ 105840 w 293400"/>
              <a:gd name="textAreaTop" fmla="*/ 44280 h 3786120"/>
              <a:gd name="textAreaBottom" fmla="*/ 3741840 h 37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6"/>
                  <a:pt x="10800" y="812"/>
                </a:cubicBezTo>
                <a:lnTo>
                  <a:pt x="10800" y="9988"/>
                </a:lnTo>
                <a:cubicBezTo>
                  <a:pt x="10800" y="10394"/>
                  <a:pt x="16200" y="10800"/>
                  <a:pt x="21600" y="10800"/>
                </a:cubicBezTo>
                <a:cubicBezTo>
                  <a:pt x="16200" y="10800"/>
                  <a:pt x="10800" y="11206"/>
                  <a:pt x="10800" y="11612"/>
                </a:cubicBezTo>
                <a:lnTo>
                  <a:pt x="10800" y="20788"/>
                </a:lnTo>
                <a:cubicBezTo>
                  <a:pt x="10800" y="211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4357800" y="1500120"/>
            <a:ext cx="285480" cy="3786120"/>
          </a:xfrm>
          <a:custGeom>
            <a:avLst/>
            <a:gdLst>
              <a:gd name="textAreaLeft" fmla="*/ 0 w 285480"/>
              <a:gd name="textAreaRight" fmla="*/ 102960 w 285480"/>
              <a:gd name="textAreaTop" fmla="*/ 27360 h 3786120"/>
              <a:gd name="textAreaBottom" fmla="*/ 3758760 h 37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5505480" y="1500120"/>
            <a:ext cx="280800" cy="3786120"/>
          </a:xfrm>
          <a:custGeom>
            <a:avLst/>
            <a:gdLst>
              <a:gd name="textAreaLeft" fmla="*/ 179280 w 280800"/>
              <a:gd name="textAreaRight" fmla="*/ 281160 w 280800"/>
              <a:gd name="textAreaTop" fmla="*/ 52200 h 3786120"/>
              <a:gd name="textAreaBottom" fmla="*/ 373392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6"/>
                  <a:pt x="10800" y="952"/>
                </a:cubicBezTo>
                <a:lnTo>
                  <a:pt x="10800" y="9848"/>
                </a:lnTo>
                <a:cubicBezTo>
                  <a:pt x="10800" y="10324"/>
                  <a:pt x="5400" y="10800"/>
                  <a:pt x="0" y="10800"/>
                </a:cubicBezTo>
                <a:cubicBezTo>
                  <a:pt x="5400" y="10800"/>
                  <a:pt x="10800" y="11276"/>
                  <a:pt x="10800" y="11752"/>
                </a:cubicBezTo>
                <a:lnTo>
                  <a:pt x="10800" y="20648"/>
                </a:lnTo>
                <a:cubicBezTo>
                  <a:pt x="10800" y="211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2857680" y="150012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34560 h 3786120"/>
              <a:gd name="textAreaBottom" fmla="*/ 375156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3"/>
                </a:cubicBezTo>
                <a:lnTo>
                  <a:pt x="10800" y="10167"/>
                </a:lnTo>
                <a:cubicBezTo>
                  <a:pt x="10800" y="10484"/>
                  <a:pt x="5400" y="10800"/>
                  <a:pt x="0" y="10800"/>
                </a:cubicBezTo>
                <a:cubicBezTo>
                  <a:pt x="5400" y="10800"/>
                  <a:pt x="10800" y="11117"/>
                  <a:pt x="10800" y="11433"/>
                </a:cubicBezTo>
                <a:lnTo>
                  <a:pt x="10800" y="20967"/>
                </a:lnTo>
                <a:cubicBezTo>
                  <a:pt x="10800" y="212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714680" y="2500200"/>
            <a:ext cx="285480" cy="1785960"/>
          </a:xfrm>
          <a:custGeom>
            <a:avLst/>
            <a:gdLst>
              <a:gd name="textAreaLeft" fmla="*/ 182520 w 285480"/>
              <a:gd name="textAreaRight" fmla="*/ 285840 w 285480"/>
              <a:gd name="textAreaTop" fmla="*/ 45360 h 1785960"/>
              <a:gd name="textAreaBottom" fmla="*/ 1740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3"/>
                  <a:pt x="10800" y="1765"/>
                </a:cubicBezTo>
                <a:lnTo>
                  <a:pt x="10800" y="9035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3"/>
                  <a:pt x="10800" y="12565"/>
                </a:cubicBezTo>
                <a:lnTo>
                  <a:pt x="10800" y="19835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1116000" y="3933720"/>
            <a:ext cx="69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2  Lotus"/>
              </a:rPr>
              <a:t>عبرتی برای هرکس که خشیت پروردگار پیشه کند و بنای تزکّی از طغیان داشته باش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2  Lotu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-3934440" y="1700280"/>
            <a:ext cx="170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گرفتاری فرعون طغیانگر در دنیا و آخر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237760" y="1925640"/>
            <a:ext cx="466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00200" y="3936960"/>
            <a:ext cx="4132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7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811800" y="2874960"/>
            <a:ext cx="75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0"/>
          <p:cNvSpPr/>
          <p:nvPr/>
        </p:nvSpPr>
        <p:spPr>
          <a:xfrm>
            <a:off x="928800" y="963720"/>
            <a:ext cx="7286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أَأَنْتُمْ أَشَدُّ خَلْقًا أَمِ السَّمَاءُ بَنَاهَا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رَفَعَ سَمْكَهَا فَسَوَّاهَا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أَغْطَشَ لَيْلَهَا وَأَخْرَجَ ضُحَاهَا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الأرْضَ بَعْدَ ذَلِكَ دَحَاهَا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أَخْرَجَ مِنْهَا مَاءَهَا وَمَرْعَاهَا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١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الْجِبَالَ أَرْسَاهَا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٢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مَتَاعًا لَكُمْ وَلأنْعَامِكُمْ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٣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27-33.wav" descr=""/>
          <p:cNvPicPr/>
          <p:nvPr/>
        </p:nvPicPr>
        <p:blipFill>
          <a:blip r:embed="rId2"/>
          <a:stretch/>
        </p:blipFill>
        <p:spPr>
          <a:xfrm>
            <a:off x="1014408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3725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10880" y="2921040"/>
            <a:ext cx="892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4"/>
          <p:cNvSpPr/>
          <p:nvPr/>
        </p:nvSpPr>
        <p:spPr>
          <a:xfrm>
            <a:off x="6302520" y="3143160"/>
            <a:ext cx="212724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أَأَنْتُمْ أَشَدُّ خَلْقًا أَمِ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2  Badr"/>
              </a:rPr>
              <a:t>.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3218040" y="811080"/>
            <a:ext cx="2782800" cy="365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السَّمَاءُ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3218040" y="1378080"/>
            <a:ext cx="2782800" cy="365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بَنَاهَ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3218040" y="1932120"/>
            <a:ext cx="2782800" cy="365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رَفَعَ سَمْكَهَا فَسَوَّاهَ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3218040" y="2492280"/>
            <a:ext cx="2782800" cy="436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وَأَغْطَشَ لَيْلَهَا وَأَخْرَجَ ضُحَاهَا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29"/>
          <p:cNvCxnSpPr>
            <a:stCxn id="145" idx="2"/>
            <a:endCxn id="146" idx="0"/>
          </p:cNvCxnSpPr>
          <p:nvPr/>
        </p:nvCxnSpPr>
        <p:spPr>
          <a:xfrm flipH="1">
            <a:off x="4607640" y="1177920"/>
            <a:ext cx="252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30"/>
          <p:cNvCxnSpPr>
            <a:stCxn id="146" idx="2"/>
            <a:endCxn id="147" idx="0"/>
          </p:cNvCxnSpPr>
          <p:nvPr/>
        </p:nvCxnSpPr>
        <p:spPr>
          <a:xfrm flipH="1">
            <a:off x="4607640" y="1744200"/>
            <a:ext cx="252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31"/>
          <p:cNvCxnSpPr>
            <a:stCxn id="147" idx="2"/>
            <a:endCxn id="148" idx="0"/>
          </p:cNvCxnSpPr>
          <p:nvPr/>
        </p:nvCxnSpPr>
        <p:spPr>
          <a:xfrm flipH="1">
            <a:off x="4607640" y="2298240"/>
            <a:ext cx="252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Rectangle 32"/>
          <p:cNvSpPr/>
          <p:nvPr/>
        </p:nvSpPr>
        <p:spPr>
          <a:xfrm>
            <a:off x="3218040" y="3278160"/>
            <a:ext cx="2782800" cy="365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وَالأرْضَ بَعْدَ ذَلِك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3218040" y="3855960"/>
            <a:ext cx="278280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دَحَاهَ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4"/>
          <p:cNvSpPr/>
          <p:nvPr/>
        </p:nvSpPr>
        <p:spPr>
          <a:xfrm>
            <a:off x="3218040" y="4395960"/>
            <a:ext cx="2782800" cy="390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أَخْرَجَ مِنْهَا مَاءَهَا وَمَرْعَاهَا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3218040" y="5135400"/>
            <a:ext cx="2782800" cy="436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وَالْجِبَال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3214800" y="5707080"/>
            <a:ext cx="2782800" cy="365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أَرْسَاهَ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37"/>
          <p:cNvCxnSpPr>
            <a:stCxn id="152" idx="2"/>
            <a:endCxn id="153" idx="0"/>
          </p:cNvCxnSpPr>
          <p:nvPr/>
        </p:nvCxnSpPr>
        <p:spPr>
          <a:xfrm flipH="1">
            <a:off x="4607640" y="3644640"/>
            <a:ext cx="252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38"/>
          <p:cNvCxnSpPr>
            <a:stCxn id="153" idx="2"/>
            <a:endCxn id="154" idx="0"/>
          </p:cNvCxnSpPr>
          <p:nvPr/>
        </p:nvCxnSpPr>
        <p:spPr>
          <a:xfrm flipH="1">
            <a:off x="4607640" y="4215960"/>
            <a:ext cx="2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39"/>
          <p:cNvCxnSpPr>
            <a:stCxn id="154" idx="2"/>
            <a:endCxn id="155" idx="0"/>
          </p:cNvCxnSpPr>
          <p:nvPr/>
        </p:nvCxnSpPr>
        <p:spPr>
          <a:xfrm flipH="1">
            <a:off x="4607640" y="4788000"/>
            <a:ext cx="25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40"/>
          <p:cNvCxnSpPr>
            <a:stCxn id="148" idx="2"/>
            <a:endCxn id="152" idx="0"/>
          </p:cNvCxnSpPr>
          <p:nvPr/>
        </p:nvCxnSpPr>
        <p:spPr>
          <a:xfrm flipH="1">
            <a:off x="4607640" y="2928960"/>
            <a:ext cx="25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AutoShape 41"/>
          <p:cNvCxnSpPr>
            <a:stCxn id="155" idx="2"/>
            <a:endCxn id="156" idx="0"/>
          </p:cNvCxnSpPr>
          <p:nvPr/>
        </p:nvCxnSpPr>
        <p:spPr>
          <a:xfrm flipH="1">
            <a:off x="4605120" y="5571720"/>
            <a:ext cx="360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42"/>
          <p:cNvSpPr/>
          <p:nvPr/>
        </p:nvSpPr>
        <p:spPr>
          <a:xfrm>
            <a:off x="714240" y="3143160"/>
            <a:ext cx="214632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مَتَاعًا لَكُمْ وَلأنْعَامِكُم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3"/>
          <p:cNvSpPr/>
          <p:nvPr/>
        </p:nvSpPr>
        <p:spPr>
          <a:xfrm>
            <a:off x="2857680" y="811080"/>
            <a:ext cx="357120" cy="5261040"/>
          </a:xfrm>
          <a:custGeom>
            <a:avLst/>
            <a:gdLst>
              <a:gd name="textAreaLeft" fmla="*/ 228240 w 357120"/>
              <a:gd name="textAreaRight" fmla="*/ 357480 w 357120"/>
              <a:gd name="textAreaTop" fmla="*/ 48960 h 5261040"/>
              <a:gd name="textAreaBottom" fmla="*/ 5212080 h 526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4"/>
                </a:cubicBezTo>
                <a:lnTo>
                  <a:pt x="10800" y="10156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4"/>
                </a:cubicBezTo>
                <a:lnTo>
                  <a:pt x="10800" y="20956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4"/>
          <p:cNvSpPr/>
          <p:nvPr/>
        </p:nvSpPr>
        <p:spPr>
          <a:xfrm rot="10800000">
            <a:off x="6000840" y="811080"/>
            <a:ext cx="285840" cy="5261040"/>
          </a:xfrm>
          <a:custGeom>
            <a:avLst/>
            <a:gdLst>
              <a:gd name="textAreaLeft" fmla="*/ 182520 w 285840"/>
              <a:gd name="textAreaRight" fmla="*/ 286200 w 285840"/>
              <a:gd name="textAreaTop" fmla="*/ 41400 h 5261040"/>
              <a:gd name="textAreaBottom" fmla="*/ 5219640 h 526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4"/>
                </a:cubicBezTo>
                <a:lnTo>
                  <a:pt x="10800" y="10256"/>
                </a:lnTo>
                <a:cubicBezTo>
                  <a:pt x="10800" y="10528"/>
                  <a:pt x="5400" y="10800"/>
                  <a:pt x="0" y="10800"/>
                </a:cubicBezTo>
                <a:cubicBezTo>
                  <a:pt x="5400" y="10800"/>
                  <a:pt x="10800" y="11072"/>
                  <a:pt x="10800" y="11344"/>
                </a:cubicBezTo>
                <a:lnTo>
                  <a:pt x="10800" y="21056"/>
                </a:lnTo>
                <a:cubicBezTo>
                  <a:pt x="10800" y="213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-6480" y="244440"/>
            <a:ext cx="904104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1403280" y="3662280"/>
            <a:ext cx="63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2  Lotus"/>
              </a:rPr>
              <a:t>با برشماری مظاهر آفرینش و دعوت او به مقایسه خودش با جهان خلق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2  Lotu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-1782000" y="1357200"/>
            <a:ext cx="127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نفی خودبرتر بینی انسان</a:t>
            </a:r>
            <a:r>
              <a:rPr b="0" lang="en-US" sz="96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1935000" y="1925640"/>
            <a:ext cx="527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چهار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546280" y="3952800"/>
            <a:ext cx="4051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4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509400" y="2874960"/>
            <a:ext cx="812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چهار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5"/>
          <p:cNvSpPr/>
          <p:nvPr/>
        </p:nvSpPr>
        <p:spPr>
          <a:xfrm>
            <a:off x="1071720" y="857160"/>
            <a:ext cx="7000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فَإِذَا جَاءَتِ الطَّامَّةُ الْكُبْرَى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٤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يَتَذَكَّرُ الإنْسَانُ مَا سَعَى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٥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بُرِّزَتِ الْجَحِيمُ لِمَنْ يَرَى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٦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مَنْ طَغَى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٧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آثَرَ الْحَيَاةَ الدُّنْيَا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٨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فَإِنَّ الْجَحِيمَ هِيَ الْمَأْوَى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٩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مَنْ خَافَ مَقَامَ رَبِّهِ وَنَهَى النَّفْسَ عَنِ الْهَوَى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٠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فَإِنَّ الْجَنَّةَ هِيَ الْمَأْوَى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١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34-41.wav" descr=""/>
          <p:cNvPicPr/>
          <p:nvPr/>
        </p:nvPicPr>
        <p:blipFill>
          <a:blip r:embed="rId2"/>
          <a:stretch/>
        </p:blipFill>
        <p:spPr>
          <a:xfrm>
            <a:off x="1042992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4891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-164160" y="2921040"/>
            <a:ext cx="94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چهار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1"/>
          <p:cNvSpPr/>
          <p:nvPr/>
        </p:nvSpPr>
        <p:spPr>
          <a:xfrm>
            <a:off x="6800760" y="1849320"/>
            <a:ext cx="1414440" cy="1293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فَإِذَا جَاءَتِ الطَّامَّةُ الْكُبْر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6788160" y="3571920"/>
            <a:ext cx="1414440" cy="142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يَوْمَ يَتَذَكَّرُ الإنْسَانُ مَا سَعَى وَبُرِّزَتِ الْجَحِيمُ لِمَنْ يَر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4838760" y="2214720"/>
            <a:ext cx="1411200" cy="865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فَأَمَّا مَنْ طَغ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3162240" y="2214720"/>
            <a:ext cx="1411200" cy="865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آثَرَ الْحَيَاةَ الدُّنْيَ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1001880" y="3706920"/>
            <a:ext cx="1857240" cy="865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2  Badr"/>
              </a:rPr>
              <a:t>فَإِنَّ الْجَنَّةَ هِيَ الْمَأْوَى يَسْأَلُونَكَ عَنِ السَّاعَةِ أَيَّانَ مُرْسَاهَ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3162240" y="3703680"/>
            <a:ext cx="1411200" cy="866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نَهَى النَّفْسَ عَنِ الْهَو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4838760" y="3706920"/>
            <a:ext cx="1411200" cy="865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أَمَّا مَنْ خَافَ مَقَامَ رَبِّهِ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28"/>
          <p:cNvCxnSpPr>
            <a:endCxn id="183" idx="3"/>
          </p:cNvCxnSpPr>
          <p:nvPr/>
        </p:nvCxnSpPr>
        <p:spPr>
          <a:xfrm rot="10800000">
            <a:off x="6249240" y="2645640"/>
            <a:ext cx="324720" cy="783360"/>
          </a:xfrm>
          <a:prstGeom prst="bentConnector3">
            <a:avLst>
              <a:gd name="adj1" fmla="val 49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endCxn id="187" idx="3"/>
          </p:cNvCxnSpPr>
          <p:nvPr/>
        </p:nvCxnSpPr>
        <p:spPr>
          <a:xfrm flipV="1" rot="10800000">
            <a:off x="6249240" y="3427920"/>
            <a:ext cx="324720" cy="710280"/>
          </a:xfrm>
          <a:prstGeom prst="bentConnector3">
            <a:avLst>
              <a:gd name="adj1" fmla="val 49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30"/>
          <p:cNvCxnSpPr>
            <a:stCxn id="183" idx="1"/>
            <a:endCxn id="184" idx="3"/>
          </p:cNvCxnSpPr>
          <p:nvPr/>
        </p:nvCxnSpPr>
        <p:spPr>
          <a:xfrm flipH="1" flipV="1">
            <a:off x="4572720" y="2646000"/>
            <a:ext cx="266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31"/>
          <p:cNvCxnSpPr>
            <a:stCxn id="187" idx="1"/>
            <a:endCxn id="186" idx="3"/>
          </p:cNvCxnSpPr>
          <p:nvPr/>
        </p:nvCxnSpPr>
        <p:spPr>
          <a:xfrm flipH="1" flipV="1">
            <a:off x="4572720" y="4136400"/>
            <a:ext cx="2660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86" idx="1"/>
            <a:endCxn id="185" idx="3"/>
          </p:cNvCxnSpPr>
          <p:nvPr/>
        </p:nvCxnSpPr>
        <p:spPr>
          <a:xfrm flipH="1">
            <a:off x="2858760" y="4136040"/>
            <a:ext cx="303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3"/>
          <p:cNvCxnSpPr>
            <a:stCxn id="183" idx="2"/>
            <a:endCxn id="187" idx="0"/>
          </p:cNvCxnSpPr>
          <p:nvPr/>
        </p:nvCxnSpPr>
        <p:spPr>
          <a:xfrm flipH="1">
            <a:off x="5543280" y="3081240"/>
            <a:ext cx="216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AutoShape 34"/>
          <p:cNvCxnSpPr>
            <a:stCxn id="184" idx="2"/>
            <a:endCxn id="186" idx="0"/>
          </p:cNvCxnSpPr>
          <p:nvPr/>
        </p:nvCxnSpPr>
        <p:spPr>
          <a:xfrm flipH="1">
            <a:off x="3866760" y="3080880"/>
            <a:ext cx="216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AutoShape 35"/>
          <p:cNvCxnSpPr>
            <a:stCxn id="181" idx="2"/>
            <a:endCxn id="182" idx="0"/>
          </p:cNvCxnSpPr>
          <p:nvPr/>
        </p:nvCxnSpPr>
        <p:spPr>
          <a:xfrm flipH="1">
            <a:off x="7495560" y="3142800"/>
            <a:ext cx="133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AutoShape 36"/>
          <p:cNvSpPr/>
          <p:nvPr/>
        </p:nvSpPr>
        <p:spPr>
          <a:xfrm>
            <a:off x="6502320" y="1857240"/>
            <a:ext cx="285840" cy="31435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2760 h 3143520"/>
              <a:gd name="textAreaBottom" fmla="*/ 3110760 h 314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2"/>
                  <a:pt x="10800" y="723"/>
                </a:cubicBezTo>
                <a:lnTo>
                  <a:pt x="10800" y="10077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2"/>
                  <a:pt x="10800" y="11523"/>
                </a:cubicBezTo>
                <a:lnTo>
                  <a:pt x="10800" y="20877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1001880" y="2214720"/>
            <a:ext cx="1857240" cy="865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فَإِنَّ الْجَحِيمَ هِيَ الْمَأْو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38"/>
          <p:cNvCxnSpPr>
            <a:stCxn id="184" idx="1"/>
            <a:endCxn id="197" idx="3"/>
          </p:cNvCxnSpPr>
          <p:nvPr/>
        </p:nvCxnSpPr>
        <p:spPr>
          <a:xfrm flipH="1" flipV="1">
            <a:off x="2858760" y="2646000"/>
            <a:ext cx="303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39"/>
          <p:cNvCxnSpPr>
            <a:stCxn id="197" idx="2"/>
            <a:endCxn id="185" idx="0"/>
          </p:cNvCxnSpPr>
          <p:nvPr/>
        </p:nvCxnSpPr>
        <p:spPr>
          <a:xfrm flipH="1">
            <a:off x="1928520" y="3081240"/>
            <a:ext cx="216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1386000" y="2690640"/>
            <a:ext cx="63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چهار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1143000" y="3429000"/>
            <a:ext cx="6912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ngsana New"/>
                <a:cs typeface="2  Badr"/>
              </a:rPr>
              <a:t>آنان که دنیا را بر آخرت ترجیح می‌دهند و طغیان می‌کنند، به سوی جهنم می</a:t>
            </a:r>
            <a:r>
              <a:rPr b="1" lang="fa-IR" sz="2800" spc="-1" strike="noStrike">
                <a:solidFill>
                  <a:srgbClr val="000000"/>
                </a:solidFill>
                <a:latin typeface="Angsana New"/>
                <a:ea typeface="2  Bad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ngsana New"/>
                <a:cs typeface="2  Badr"/>
              </a:rPr>
              <a:t>روند و آنان که نفس خود را از تمایل به پستی بازمی</a:t>
            </a:r>
            <a:r>
              <a:rPr b="1" lang="fa-IR" sz="2800" spc="-1" strike="noStrike">
                <a:solidFill>
                  <a:srgbClr val="000000"/>
                </a:solidFill>
                <a:latin typeface="Angsana New"/>
                <a:ea typeface="2  Bad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ngsana New"/>
                <a:cs typeface="2  Badr"/>
              </a:rPr>
              <a:t>دارند و از مقام خدایشان خشیت دارند، به سوی بهشت رهسپارند</a:t>
            </a:r>
            <a:r>
              <a:rPr b="1" lang="fa-IR" sz="2800" spc="-1" strike="noStrike">
                <a:solidFill>
                  <a:srgbClr val="000000"/>
                </a:solidFill>
                <a:latin typeface="Angsana New"/>
                <a:ea typeface="2  Bad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-5159160" y="1628640"/>
            <a:ext cx="194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دوزخ، جایگاه طغیانگران و بهشت، مأوای خداترس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2260440" y="1925640"/>
            <a:ext cx="462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پنج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546280" y="3952800"/>
            <a:ext cx="4051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2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834840" y="2874960"/>
            <a:ext cx="747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پنج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9"/>
          <p:cNvSpPr/>
          <p:nvPr/>
        </p:nvSpPr>
        <p:spPr>
          <a:xfrm>
            <a:off x="285840" y="498780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كَأَنَّهُمْ يَوْمَ يَرَوْنَهَا لَمْ يَلْبَثُوا إِلا عَشِيَّةً أَوْ ضُحَاهَ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٦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285840" y="107172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يَسْأَلُونَكَ عَنِ السَّاعَةِ أَيَّانَ مُرْسَاهَ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٢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285840" y="20588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ِيمَ أَنْتَ مِنْ ذِكْرَاهَ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٣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285840" y="30002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لَى رَبِّكَ مُنْتَهَاهَ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٤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285840" y="398772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نَّمَا أَنْتَ مُنْذِرُ مَنْ يَخْشَاهَ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٥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42-46.wav" descr=""/>
          <p:cNvPicPr/>
          <p:nvPr/>
        </p:nvPicPr>
        <p:blipFill>
          <a:blip r:embed="rId2"/>
          <a:stretch/>
        </p:blipFill>
        <p:spPr>
          <a:xfrm>
            <a:off x="10429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38115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88920" y="2921040"/>
            <a:ext cx="896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پنج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"/>
          <p:cNvSpPr/>
          <p:nvPr/>
        </p:nvSpPr>
        <p:spPr>
          <a:xfrm>
            <a:off x="1000080" y="2739960"/>
            <a:ext cx="7143840" cy="2013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سؤال از زمان قیامت، به قصد انکار و بی تاثیر کردن انذار رسول خدا</a:t>
            </a:r>
            <a:r>
              <a:rPr b="0" lang="fa-IR" sz="2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نسبت به آن رو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131400" y="2921040"/>
            <a:ext cx="88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پنج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854600" y="1357200"/>
            <a:ext cx="243216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يَسْأَلُونَكَ عَنِ السَّاعَةِ أَيَّانَ مُرْسَاهَ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857240" y="1357200"/>
            <a:ext cx="243072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فِيمَ أَنْتَ مِنْ ذِكْرَاهَ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857240" y="2786040"/>
            <a:ext cx="243216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إِلَى رَبِّكَ مُنْتَهَاهَ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857840" y="2786040"/>
            <a:ext cx="242892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إِنَّمَا أَنْتَ مُنْذِرُ مَنْ يَخْشَاهَ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071880" y="4286160"/>
            <a:ext cx="3000240" cy="1214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كَأَنَّهُمْ يَوْمَ يَرَوْنَهَا لَمْ يَلْبَثُوا إِلا عَشِيَّةً أَوْ ضُحَاهَ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AutoShape 8"/>
          <p:cNvCxnSpPr>
            <a:stCxn id="225" idx="2"/>
            <a:endCxn id="226" idx="0"/>
          </p:cNvCxnSpPr>
          <p:nvPr/>
        </p:nvCxnSpPr>
        <p:spPr>
          <a:xfrm>
            <a:off x="3071880" y="235692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"/>
          <p:cNvCxnSpPr>
            <a:stCxn id="224" idx="1"/>
            <a:endCxn id="225" idx="3"/>
          </p:cNvCxnSpPr>
          <p:nvPr/>
        </p:nvCxnSpPr>
        <p:spPr>
          <a:xfrm flipH="1" flipV="1">
            <a:off x="4287600" y="1856520"/>
            <a:ext cx="567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10"/>
          <p:cNvCxnSpPr>
            <a:stCxn id="224" idx="2"/>
            <a:endCxn id="227" idx="0"/>
          </p:cNvCxnSpPr>
          <p:nvPr/>
        </p:nvCxnSpPr>
        <p:spPr>
          <a:xfrm>
            <a:off x="6070680" y="235692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AutoShape 11"/>
          <p:cNvSpPr/>
          <p:nvPr/>
        </p:nvSpPr>
        <p:spPr>
          <a:xfrm rot="16200000">
            <a:off x="4393440" y="1321560"/>
            <a:ext cx="357120" cy="5429520"/>
          </a:xfrm>
          <a:custGeom>
            <a:avLst/>
            <a:gdLst>
              <a:gd name="textAreaLeft" fmla="*/ 228240 w 357120"/>
              <a:gd name="textAreaRight" fmla="*/ 357480 w 357120"/>
              <a:gd name="textAreaTop" fmla="*/ 54720 h 5429520"/>
              <a:gd name="textAreaBottom" fmla="*/ 5374800 h 542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700"/>
                </a:cubicBezTo>
                <a:lnTo>
                  <a:pt x="10800" y="10100"/>
                </a:lnTo>
                <a:cubicBezTo>
                  <a:pt x="10800" y="10450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500"/>
                </a:cubicBezTo>
                <a:lnTo>
                  <a:pt x="10800" y="20900"/>
                </a:lnTo>
                <a:cubicBezTo>
                  <a:pt x="10800" y="212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"/>
          <p:cNvSpPr/>
          <p:nvPr/>
        </p:nvSpPr>
        <p:spPr>
          <a:xfrm>
            <a:off x="1251000" y="2690640"/>
            <a:ext cx="664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پنج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"/>
          <p:cNvSpPr/>
          <p:nvPr/>
        </p:nvSpPr>
        <p:spPr>
          <a:xfrm>
            <a:off x="1476360" y="3860640"/>
            <a:ext cx="619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2  Lotus"/>
              </a:rPr>
              <a:t>با بیان جایگاه پیامبر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2  Lotu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2  Lotus"/>
              </a:rPr>
              <a:t>به عنوان منذر قیامت و تأکید بر نزدیکی زمان برپایی قیام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2  Lotu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-3984840" y="1628640"/>
            <a:ext cx="1711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نثی سازی، آخرین حربه منکران قیامت</a:t>
            </a:r>
            <a:r>
              <a:rPr b="0" lang="en-US" sz="8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1214280" y="3000240"/>
            <a:ext cx="6715440" cy="1556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طغیان در اثر دنیاگرایی ونمود آن در تکذیب مع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_s1037"/>
          <p:cNvSpPr/>
          <p:nvPr/>
        </p:nvSpPr>
        <p:spPr>
          <a:xfrm>
            <a:off x="2435400" y="3933720"/>
            <a:ext cx="1212840" cy="1138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B Zar"/>
              </a:rPr>
              <a:t>سیاق چهار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34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_s1049"/>
          <p:cNvSpPr/>
          <p:nvPr/>
        </p:nvSpPr>
        <p:spPr>
          <a:xfrm>
            <a:off x="5462640" y="3933720"/>
            <a:ext cx="1212840" cy="1138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B Zar"/>
              </a:rPr>
              <a:t>سیاق دو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15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_s1061"/>
          <p:cNvSpPr/>
          <p:nvPr/>
        </p:nvSpPr>
        <p:spPr>
          <a:xfrm>
            <a:off x="6948360" y="3933720"/>
            <a:ext cx="1212840" cy="1138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B Zar"/>
              </a:rPr>
              <a:t>سیاق ا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_s1069"/>
          <p:cNvSpPr/>
          <p:nvPr/>
        </p:nvSpPr>
        <p:spPr>
          <a:xfrm>
            <a:off x="971640" y="3895560"/>
            <a:ext cx="1212840" cy="1141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B Zar"/>
              </a:rPr>
              <a:t>سیاق پنج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42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_s1079"/>
          <p:cNvSpPr/>
          <p:nvPr/>
        </p:nvSpPr>
        <p:spPr>
          <a:xfrm>
            <a:off x="2735280" y="1714680"/>
            <a:ext cx="3540240" cy="817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IranNastaliq"/>
                <a:cs typeface="B Jadid"/>
              </a:rPr>
              <a:t>سوره مبارکه ناز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متصل کننده پیکان مستقیم 7"/>
          <p:cNvCxnSpPr>
            <a:stCxn id="56" idx="2"/>
            <a:endCxn id="54" idx="0"/>
          </p:cNvCxnSpPr>
          <p:nvPr/>
        </p:nvCxnSpPr>
        <p:spPr>
          <a:xfrm>
            <a:off x="4504320" y="2531880"/>
            <a:ext cx="3050280" cy="140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متصل کننده پیکان مستقیم 8"/>
          <p:cNvCxnSpPr>
            <a:stCxn id="56" idx="2"/>
            <a:endCxn id="53" idx="0"/>
          </p:cNvCxnSpPr>
          <p:nvPr/>
        </p:nvCxnSpPr>
        <p:spPr>
          <a:xfrm>
            <a:off x="4504320" y="2531880"/>
            <a:ext cx="1564200" cy="140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متصل کننده پیکان مستقیم 9"/>
          <p:cNvCxnSpPr>
            <a:stCxn id="56" idx="2"/>
            <a:endCxn id="52" idx="0"/>
          </p:cNvCxnSpPr>
          <p:nvPr/>
        </p:nvCxnSpPr>
        <p:spPr>
          <a:xfrm flipH="1">
            <a:off x="3041280" y="2531880"/>
            <a:ext cx="1464480" cy="140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متصل کننده پیکان مستقیم 10"/>
          <p:cNvCxnSpPr>
            <a:stCxn id="56" idx="2"/>
            <a:endCxn id="55" idx="0"/>
          </p:cNvCxnSpPr>
          <p:nvPr/>
        </p:nvCxnSpPr>
        <p:spPr>
          <a:xfrm flipH="1">
            <a:off x="1577520" y="2531880"/>
            <a:ext cx="2928240" cy="136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_s1049"/>
          <p:cNvSpPr/>
          <p:nvPr/>
        </p:nvSpPr>
        <p:spPr>
          <a:xfrm>
            <a:off x="3898800" y="3933720"/>
            <a:ext cx="1212840" cy="1138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B Zar"/>
              </a:rPr>
              <a:t>سیاق سو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27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ea typeface="B Zar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متصل کننده پیکان مستقیم 19"/>
          <p:cNvCxnSpPr>
            <a:stCxn id="56" idx="2"/>
            <a:endCxn id="61" idx="0"/>
          </p:cNvCxnSpPr>
          <p:nvPr/>
        </p:nvCxnSpPr>
        <p:spPr>
          <a:xfrm flipH="1">
            <a:off x="4504680" y="2531880"/>
            <a:ext cx="1080" cy="140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_s1038"/>
          <p:cNvSpPr/>
          <p:nvPr/>
        </p:nvSpPr>
        <p:spPr>
          <a:xfrm>
            <a:off x="6875640" y="2738520"/>
            <a:ext cx="1319040" cy="328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آیه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 -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تأکید بر وقوع معا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B Lotus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در پاسخ به کسانی که بیان قرآن را در خصوص ترس و سرافکندگی بعید شماران و سخت پنداران معاد به سخره گرفتند و به هشدار الهی توجهی نکردند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_s1050"/>
          <p:cNvSpPr/>
          <p:nvPr/>
        </p:nvSpPr>
        <p:spPr>
          <a:xfrm>
            <a:off x="5373720" y="2746440"/>
            <a:ext cx="1319040" cy="3284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آیه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 -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گرفتاری فرعون طغیانگر در دنیا و آخر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B Lotus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عبرتی برای هرکس که خشیت پروردگار پیشه کند و بنای تزکّی از طغیان داشته باشد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_s1062"/>
          <p:cNvSpPr/>
          <p:nvPr/>
        </p:nvSpPr>
        <p:spPr>
          <a:xfrm>
            <a:off x="3911760" y="2728800"/>
            <a:ext cx="1320480" cy="3286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آیه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27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 -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نفی خودبرتر بینی انسان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B Lotu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با برشماری مظاهر آفرینش و دعوت او به مقایسه خودش با جهان خلق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_s1074"/>
          <p:cNvSpPr/>
          <p:nvPr/>
        </p:nvSpPr>
        <p:spPr>
          <a:xfrm>
            <a:off x="2411280" y="2722680"/>
            <a:ext cx="1320840" cy="328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آیه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34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 -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ngsana New"/>
                <a:cs typeface="B Lotus"/>
              </a:rPr>
              <a:t>دوزخ، جایگاه طغیانگران و بهشت، مأوای خداترس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2  Badr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Angsana New"/>
                <a:cs typeface="2  Badr"/>
              </a:rPr>
              <a:t>آنان که دنیا را بر آخرت ترجیح می‌دهند و طغیان می‌کنند، به سوی جهنم می</a:t>
            </a:r>
            <a:r>
              <a:rPr b="0" lang="fa-IR" sz="1400" spc="-1" strike="noStrike">
                <a:solidFill>
                  <a:srgbClr val="000000"/>
                </a:solidFill>
                <a:latin typeface="Angsana New"/>
                <a:ea typeface="2  Badr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Angsana New"/>
                <a:cs typeface="2  Badr"/>
              </a:rPr>
              <a:t>روند و آنان که نفس خود را از تمایل به پستی بازمی</a:t>
            </a:r>
            <a:r>
              <a:rPr b="0" lang="fa-IR" sz="1400" spc="-1" strike="noStrike">
                <a:solidFill>
                  <a:srgbClr val="000000"/>
                </a:solidFill>
                <a:latin typeface="Angsana New"/>
                <a:ea typeface="2  Badr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Angsana New"/>
                <a:cs typeface="2  Badr"/>
              </a:rPr>
              <a:t>دارند و از مقام خدایشان خشیت دارند، به سوی بهشت رهسپارند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2  Badr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_s1086"/>
          <p:cNvSpPr/>
          <p:nvPr/>
        </p:nvSpPr>
        <p:spPr>
          <a:xfrm>
            <a:off x="900000" y="2708280"/>
            <a:ext cx="1317600" cy="3286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آیه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42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 -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B Lotu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Lotus"/>
              </a:rPr>
              <a:t>خنثی سازی، آخرین حربه منکران قیامت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B Lotu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با بیان جایگاه پیامبر</a:t>
            </a:r>
            <a:r>
              <a:rPr b="0" lang="fa-IR" sz="14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0" lang="fa-IR" sz="14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0" lang="fa-IR" sz="1400" spc="-1" strike="noStrike">
                <a:solidFill>
                  <a:srgbClr val="000000"/>
                </a:solidFill>
                <a:latin typeface="Alaem"/>
                <a:ea typeface="Alaem"/>
              </a:rPr>
              <a:t></a:t>
            </a:r>
            <a:r>
              <a:rPr b="0" lang="ar-SA" sz="1400" spc="-1" strike="noStrike">
                <a:solidFill>
                  <a:srgbClr val="000000"/>
                </a:solidFill>
                <a:latin typeface="Alaem"/>
                <a:ea typeface="Alaem"/>
              </a:rPr>
              <a:t>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به عنوان منذر قیامت و تأکید بر نزدیکی زمان برپایی قیام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98"/>
          <p:cNvSpPr/>
          <p:nvPr/>
        </p:nvSpPr>
        <p:spPr>
          <a:xfrm>
            <a:off x="1714680" y="765000"/>
            <a:ext cx="5715000" cy="156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B Lotus"/>
              </a:rPr>
              <a:t>مقابله با طغیان دربرابر خدا و دعوت به خشیت از او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B Lot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ngsana New"/>
                <a:cs typeface="B Lotus"/>
              </a:rPr>
              <a:t>طغیان دربرابر خدا از دنیاگرایی نشأت می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B Lotus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ngsana New"/>
                <a:cs typeface="B Lotus"/>
              </a:rPr>
              <a:t>گیرد و با انکار معاد ظهور می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B Lotus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ngsana New"/>
                <a:cs typeface="B Lotus"/>
              </a:rPr>
              <a:t>یابد و عاقبتی جز عذاب ندارد. منشأ خشیت از خدا، تزکیه و خودداری از هوای نفس است که انسان را به بهشت رهنمون می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B Lotus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ngsana New"/>
                <a:cs typeface="B Lotus"/>
              </a:rPr>
              <a:t>گردد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B Lotu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متصل کننده لولایی 10"/>
          <p:cNvCxnSpPr>
            <a:stCxn id="245" idx="0"/>
            <a:endCxn id="250" idx="2"/>
          </p:cNvCxnSpPr>
          <p:nvPr/>
        </p:nvCxnSpPr>
        <p:spPr>
          <a:xfrm flipH="1" flipV="1">
            <a:off x="4571280" y="2332800"/>
            <a:ext cx="2964600" cy="40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متصل کننده لولایی 12"/>
          <p:cNvCxnSpPr>
            <a:stCxn id="246" idx="0"/>
            <a:endCxn id="250" idx="2"/>
          </p:cNvCxnSpPr>
          <p:nvPr/>
        </p:nvCxnSpPr>
        <p:spPr>
          <a:xfrm flipH="1" flipV="1">
            <a:off x="4571280" y="2332800"/>
            <a:ext cx="1462680" cy="41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متصل کننده لولایی 14"/>
          <p:cNvCxnSpPr>
            <a:stCxn id="247" idx="0"/>
            <a:endCxn id="250" idx="2"/>
          </p:cNvCxnSpPr>
          <p:nvPr/>
        </p:nvCxnSpPr>
        <p:spPr>
          <a:xfrm flipV="1">
            <a:off x="4570560" y="2334960"/>
            <a:ext cx="3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متصل کننده لولایی 16"/>
          <p:cNvCxnSpPr>
            <a:stCxn id="248" idx="0"/>
            <a:endCxn id="250" idx="2"/>
          </p:cNvCxnSpPr>
          <p:nvPr/>
        </p:nvCxnSpPr>
        <p:spPr>
          <a:xfrm flipV="1">
            <a:off x="3070800" y="2332800"/>
            <a:ext cx="1500840" cy="3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متصل کننده لولایی 20"/>
          <p:cNvCxnSpPr>
            <a:stCxn id="249" idx="0"/>
            <a:endCxn id="250" idx="2"/>
          </p:cNvCxnSpPr>
          <p:nvPr/>
        </p:nvCxnSpPr>
        <p:spPr>
          <a:xfrm flipV="1">
            <a:off x="1558800" y="2332800"/>
            <a:ext cx="301392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357120" y="387360"/>
            <a:ext cx="8429760" cy="662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ازِعَاتِ غَرْقًا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اشِطَاتِ نَشْطًا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ابِحَاتِ سَبْحًا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السَّابِقَاتِ سَبْقًا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الْمُدَبِّرَاتِ أَمْرًا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تَرْجُفُ الرَّاجِفَةُ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تَتْبَع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ُهَا الرَّادِفَةُ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قُلُوبٌ يَوْمَئِذٍ وَاجِفَةٌ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بْصَارُهَا خَاشِعَةٌ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يَقُولُونَ أَئِنَّا لَمَرْدُودُونَ فِي الْحَافِرَةِ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ئِذَا كُنَّا عِظَامًا نَخِرَةً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قَالُوا تِلْكَ إِذًا كَرَّةٌ خَاسِرَةٌ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إِنَّمَا هِيَ زَجْرَةٌ وَاحِدَةٌ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إِذَا هُمْ بِالسَّاهِرَةِ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هَلْ أتَاكَ حَدِيثُ مُوسَ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إِذْ نَادَاهُ رَبُّهُ بِالْوَادِي الْمُقَدَّسِ طُوً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اذْهَبْ إِلَى فِرْعَوْنَ إِنَّهُ طَغَ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قُلْ هَلْ لَكَ إِلَى أَنْ تَزَكَّ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وَأَهْدِيَكَ إِلَى رَبِّكَ فَتَخْشَ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أَرَاهُ الآيَةَ الْكُبْرَ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كَذَّبَ وَعَصَ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أَدْبَرَ يَسْعَ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حَشَرَ فَنَادَى 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0001160" y="285840"/>
            <a:ext cx="8429760" cy="72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قَالَ أَنَا رَبُّكُمُ الأعْل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أَخَذَهُ اللَّهُ نَكَالَ الآخِرَةِ وَالأول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 فِي ذَلِكَ لَعِبْرَةً لِمَنْ يَخْش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أَأَنْتُمْ أَشَدُّ خَلْقًا أَمِ السَّمَاءُ بَن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رَفَعَ سَمْكَهَا فَسَوّ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أَغْطَشَ لَيْلَهَا وَأَخْرَجَ ضُح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أرْضَ بَعْدَ ذَلِكَ دَح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أَخْرَجَ مِنْهَا مَاءَهَا وَمَرْع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١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ْجِبَالَ أَرْس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٢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مَتَاعًا لَكُمْ وَلأنْعَامِكُمْ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٣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إِذَا جَاءَتِ الطَّامَّةُ الْكُبْر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يَتَذَكَّرُ الإنْسَانُ مَا سَع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بُرِّزَتِ الْجَحِيمُ لِمَنْ يَر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مَنْ طَغ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آثَرَ الْحَيَاةَ الدُّنْي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٨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إِنَّ الْجَحِيمَ هِيَ الْمَأْو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٩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مَنْ خَافَ مَقَامَ رَبِّهِ وَنَهَى النَّفْسَ عَنِ الْهَو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٠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إِنَّ الْجَنَّةَ هِيَ الْمَأْوَى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١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يَسْأَلُونَكَ عَنِ السَّاعَةِ أَيَّانَ مُرْس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٢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ِيمَ أَنْتَ مِنْ ذِكْر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٣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لَى رَبِّكَ مُنْتَه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مَا أَنْتَ مُنْذِرُ مَنْ يَخْش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كَأَنَّهُمْ يَوْمَ يَرَوْنَهَا لَمْ يَلْبَثُوا إِلا عَشِيَّةً أَوْ ضُحَاهَ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1-23.wav" descr=""/>
          <p:cNvPicPr/>
          <p:nvPr/>
        </p:nvPicPr>
        <p:blipFill>
          <a:blip r:embed="rId2"/>
          <a:stretch/>
        </p:blipFill>
        <p:spPr>
          <a:xfrm>
            <a:off x="1107288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2" name="24-46.wav" descr=""/>
          <p:cNvPicPr/>
          <p:nvPr/>
        </p:nvPicPr>
        <p:blipFill>
          <a:blip r:embed="rId3"/>
          <a:stretch/>
        </p:blipFill>
        <p:spPr>
          <a:xfrm>
            <a:off x="1057284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2" dur="113454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13954"/>
                            </p:stCondLst>
                            <p:childTnLst>
                              <p:par>
                                <p:cTn id="9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-1.04688 0.00185 E">
                                      <p:cBhvr>
                                        <p:cTn id="985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5954"/>
                            </p:stCondLst>
                            <p:childTnLst>
                              <p:par>
                                <p:cTn id="9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8" dur="141619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2119320" y="1214280"/>
            <a:ext cx="48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</a:t>
            </a:r>
            <a:r>
              <a:rPr b="0" lang="en-US" sz="8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000080" y="3000240"/>
            <a:ext cx="7143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(normal text)"/>
                <a:cs typeface="2  Lotus"/>
              </a:rPr>
              <a:t>نفس ما را از حب دنيا رهايي بخش و با مقام بلند خودت آشنا كن، تا در اين دنيا با خشيت از تو زندگي كنيم و در آخرت به بهشت برين داخل شوي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897280" y="3936960"/>
            <a:ext cx="3349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Calibri"/>
                <a:cs typeface="2  Davat"/>
              </a:rPr>
              <a:t>آیات 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2  Davat"/>
              </a:rPr>
              <a:t>1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2  Davat"/>
              </a:rPr>
              <a:t> تا 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2  Davat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8"/>
          <p:cNvSpPr/>
          <p:nvPr/>
        </p:nvSpPr>
        <p:spPr>
          <a:xfrm>
            <a:off x="1000080" y="666720"/>
            <a:ext cx="714384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ازِعَاتِ غَرْقًا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اشِطَاتِ نَشْطًا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ابِحَاتِ سَبْحًا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السَّابِقَاتِ سَبْقًا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الْمُدَبِّرَاتِ أَمْرًا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تَرْجُفُ الرَّاجِفَةُ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تَتْبَع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ُهَا الرَّادِفَةُ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قُلُوبٌ يَوْمَئِذٍ وَاجِفَةٌ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أَبْصَارُهَا خَاشِعَةٌ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يَقُولُونَ أَئِنَّا لَمَرْدُودُونَ فِي الْحَافِرَةِ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أَئِذَا كُنَّا عِظَامًا نَخِرَةً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قَالُوا تِلْكَ إِذًا كَرَّةٌ خَاسِرَةٌ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إِنَّمَا هِيَ زَجْرَةٌ وَاحِدَةٌ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إِذَا هُمْ بِالسَّاهِرَةِ 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9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-14.wav" descr=""/>
          <p:cNvPicPr/>
          <p:nvPr/>
        </p:nvPicPr>
        <p:blipFill>
          <a:blip r:embed="rId2"/>
          <a:stretch/>
        </p:blipFill>
        <p:spPr>
          <a:xfrm>
            <a:off x="1035828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7245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262440" y="2921040"/>
            <a:ext cx="86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19:11Z</dcterms:modified>
  <cp:revision>119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