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65C6-6C97-4739-B6AE-8D5150440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مسخره شدن مؤمنین توسط مطففی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نگهدارنده مکان شماره اسلاید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2F67-D601-4485-9735-F5FA752C9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A37-AADE-4E82-8359-6D72C130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D0D-90CF-4C94-BA22-784ED145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D200-B64D-4F63-9438-1C27B29E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65C-73E2-4886-A4BF-71AB3352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39A4-DDDA-4D9A-BBCE-4979797B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3DA-2B0B-4BB8-B72E-B3A8C49C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7F4-90D8-4F05-9E00-308DA2DB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BE0-F045-4AB6-A4BA-3CFB1372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62F-B96B-4B60-BE67-5215B0ED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981-C23D-4AEB-A75C-8A32CB16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8BC-008D-41A7-AF48-8B1E861D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5C20-2FB7-4199-B1E1-41375D69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89B6-7670-4DE2-A937-2B69BE06463E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2" descr=""/>
          <p:cNvPicPr/>
          <p:nvPr/>
        </p:nvPicPr>
        <p:blipFill>
          <a:blip r:embed="rId2"/>
          <a:stretch/>
        </p:blipFill>
        <p:spPr>
          <a:xfrm>
            <a:off x="6589800" y="590400"/>
            <a:ext cx="3139920" cy="5432400"/>
          </a:xfrm>
          <a:prstGeom prst="rect">
            <a:avLst/>
          </a:prstGeom>
          <a:ln w="0">
            <a:noFill/>
          </a:ln>
        </p:spPr>
      </p:pic>
      <p:pic>
        <p:nvPicPr>
          <p:cNvPr id="50" name="besm.wav" descr=""/>
          <p:cNvPicPr/>
          <p:nvPr/>
        </p:nvPicPr>
        <p:blipFill>
          <a:blip r:embed="rId3"/>
          <a:stretch/>
        </p:blipFill>
        <p:spPr>
          <a:xfrm>
            <a:off x="1092996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0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675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2438640" y="506520"/>
            <a:ext cx="426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بِسْمِ اللَّهِ الرَّحْمَنِ الرَّحِ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99960" y="1406520"/>
            <a:ext cx="83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يْلٌ لِلْمُطَفِّفِينَ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69720" y="437508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أَلا يَظُنُّ أُولَئِكَ أَنَّهُمْ مَبْعُوثُونَ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٤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8"/>
          <p:cNvSpPr/>
          <p:nvPr/>
        </p:nvSpPr>
        <p:spPr>
          <a:xfrm>
            <a:off x="428760" y="528624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لِيَوْمٍ عَظِيمٍ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٥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يَوْمَ يَقُومُ النَّاسُ لِرَبِّ الْعَالَمِينَ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٦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9"/>
          <p:cNvSpPr/>
          <p:nvPr/>
        </p:nvSpPr>
        <p:spPr>
          <a:xfrm>
            <a:off x="360360" y="340344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إِذَا كَالُوهُمْ أَوْ وَزَنُوهُمْ يُخْسِرُونَ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٣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369720" y="243036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الَّذِينَ إِذَا اكْتَالُوا عَلَى النَّاسِ يَسْتَوْفُونَ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٢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1-6.wav" descr=""/>
          <p:cNvPicPr/>
          <p:nvPr/>
        </p:nvPicPr>
        <p:blipFill>
          <a:blip r:embed="rId2"/>
          <a:stretch/>
        </p:blipFill>
        <p:spPr>
          <a:xfrm>
            <a:off x="10501200" y="428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51259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262440" y="2921040"/>
            <a:ext cx="86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1428840" y="2602080"/>
            <a:ext cx="6286320" cy="1739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2  Lotus"/>
              </a:rPr>
              <a:t>تطفیف؛ استیفای حقوق شخصی و پایمال کردن حقوق دیگر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305280" y="2921040"/>
            <a:ext cx="85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4086360" y="785880"/>
            <a:ext cx="2428920" cy="1571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الَّذِينَ إِذَا اكْتَالُوا عَلَى النَّاسِ يَسْتَوْفُو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85880" y="2000160"/>
            <a:ext cx="2428920" cy="1357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أَلا يَظُنُّ أُولَئِكَ أَنَّهُمْ مَبْعُوثُون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85880" y="3983040"/>
            <a:ext cx="2428920" cy="1916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لِيَوْمٍ عَظِيمٍ *  يَوْمَ يَقُومُ النَّاسُ لِرَبِّ الْعَالَمِي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AutoShape 6"/>
          <p:cNvCxnSpPr>
            <a:stCxn id="103" idx="1"/>
            <a:endCxn id="99" idx="3"/>
          </p:cNvCxnSpPr>
          <p:nvPr/>
        </p:nvCxnSpPr>
        <p:spPr>
          <a:xfrm flipH="1" flipV="1">
            <a:off x="6514920" y="1571400"/>
            <a:ext cx="414720" cy="9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Rectangle 7"/>
          <p:cNvSpPr/>
          <p:nvPr/>
        </p:nvSpPr>
        <p:spPr>
          <a:xfrm>
            <a:off x="6929280" y="2143080"/>
            <a:ext cx="1785960" cy="785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وَيْلٌ لِلْمُطَفِّفِي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4071960" y="2928960"/>
            <a:ext cx="2428920" cy="1571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وَإِذَا كَالُوهُمْ أَوْ وَزَنُوهُمْ يُخْسِرُو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9"/>
          <p:cNvCxnSpPr>
            <a:stCxn id="103" idx="1"/>
            <a:endCxn id="104" idx="3"/>
          </p:cNvCxnSpPr>
          <p:nvPr/>
        </p:nvCxnSpPr>
        <p:spPr>
          <a:xfrm flipH="1">
            <a:off x="6500520" y="2534040"/>
            <a:ext cx="429120" cy="118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AutoShape 10"/>
          <p:cNvSpPr/>
          <p:nvPr/>
        </p:nvSpPr>
        <p:spPr>
          <a:xfrm>
            <a:off x="3571920" y="785880"/>
            <a:ext cx="428760" cy="3786120"/>
          </a:xfrm>
          <a:custGeom>
            <a:avLst/>
            <a:gdLst>
              <a:gd name="textAreaLeft" fmla="*/ 273960 w 428760"/>
              <a:gd name="textAreaRight" fmla="*/ 429120 w 428760"/>
              <a:gd name="textAreaTop" fmla="*/ 65880 h 3786120"/>
              <a:gd name="textAreaBottom" fmla="*/ 372024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4"/>
                  <a:pt x="10800" y="1207"/>
                </a:cubicBezTo>
                <a:lnTo>
                  <a:pt x="10800" y="9593"/>
                </a:lnTo>
                <a:cubicBezTo>
                  <a:pt x="10800" y="10197"/>
                  <a:pt x="5400" y="10800"/>
                  <a:pt x="0" y="10800"/>
                </a:cubicBezTo>
                <a:cubicBezTo>
                  <a:pt x="5400" y="10800"/>
                  <a:pt x="10800" y="11404"/>
                  <a:pt x="10800" y="12007"/>
                </a:cubicBezTo>
                <a:lnTo>
                  <a:pt x="10800" y="20393"/>
                </a:lnTo>
                <a:cubicBezTo>
                  <a:pt x="10800" y="2099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11"/>
          <p:cNvCxnSpPr>
            <a:stCxn id="106" idx="1"/>
            <a:endCxn id="100" idx="3"/>
          </p:cNvCxnSpPr>
          <p:nvPr/>
        </p:nvCxnSpPr>
        <p:spPr>
          <a:xfrm flipH="1" flipV="1">
            <a:off x="3214440" y="2677320"/>
            <a:ext cx="357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AutoShape 12"/>
          <p:cNvCxnSpPr>
            <a:stCxn id="100" idx="2"/>
            <a:endCxn id="101" idx="0"/>
          </p:cNvCxnSpPr>
          <p:nvPr/>
        </p:nvCxnSpPr>
        <p:spPr>
          <a:xfrm flipH="1">
            <a:off x="1999440" y="3357360"/>
            <a:ext cx="2520" cy="62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"/>
          <p:cNvSpPr/>
          <p:nvPr/>
        </p:nvSpPr>
        <p:spPr>
          <a:xfrm>
            <a:off x="1143000" y="2954160"/>
            <a:ext cx="6858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2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Lotus"/>
              </a:rPr>
              <a:t>وای بر کسانی که حق خود را به طور کامل استیفا می کنند و از حق دیگران کم می گذارند. آیا ایشان باور ندارند که روزی برانگیخته خواهند ش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-332640" y="857160"/>
            <a:ext cx="980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000000"/>
                </a:solidFill>
                <a:latin typeface="IranNastaliq"/>
                <a:cs typeface="IranNastaliq"/>
              </a:rPr>
              <a:t>تهدید شدید مطففین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2437200" y="1925640"/>
            <a:ext cx="426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727360" y="3952800"/>
            <a:ext cx="368928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7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1011600" y="2874960"/>
            <a:ext cx="712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9"/>
          <p:cNvSpPr/>
          <p:nvPr/>
        </p:nvSpPr>
        <p:spPr>
          <a:xfrm>
            <a:off x="571680" y="642960"/>
            <a:ext cx="8072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كَلا إِنَّ كِتَابَ الْفُجَّارِ لَفِي سِجِّينٍ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٧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أَدْرَاكَ مَا سِجِّينٌ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٨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كِتَاب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QuranTaha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مَرْقُومٌ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٩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يْلٌ يَوْمَئِذٍ لِلْمُكَذِّبِينَ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الَّذِينَ يُكَذِّبُونَ بِيَوْمِ الدِّينِ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مَا يُكَذِّبُ بِهِ إِلا كُلُّ مُعْتَدٍ أَثِيمٍ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إِذَا تُتْلَى عَلَيْهِ آيَاتُنَا قَالَ أَسَاطِيرُ الأوَّلِينَ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كَلا بَلْ رَانَ عَلَى قُلُوبِهِمْ مَا كَانُوا يَكْسِبُونَ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كَلا إِنَّهُمْ عَنْ رَبِّهِمْ يَوْمَئِذٍ لَمَحْجُوبُونَ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ثُمَّ إِنَّهُمْ لَصَالُو الْجَحِيمِ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ثُمَّ يُقَالُ هَذَا الَّذِي كُنْتُمْ بِهِ تُكَذِّبُونَ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كَلا إِنَّ كِتَابَ الأبْرَارِ لَفِي عِلِّيِّينَ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أَدْرَاكَ مَا عِلِّيُّونَ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كِتَابٌ مَرْقُومٌ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يَشْهَدُهُ الْمُقَرَّبُونَ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١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الأبْرَارَ لَفِي نَعِيمٍ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٢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عَلَى الأرَائِكِ يَنْظُرُونَ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٣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تَعْرِفُ فِي وُجُوهِهِمْ نَضْرَةَ النَّعِيمِ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٤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يُسْقَوْنَ مِنْ رَحِيقٍ مَخْتُومٍ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٥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خِتَامُهُ مِسْكٌ وَفِي ذَلِكَ فَلْيَتَنَافَسِ الْمُتَنَافِسُونَ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٦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مِزَاجُهُ مِنْ تَسْنِيمٍ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٧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عَيْنًا يَشْرَبُ بِهَا الْمُقَرَّبُونَ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٨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7-28.wav" descr=""/>
          <p:cNvPicPr/>
          <p:nvPr/>
        </p:nvPicPr>
        <p:blipFill>
          <a:blip r:embed="rId2"/>
          <a:stretch/>
        </p:blipFill>
        <p:spPr>
          <a:xfrm>
            <a:off x="1092996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17875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291600" y="2921040"/>
            <a:ext cx="856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7292880" y="3857760"/>
            <a:ext cx="851040" cy="1071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2  Badr"/>
              </a:rPr>
              <a:t>كَلا إِنَّ كِتَابَ الأبْرَارِ لَفِي عِلِّيِّين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072120" y="785880"/>
            <a:ext cx="851040" cy="1071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2  Badr"/>
              </a:rPr>
              <a:t>وَمَا أَدْرَاكَ مَا سِجِّين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428840" y="428760"/>
            <a:ext cx="1844640" cy="17859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2  Badr"/>
              </a:rPr>
              <a:t>الَّذِينَ يُكَذِّبُونَ بِيَوْمِ الدِّينِ  وَمَا يُكَذِّبُ بِهِ إِلا كُلُّ مُعْتَدٍ أَثِيمٍ * إِذَا تُتْلَى عَلَيْهِ آيَاتُنَا قَالَ أَسَاطِيرُ الأوَّلِينَ  كَلا بَلْ رَانَ عَلَى قُلُوبِهِمْ مَا كَانُوا يَكْسِبُونَ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428840" y="3929040"/>
            <a:ext cx="1844640" cy="2428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2  Badr"/>
              </a:rPr>
              <a:t>إِنَّ الأبْرَارَ لَفِي نَعِيمٍ*عَلَى الأرَائِكِ يَنْظُرُونَ*تَعْرِفُ فِي وُجُوهِهِمْ نَضْرَةَ النَّعِيمِ*يُسْقَوْنَ مِنْ رَحِيقٍ مَخْتُومٍ*ِختَامُهُ مِسْكٌ وَفِي ذَلِكَ فَلْيَتَنَافَسِ الْمُتَنَافِسُونَ*وَمِزَاجُهُ مِنْ تَسْنِيمٍ*عَيْنًا يَشْرَبُ بِهَا الْمُقَرَّبُونَ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417680" y="2286000"/>
            <a:ext cx="1836720" cy="1357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2  Badr"/>
              </a:rPr>
              <a:t>كَلا إِنَّهُمْ عَنْ رَبِّهِمْ يَوْمَئِذٍ لَمَحْجُوبُونَ * ثُمَّ إِنَّهُمْ لَصَالُو</a:t>
            </a: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2  Badr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  <a:ea typeface="2  Badr"/>
              </a:rPr>
              <a:t> الْجَحِيمِ * ثُمَّ يُقَالُ هَذَا الَّذِي كُنْتُمْ بِهِ تُكَذِّبُونَ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286760" y="785880"/>
            <a:ext cx="850680" cy="1071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2  Badr"/>
              </a:rPr>
              <a:t>كَلا إِنَّ كِتَابَ الْفُجَّارِ لَفِي سِجِّين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6078600" y="3844800"/>
            <a:ext cx="850680" cy="1068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2  Badr"/>
              </a:rPr>
              <a:t>وَمَا أَدْرَاكَ مَا عِلِّيُّون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3960" y="785880"/>
            <a:ext cx="851040" cy="1071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2  Badr"/>
              </a:rPr>
              <a:t>كِتَابٌ مَرْقُومٌ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4863960" y="3841920"/>
            <a:ext cx="851040" cy="1071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2  Badr"/>
              </a:rPr>
              <a:t>كِتَابٌ مَرْقُومٌ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3649680" y="785880"/>
            <a:ext cx="851040" cy="1071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2  Badr"/>
              </a:rPr>
              <a:t>وَيْلٌ يَوْمَئِذٍ لِلْمُكَذِّبِين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3633840" y="3841920"/>
            <a:ext cx="850680" cy="1071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2  Badr"/>
              </a:rPr>
              <a:t>يَشْهَدُهُ الْمُقَرَّبُون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AutoShape 14"/>
          <p:cNvCxnSpPr>
            <a:stCxn id="132" idx="1"/>
            <a:endCxn id="134" idx="3"/>
          </p:cNvCxnSpPr>
          <p:nvPr/>
        </p:nvCxnSpPr>
        <p:spPr>
          <a:xfrm flipH="1" flipV="1">
            <a:off x="4500000" y="1320480"/>
            <a:ext cx="363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AutoShape 14"/>
          <p:cNvCxnSpPr>
            <a:stCxn id="134" idx="1"/>
            <a:endCxn id="127" idx="3"/>
          </p:cNvCxnSpPr>
          <p:nvPr/>
        </p:nvCxnSpPr>
        <p:spPr>
          <a:xfrm flipH="1">
            <a:off x="3272760" y="13197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AutoShape 14"/>
          <p:cNvCxnSpPr>
            <a:stCxn id="126" idx="1"/>
            <a:endCxn id="132" idx="3"/>
          </p:cNvCxnSpPr>
          <p:nvPr/>
        </p:nvCxnSpPr>
        <p:spPr>
          <a:xfrm flipH="1" flipV="1">
            <a:off x="5714640" y="1320480"/>
            <a:ext cx="357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14"/>
          <p:cNvCxnSpPr>
            <a:stCxn id="130" idx="1"/>
            <a:endCxn id="126" idx="3"/>
          </p:cNvCxnSpPr>
          <p:nvPr/>
        </p:nvCxnSpPr>
        <p:spPr>
          <a:xfrm flipH="1" flipV="1">
            <a:off x="6922800" y="1320480"/>
            <a:ext cx="364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AutoShape 14"/>
          <p:cNvCxnSpPr>
            <a:stCxn id="125" idx="1"/>
            <a:endCxn id="131" idx="3"/>
          </p:cNvCxnSpPr>
          <p:nvPr/>
        </p:nvCxnSpPr>
        <p:spPr>
          <a:xfrm flipH="1" flipV="1">
            <a:off x="6928920" y="4377960"/>
            <a:ext cx="36432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14"/>
          <p:cNvCxnSpPr>
            <a:stCxn id="131" idx="1"/>
            <a:endCxn id="133" idx="3"/>
          </p:cNvCxnSpPr>
          <p:nvPr/>
        </p:nvCxnSpPr>
        <p:spPr>
          <a:xfrm flipH="1" flipV="1">
            <a:off x="5714640" y="4376520"/>
            <a:ext cx="364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AutoShape 14"/>
          <p:cNvCxnSpPr>
            <a:stCxn id="133" idx="1"/>
            <a:endCxn id="135" idx="3"/>
          </p:cNvCxnSpPr>
          <p:nvPr/>
        </p:nvCxnSpPr>
        <p:spPr>
          <a:xfrm flipH="1" flipV="1">
            <a:off x="4484160" y="4376520"/>
            <a:ext cx="380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15"/>
          <p:cNvCxnSpPr>
            <a:stCxn id="132" idx="2"/>
            <a:endCxn id="133" idx="0"/>
          </p:cNvCxnSpPr>
          <p:nvPr/>
        </p:nvCxnSpPr>
        <p:spPr>
          <a:xfrm flipH="1">
            <a:off x="5287320" y="1856880"/>
            <a:ext cx="3960" cy="198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4" name="AutoShape 15"/>
          <p:cNvCxnSpPr>
            <a:stCxn id="126" idx="2"/>
            <a:endCxn id="131" idx="0"/>
          </p:cNvCxnSpPr>
          <p:nvPr/>
        </p:nvCxnSpPr>
        <p:spPr>
          <a:xfrm>
            <a:off x="6497640" y="1856880"/>
            <a:ext cx="7200" cy="19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5" name="AutoShape 15"/>
          <p:cNvCxnSpPr>
            <a:stCxn id="130" idx="2"/>
            <a:endCxn id="125" idx="0"/>
          </p:cNvCxnSpPr>
          <p:nvPr/>
        </p:nvCxnSpPr>
        <p:spPr>
          <a:xfrm>
            <a:off x="7711920" y="1856880"/>
            <a:ext cx="7200" cy="200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6" name="AutoShape 16"/>
          <p:cNvCxnSpPr>
            <a:stCxn id="134" idx="2"/>
            <a:endCxn id="129" idx="3"/>
          </p:cNvCxnSpPr>
          <p:nvPr/>
        </p:nvCxnSpPr>
        <p:spPr>
          <a:xfrm rot="5400000">
            <a:off x="3110040" y="2000880"/>
            <a:ext cx="1108800" cy="82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16"/>
          <p:cNvCxnSpPr>
            <a:stCxn id="135" idx="2"/>
            <a:endCxn id="128" idx="3"/>
          </p:cNvCxnSpPr>
          <p:nvPr/>
        </p:nvCxnSpPr>
        <p:spPr>
          <a:xfrm rot="5400000">
            <a:off x="3550320" y="4635360"/>
            <a:ext cx="231120" cy="786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1403280" y="3236760"/>
            <a:ext cx="633744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B Lotus"/>
              </a:rPr>
              <a:t>تجاوزپیشگان گناهکار که قرآن را خرافه می دانند، روز جزا را تکذیب می کنند و لباس فجور بر تن می کنند و عاقبتشان زندان جهنم است؛ برخلاف ابرار که به نعیم بهشت راه می یابن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-3471120" y="982800"/>
            <a:ext cx="16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000000"/>
                </a:solidFill>
                <a:latin typeface="IranNastaliq"/>
                <a:cs typeface="IranNastaliq"/>
              </a:rPr>
              <a:t>تهدید شدید فاجران مکذب روز جز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2237760" y="1925640"/>
            <a:ext cx="466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س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2500200" y="3929040"/>
            <a:ext cx="413244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9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3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811800" y="2874960"/>
            <a:ext cx="752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س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9"/>
          <p:cNvSpPr/>
          <p:nvPr/>
        </p:nvSpPr>
        <p:spPr>
          <a:xfrm>
            <a:off x="642960" y="1211400"/>
            <a:ext cx="77868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الَّذِينَ أَجْرَمُوا كَانُوا مِنَ الَّذِينَ آمَنُوا يَضْحَكُونَ 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٩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مَرُّوا بِهِمْ يَتَغَامَزُونَ 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٠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0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نْقَلَبُوا إِلَى أَهْلِهِمُ انْقَلَبُوا فَكِهِينَ 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١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رَأَوْهُمْ قَالُوا إِنَّ هَؤُلاءِ لَضَالُّونَ 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٢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أُرْسِلُوا عَلَيْهِمْ حَافِظِينَ 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٣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فَالْيَوْمَ الَّذِينَ آمَنُوا مِنَ الْكُفَّارِ يَضْحَكُونَ 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٤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عَلَى الأرَائِكِ يَنْظُرُونَ 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٥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هَلْ ثُوِّبَ الْكُفَّارُ مَا كَانُوا يَفْعَلُونَ 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٦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29-36.wav" descr=""/>
          <p:cNvPicPr/>
          <p:nvPr/>
        </p:nvPicPr>
        <p:blipFill>
          <a:blip r:embed="rId2"/>
          <a:stretch/>
        </p:blipFill>
        <p:spPr>
          <a:xfrm>
            <a:off x="10287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7" dur="7873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"/>
          <p:cNvSpPr/>
          <p:nvPr/>
        </p:nvSpPr>
        <p:spPr>
          <a:xfrm>
            <a:off x="68400" y="2921040"/>
            <a:ext cx="900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س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928800" y="1714680"/>
            <a:ext cx="7215120" cy="4208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2  Lotus"/>
              </a:rPr>
              <a:t>مطففین  مؤمنین  را مسخره کرده و ایشان را گمراه می خوانند، تا فضای آزادی برای ادامه رویه خود در پایمال کردن حقوق دیگران را داشته باشن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10880" y="2921040"/>
            <a:ext cx="892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س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311040" y="463680"/>
            <a:ext cx="85280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4776840" y="642960"/>
            <a:ext cx="1857240" cy="100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كَانُوا مِنَ الَّذِينَ آمَنُوا يَضْحَكُونَ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7203960" y="2363760"/>
            <a:ext cx="1154160" cy="922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إِنَّ الَّذِينَ أَجْرَمُو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786200" y="1776240"/>
            <a:ext cx="1857600" cy="1009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وَإِذَا مَرُّوا بِهِمْ يَتَغَامَزُون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786200" y="2919240"/>
            <a:ext cx="1857600" cy="1009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وَإِذَا انْقَلَبُوا إِلَى أَهْلِهِمُ انْقَلَبُوا فَكِهِين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4786200" y="4062240"/>
            <a:ext cx="1857600" cy="1009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وَإِذَا رَأَوْهُمْ قَالُوا إِنَّ هَؤُلاءِ لَضَالُّون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4786200" y="5349960"/>
            <a:ext cx="1857600" cy="100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وَمَا أُرْسِلُوا عَلَيْهِمْ حَافِظِين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2943360" y="2355840"/>
            <a:ext cx="1414440" cy="1000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فَالْيَوْمَ الَّذِينَ آمَنُو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1000080" y="1071720"/>
            <a:ext cx="1471680" cy="992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مِنَ الْكُفَّارِ يَضْحَكُون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1000080" y="2357280"/>
            <a:ext cx="1471680" cy="9939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عَلَى الأرَائِكِ يَنْظُرُون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1000080" y="3649680"/>
            <a:ext cx="1471680" cy="993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هَلْ ثُوِّبَ الْكُفَّارُ مَا كَانُوا يَفْعَلُون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AutoShape 13"/>
          <p:cNvCxnSpPr>
            <a:stCxn id="169" idx="2"/>
            <a:endCxn id="171" idx="3"/>
          </p:cNvCxnSpPr>
          <p:nvPr/>
        </p:nvCxnSpPr>
        <p:spPr>
          <a:xfrm rot="5400000">
            <a:off x="7142760" y="2786040"/>
            <a:ext cx="138960" cy="1138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AutoShape 14"/>
          <p:cNvCxnSpPr>
            <a:stCxn id="169" idx="2"/>
            <a:endCxn id="172" idx="3"/>
          </p:cNvCxnSpPr>
          <p:nvPr/>
        </p:nvCxnSpPr>
        <p:spPr>
          <a:xfrm rot="5400000">
            <a:off x="6571440" y="3357000"/>
            <a:ext cx="1281600" cy="1138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AutoShape 14"/>
          <p:cNvCxnSpPr>
            <a:stCxn id="169" idx="0"/>
            <a:endCxn id="168" idx="3"/>
          </p:cNvCxnSpPr>
          <p:nvPr/>
        </p:nvCxnSpPr>
        <p:spPr>
          <a:xfrm flipV="1" rot="16200000">
            <a:off x="6599160" y="1180800"/>
            <a:ext cx="1218240" cy="1148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14"/>
          <p:cNvCxnSpPr>
            <a:stCxn id="169" idx="0"/>
            <a:endCxn id="170" idx="3"/>
          </p:cNvCxnSpPr>
          <p:nvPr/>
        </p:nvCxnSpPr>
        <p:spPr>
          <a:xfrm flipV="1" rot="16200000">
            <a:off x="7170840" y="1752840"/>
            <a:ext cx="83160" cy="1138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AutoShape 14"/>
          <p:cNvCxnSpPr>
            <a:stCxn id="174" idx="0"/>
            <a:endCxn id="175" idx="3"/>
          </p:cNvCxnSpPr>
          <p:nvPr/>
        </p:nvCxnSpPr>
        <p:spPr>
          <a:xfrm flipV="1" rot="16200000">
            <a:off x="2667240" y="1371600"/>
            <a:ext cx="788040" cy="118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AutoShape 15"/>
          <p:cNvCxnSpPr>
            <a:stCxn id="174" idx="1"/>
            <a:endCxn id="176" idx="3"/>
          </p:cNvCxnSpPr>
          <p:nvPr/>
        </p:nvCxnSpPr>
        <p:spPr>
          <a:xfrm flipH="1" flipV="1">
            <a:off x="2471400" y="2854080"/>
            <a:ext cx="472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AutoShape 15"/>
          <p:cNvCxnSpPr>
            <a:stCxn id="176" idx="2"/>
            <a:endCxn id="177" idx="0"/>
          </p:cNvCxnSpPr>
          <p:nvPr/>
        </p:nvCxnSpPr>
        <p:spPr>
          <a:xfrm flipH="1">
            <a:off x="1734840" y="3352320"/>
            <a:ext cx="2160" cy="29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AutoShape 16"/>
          <p:cNvSpPr/>
          <p:nvPr/>
        </p:nvSpPr>
        <p:spPr>
          <a:xfrm>
            <a:off x="4357800" y="642960"/>
            <a:ext cx="428400" cy="4459320"/>
          </a:xfrm>
          <a:custGeom>
            <a:avLst/>
            <a:gdLst>
              <a:gd name="textAreaLeft" fmla="*/ 273600 w 428400"/>
              <a:gd name="textAreaRight" fmla="*/ 428760 w 428400"/>
              <a:gd name="textAreaTop" fmla="*/ 60840 h 4459320"/>
              <a:gd name="textAreaBottom" fmla="*/ 4398480 h 445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71"/>
                  <a:pt x="10800" y="942"/>
                </a:cubicBezTo>
                <a:lnTo>
                  <a:pt x="10800" y="9858"/>
                </a:lnTo>
                <a:cubicBezTo>
                  <a:pt x="10800" y="10329"/>
                  <a:pt x="5400" y="10800"/>
                  <a:pt x="0" y="10800"/>
                </a:cubicBezTo>
                <a:cubicBezTo>
                  <a:pt x="5400" y="10800"/>
                  <a:pt x="10800" y="11271"/>
                  <a:pt x="10800" y="11742"/>
                </a:cubicBezTo>
                <a:lnTo>
                  <a:pt x="10800" y="20658"/>
                </a:lnTo>
                <a:cubicBezTo>
                  <a:pt x="10800" y="211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7"/>
          <p:cNvSpPr/>
          <p:nvPr/>
        </p:nvSpPr>
        <p:spPr>
          <a:xfrm rot="16200000">
            <a:off x="5572080" y="4286160"/>
            <a:ext cx="285840" cy="1857600"/>
          </a:xfrm>
          <a:custGeom>
            <a:avLst/>
            <a:gdLst>
              <a:gd name="textAreaLeft" fmla="*/ 182520 w 285840"/>
              <a:gd name="textAreaRight" fmla="*/ 286200 w 285840"/>
              <a:gd name="textAreaTop" fmla="*/ 40320 h 1857600"/>
              <a:gd name="textAreaBottom" fmla="*/ 1817280 h 18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4"/>
                  <a:pt x="10800" y="1508"/>
                </a:cubicBezTo>
                <a:lnTo>
                  <a:pt x="10800" y="9292"/>
                </a:lnTo>
                <a:cubicBezTo>
                  <a:pt x="10800" y="10046"/>
                  <a:pt x="5400" y="10800"/>
                  <a:pt x="0" y="10800"/>
                </a:cubicBezTo>
                <a:cubicBezTo>
                  <a:pt x="5400" y="10800"/>
                  <a:pt x="10800" y="11554"/>
                  <a:pt x="10800" y="12308"/>
                </a:cubicBezTo>
                <a:lnTo>
                  <a:pt x="10800" y="20092"/>
                </a:lnTo>
                <a:cubicBezTo>
                  <a:pt x="10800" y="2084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س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"/>
          <p:cNvSpPr/>
          <p:nvPr/>
        </p:nvSpPr>
        <p:spPr>
          <a:xfrm>
            <a:off x="1322280" y="3789360"/>
            <a:ext cx="649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2  Badr"/>
              </a:rPr>
              <a:t>روز قیامت، اوضاع دگرگون می شود و مؤمنان به مجرمان می خندند و مکافات آنان را به نظاره می نشینن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214280" y="1143000"/>
            <a:ext cx="6715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در هم شکستن فضایی که در آن مجرمان، مؤمنان را مسخره  می کنند و گمراه می خوانن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2"/>
          <p:cNvSpPr/>
          <p:nvPr/>
        </p:nvSpPr>
        <p:spPr>
          <a:xfrm>
            <a:off x="1049760" y="2921040"/>
            <a:ext cx="704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928800" y="1285920"/>
            <a:ext cx="7215120" cy="1464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2  Lotus"/>
              </a:rPr>
              <a:t>  مطففین حقوق خود را استیفا کرده وحقوق دیگران پایمال میکنن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928800" y="3562200"/>
            <a:ext cx="7215120" cy="283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2  Lotus"/>
              </a:rPr>
              <a:t> مطففین  مؤمنین  را مسخره کرده و ایشان را گمراه میخوانند، تا فضای آزادی برای ادامه رویه خود در پایمال کردن حقوق دیگران را داشته باشن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"/>
          <p:cNvSpPr/>
          <p:nvPr/>
        </p:nvSpPr>
        <p:spPr>
          <a:xfrm>
            <a:off x="2097000" y="2921040"/>
            <a:ext cx="49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_s1131"/>
          <p:cNvSpPr/>
          <p:nvPr/>
        </p:nvSpPr>
        <p:spPr>
          <a:xfrm>
            <a:off x="684360" y="2997360"/>
            <a:ext cx="2447640" cy="270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آیه 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29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 - 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در هم شکستن فضایی که در آن مجرمان، مؤمنان را مسخره می کنند و گمراه می خوانن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Lotus"/>
              </a:rPr>
              <a:t>روز قیامت، اوضاع دگرگون می شود و مؤمنان به مجرمان می خندند و مکافات آنان را به نظاره می نشینن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_s1141"/>
          <p:cNvSpPr/>
          <p:nvPr/>
        </p:nvSpPr>
        <p:spPr>
          <a:xfrm>
            <a:off x="3311640" y="2997360"/>
            <a:ext cx="2520720" cy="270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آیه 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7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 - 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تهدید شدید فاجران مکذب روز جز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Lotus"/>
              </a:rPr>
              <a:t>تجاوزپیشگان گناهکار که قرآن را خرافه   می دانند، روز جزا را تکذیب می کنند و لباس فجور بر تن می کنند و عاقبتشان زندان جهنم است؛ برخلاف ابرار که به نعیم بهشت راه می یابن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_s1151"/>
          <p:cNvSpPr/>
          <p:nvPr/>
        </p:nvSpPr>
        <p:spPr>
          <a:xfrm>
            <a:off x="5940360" y="3000240"/>
            <a:ext cx="2495520" cy="270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آیه 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1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 - 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تهدید شدید مطففی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Lotus"/>
              </a:rPr>
              <a:t>وای بر کسانی که حق خود را به طور کامل استیفا می کنند و از حق دیگران کم        می گذارند. آیا ایشان باور ندارند که روزی برانگیخته خواهند شد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_s1157"/>
          <p:cNvSpPr/>
          <p:nvPr/>
        </p:nvSpPr>
        <p:spPr>
          <a:xfrm>
            <a:off x="1440000" y="609480"/>
            <a:ext cx="6264000" cy="1776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مقابله با رذیله تطفی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B Lotus"/>
              </a:rPr>
              <a:t>وای بر آنان که بعث و جزا را دروغ می شمارند و از فرمان خدا خارج می گردند و در تعامل با دیگران، حق خود را به طور کامل استیفا می کنند و از حق آنان کم می گذارند. آنگاه برای بقای سیره تطفیفی خویش، مؤمنان را به سخره می گیرند و گمراه می خوانن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متصل کننده لولایی 9"/>
          <p:cNvCxnSpPr>
            <a:stCxn id="202" idx="0"/>
            <a:endCxn id="203" idx="2"/>
          </p:cNvCxnSpPr>
          <p:nvPr/>
        </p:nvCxnSpPr>
        <p:spPr>
          <a:xfrm flipV="1" rot="16200000">
            <a:off x="5572440" y="1384560"/>
            <a:ext cx="614880" cy="261684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5" name="متصل کننده لولایی 11"/>
          <p:cNvCxnSpPr>
            <a:stCxn id="200" idx="0"/>
            <a:endCxn id="203" idx="2"/>
          </p:cNvCxnSpPr>
          <p:nvPr/>
        </p:nvCxnSpPr>
        <p:spPr>
          <a:xfrm flipH="1" flipV="1" rot="5400000">
            <a:off x="2934000" y="1359360"/>
            <a:ext cx="612000" cy="26647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6" name="متصل کننده پیکان مستقیم 13"/>
          <p:cNvCxnSpPr>
            <a:stCxn id="201" idx="0"/>
            <a:endCxn id="203" idx="2"/>
          </p:cNvCxnSpPr>
          <p:nvPr/>
        </p:nvCxnSpPr>
        <p:spPr>
          <a:xfrm flipV="1">
            <a:off x="4570920" y="2385720"/>
            <a:ext cx="1080" cy="6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5"/>
          <p:cNvSpPr/>
          <p:nvPr/>
        </p:nvSpPr>
        <p:spPr>
          <a:xfrm>
            <a:off x="2438640" y="669960"/>
            <a:ext cx="426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بِسْمِ اللَّهِ الرَّحْمَنِ الرَّحِ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6"/>
          <p:cNvSpPr/>
          <p:nvPr/>
        </p:nvSpPr>
        <p:spPr>
          <a:xfrm>
            <a:off x="399960" y="1527120"/>
            <a:ext cx="83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يْلٌ لِلْمُطَفِّفِينَ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7"/>
          <p:cNvSpPr/>
          <p:nvPr/>
        </p:nvSpPr>
        <p:spPr>
          <a:xfrm>
            <a:off x="369720" y="437508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أَلا يَظُنُّ أُولَئِكَ أَنَّهُمْ مَبْعُوثُونَ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٤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8"/>
          <p:cNvSpPr/>
          <p:nvPr/>
        </p:nvSpPr>
        <p:spPr>
          <a:xfrm>
            <a:off x="428760" y="528624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لِيَوْمٍ عَظِيمٍ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٥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يَوْمَ يَقُومُ النَّاسُ لِرَبِّ الْعَالَمِينَ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٦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9"/>
          <p:cNvSpPr/>
          <p:nvPr/>
        </p:nvSpPr>
        <p:spPr>
          <a:xfrm>
            <a:off x="360360" y="340344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إِذَا كَالُوهُمْ أَوْ وَزَنُوهُمْ يُخْسِرُونَ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٣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0"/>
          <p:cNvSpPr/>
          <p:nvPr/>
        </p:nvSpPr>
        <p:spPr>
          <a:xfrm>
            <a:off x="369720" y="252720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ا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َ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لَّذِينَ إِذَا اكْتَالُوا عَلَى النَّاسِ يَسْتَوْفُونَ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٢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1-6.wav" descr=""/>
          <p:cNvPicPr/>
          <p:nvPr/>
        </p:nvPicPr>
        <p:blipFill>
          <a:blip r:embed="rId2"/>
          <a:stretch/>
        </p:blipFill>
        <p:spPr>
          <a:xfrm>
            <a:off x="9786960" y="-15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7" name="7-28.wav" descr=""/>
          <p:cNvPicPr/>
          <p:nvPr/>
        </p:nvPicPr>
        <p:blipFill>
          <a:blip r:embed="rId3"/>
          <a:stretch/>
        </p:blipFill>
        <p:spPr>
          <a:xfrm>
            <a:off x="10501200" y="-15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8" name="29-36.wav" descr=""/>
          <p:cNvPicPr/>
          <p:nvPr/>
        </p:nvPicPr>
        <p:blipFill>
          <a:blip r:embed="rId4"/>
          <a:stretch/>
        </p:blipFill>
        <p:spPr>
          <a:xfrm>
            <a:off x="11287080" y="-152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53"/>
          <p:cNvSpPr/>
          <p:nvPr/>
        </p:nvSpPr>
        <p:spPr>
          <a:xfrm>
            <a:off x="-8215200" y="901800"/>
            <a:ext cx="7358040" cy="612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كَل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QuranTaha"/>
              </a:rPr>
              <a:t>ّ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ا إِنَّ كِتَابَ الْفُجَّارِ لَفِي سِجِّينٍ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٧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أَدْرَاكَ مَا سِجِّينٌ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٨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2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كِتَابٌ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QuranTaha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مَرْقُومٌ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٩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يْلٌ يَوْمَئِذٍ لِلْمُكَذِّبِي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الَّذِينَ يُكَذِّبُونَ بِيَوْمِ الدِّينِ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2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مَا يُكَذِّبُ بِهِ إِل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QuranTaha"/>
              </a:rPr>
              <a:t>ّ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ا كُلُّ مُعْتَدٍ أَثِيمٍ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إِذَا تُتْلَى عَلَيْهِ آيَاتُنَا قَالَ أَسَاطِيرُ الأوَّلِي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كَل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QuranTaha"/>
              </a:rPr>
              <a:t>ّ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ا بَلْ رَانَ عَلَى قُلُوبِهِمْ مَا كَانُوا يَكْسِبُو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كَل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QuranTaha"/>
              </a:rPr>
              <a:t>ّ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ا إِنَّهُمْ عَنْ رَبِّهِمْ يَوْمَئِذٍ لَمَحْجُوبُو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ثُمَّ إِنَّهُمْ لَصَالُو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QuranTaha"/>
              </a:rPr>
              <a:t>ا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ea typeface="QuranTaha"/>
              </a:rPr>
              <a:t> الْجَحِيمِ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ثُمَّ يُقَالُ هَذَا الَّذِي كُنْتُمْ بِهِ تُكَذِّبُو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كَل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QuranTaha"/>
              </a:rPr>
              <a:t>ّ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ا إِنَّ كِتَابَ الأبْرَارِ لَفِي عِلِّيِّي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أَدْرَاكَ مَا عِلِّيُّو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كِتَابٌ مَرْقُومٌ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يَشْهَدُهُ الْمُقَرَّبُو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١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الأبْرَارَ لَفِي نَعِيمٍ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٢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عَلَى الأرَائِكِ يَنْظُرُو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٣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تَعْرِفُ فِي وُجُوهِهِمْ نَضْرَةَ النَّعِيمِ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٤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يُسْقَوْنَ مِنْ رَحِيقٍ مَخْتُومٍ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٥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خِتَامُهُ مِسْكٌ وَفِي ذَلِكَ فَلْيَتَنَافَسِ الْمُتَنَافِسُو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٦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مِزَاجُهُ مِنْ تَسْنِيمٍ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٧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عَيْنًا يَشْرَبُ بِهَا الْمُقَرَّبُو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٨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5"/>
          <p:cNvSpPr/>
          <p:nvPr/>
        </p:nvSpPr>
        <p:spPr>
          <a:xfrm>
            <a:off x="10696680" y="923760"/>
            <a:ext cx="744840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الَّذِينَ أَجْرَمُوا كَانُوا مِنَ الَّذِينَ آمَنُوا يَضْحَكُو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٩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5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مَرُّوا بِهِمْ يَتَغَامَزُو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٠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نْقَلَبُوا إِلَى أَهْلِهِمُ انْقَلَبُوا فَكِهِي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١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5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رَأَوْهُمْ قَالُوا إِنَّ هَؤُلاءِ لَضَالُّو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٢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أُرْسِلُوا عَلَيْهِمْ حَافِظِي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٣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فَالْيَوْمَ الَّذِينَ آمَنُوا مِنَ الْكُفَّارِ يَضْحَكُو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٤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عَلَى الأرَائِكِ يَنْظُرُو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٥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هَلْ ثُوِّبَ الْكُفَّارُ مَا كَانُوا يَفْعَلُو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٦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1" dur="51259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2259"/>
                            </p:stCondLst>
                            <p:childTnLst>
                              <p:par>
                                <p:cTn id="75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04046E-006 L 0.9882 -0.00324 E">
                                      <p:cBhvr>
                                        <p:cTn id="754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4259"/>
                            </p:stCondLst>
                            <p:childTnLst>
                              <p:par>
                                <p:cTn id="7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7" dur="17875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233010"/>
                            </p:stCondLst>
                            <p:childTnLst>
                              <p:par>
                                <p:cTn id="75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6185E-006 L -1.08489 0.00047 E">
                                      <p:cBhvr>
                                        <p:cTn id="760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35010"/>
                            </p:stCondLst>
                            <p:childTnLst>
                              <p:par>
                                <p:cTn id="7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3" dur="7873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"/>
          <p:cNvSpPr/>
          <p:nvPr/>
        </p:nvSpPr>
        <p:spPr>
          <a:xfrm>
            <a:off x="357120" y="33256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خدايا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428840" y="42876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پروردگارا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000080" y="4621320"/>
            <a:ext cx="71420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(normal text)"/>
                <a:cs typeface="2  Lotus"/>
              </a:rPr>
              <a:t>باور معاد را در دلهاي ما تا اندازه اي تقويت كن كه حتي به لحظه اي تضييع حقوق ديگران بخاطر لذت دنيا راضي نشوي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928800" y="1741320"/>
            <a:ext cx="72151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(normal text)"/>
                <a:cs typeface="2  Lotus"/>
              </a:rPr>
              <a:t>ما را به حدود مادي و معنوي خودمان و ديگران آشنا بفرما، تا از حد خود تجاوز نكنيم و حق ديگران را پايمال نكني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5"/>
          <p:cNvSpPr/>
          <p:nvPr/>
        </p:nvSpPr>
        <p:spPr>
          <a:xfrm>
            <a:off x="2438640" y="669960"/>
            <a:ext cx="426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بِسْمِ اللَّهِ الرَّحْمَنِ الرَّحِ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6"/>
          <p:cNvSpPr/>
          <p:nvPr/>
        </p:nvSpPr>
        <p:spPr>
          <a:xfrm>
            <a:off x="399960" y="1527120"/>
            <a:ext cx="83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يْلٌ لِلْمُطَفِّفِينَ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7"/>
          <p:cNvSpPr/>
          <p:nvPr/>
        </p:nvSpPr>
        <p:spPr>
          <a:xfrm>
            <a:off x="369720" y="437508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أَلا يَظُنُّ أُولَئِكَ أَنَّهُمْ مَبْعُوثُونَ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٤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8"/>
          <p:cNvSpPr/>
          <p:nvPr/>
        </p:nvSpPr>
        <p:spPr>
          <a:xfrm>
            <a:off x="428760" y="528624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لِيَوْمٍ عَظِيمٍ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٥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يَوْمَ يَقُومُ النَّاسُ لِرَبِّ الْعَالَمِينَ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٦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9"/>
          <p:cNvSpPr/>
          <p:nvPr/>
        </p:nvSpPr>
        <p:spPr>
          <a:xfrm>
            <a:off x="360360" y="340344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إِذَا كَالُوهُمْ أَوْ وَزَنُوهُمْ يُخْسِرُونَ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٣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0"/>
          <p:cNvSpPr/>
          <p:nvPr/>
        </p:nvSpPr>
        <p:spPr>
          <a:xfrm>
            <a:off x="369720" y="252720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ا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َ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لَّذِينَ إِذَا اكْتَالُوا عَلَى النَّاسِ يَسْتَوْفُونَ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٢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1-6.wav" descr=""/>
          <p:cNvPicPr/>
          <p:nvPr/>
        </p:nvPicPr>
        <p:blipFill>
          <a:blip r:embed="rId2"/>
          <a:stretch/>
        </p:blipFill>
        <p:spPr>
          <a:xfrm>
            <a:off x="9786960" y="-15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5" name="7-28.wav" descr=""/>
          <p:cNvPicPr/>
          <p:nvPr/>
        </p:nvPicPr>
        <p:blipFill>
          <a:blip r:embed="rId3"/>
          <a:stretch/>
        </p:blipFill>
        <p:spPr>
          <a:xfrm>
            <a:off x="10501200" y="-15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29-36.wav" descr=""/>
          <p:cNvPicPr/>
          <p:nvPr/>
        </p:nvPicPr>
        <p:blipFill>
          <a:blip r:embed="rId4"/>
          <a:stretch/>
        </p:blipFill>
        <p:spPr>
          <a:xfrm>
            <a:off x="11287080" y="-152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3"/>
          <p:cNvSpPr/>
          <p:nvPr/>
        </p:nvSpPr>
        <p:spPr>
          <a:xfrm>
            <a:off x="-8215200" y="901800"/>
            <a:ext cx="7358040" cy="612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كَل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QuranTaha"/>
              </a:rPr>
              <a:t>ّ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ا إِنَّ كِتَابَ الْفُجَّارِ لَفِي سِجِّينٍ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٧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أَدْرَاكَ مَا سِجِّينٌ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٨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2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كِتَابٌ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QuranTaha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مَرْقُومٌ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٩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يْلٌ يَوْمَئِذٍ لِلْمُكَذِّبِي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الَّذِينَ يُكَذِّبُونَ بِيَوْمِ الدِّينِ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2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مَا يُكَذِّبُ بِهِ إِل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QuranTaha"/>
              </a:rPr>
              <a:t>ّ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ا كُلُّ مُعْتَدٍ أَثِيمٍ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إِذَا تُتْلَى عَلَيْهِ آيَاتُنَا قَالَ أَسَاطِيرُ الأوَّلِي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كَل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QuranTaha"/>
              </a:rPr>
              <a:t>ّ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ا بَلْ رَانَ عَلَى قُلُوبِهِمْ مَا كَانُوا يَكْسِبُو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كَل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QuranTaha"/>
              </a:rPr>
              <a:t>ّ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ا إِنَّهُمْ عَنْ رَبِّهِمْ يَوْمَئِذٍ لَمَحْجُوبُو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ثُمَّ إِنَّهُمْ لَصَالُو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QuranTaha"/>
              </a:rPr>
              <a:t>ا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ea typeface="QuranTaha"/>
              </a:rPr>
              <a:t> الْجَحِيمِ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ثُمَّ يُقَالُ هَذَا الَّذِي كُنْتُمْ بِهِ تُكَذِّبُو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كَل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QuranTaha"/>
              </a:rPr>
              <a:t>ّ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ا إِنَّ كِتَابَ الأبْرَارِ لَفِي عِلِّيِّي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أَدْرَاكَ مَا عِلِّيُّو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كِتَابٌ مَرْقُومٌ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يَشْهَدُهُ الْمُقَرَّبُو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١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الأبْرَارَ لَفِي نَعِيمٍ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٢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عَلَى الأرَائِكِ يَنْظُرُو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٣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تَعْرِفُ فِي وُجُوهِهِمْ نَضْرَةَ النَّعِيمِ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٤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يُسْقَوْنَ مِنْ رَحِيقٍ مَخْتُومٍ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٥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خِتَامُهُ مِسْكٌ وَفِي ذَلِكَ فَلْيَتَنَافَسِ الْمُتَنَافِسُو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٦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مِزَاجُهُ مِنْ تَسْنِيمٍ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٧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عَيْنًا يَشْرَبُ بِهَا الْمُقَرَّبُونَ 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٨</a:t>
            </a:r>
            <a:r>
              <a:rPr b="1" lang="ar-SA" sz="2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5"/>
          <p:cNvSpPr/>
          <p:nvPr/>
        </p:nvSpPr>
        <p:spPr>
          <a:xfrm>
            <a:off x="10696680" y="923760"/>
            <a:ext cx="744840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الَّذِينَ أَجْرَمُوا كَانُوا مِنَ الَّذِينَ آمَنُوا يَضْحَكُو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٩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5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مَرُّوا بِهِمْ يَتَغَامَزُو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٠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نْقَلَبُوا إِلَى أَهْلِهِمُ انْقَلَبُوا فَكِهِي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١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5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رَأَوْهُمْ قَالُوا إِنَّ هَؤُلاءِ لَضَالُّو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٢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أُرْسِلُوا عَلَيْهِمْ حَافِظِي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٣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فَالْيَوْمَ الَّذِينَ آمَنُوا مِنَ الْكُفَّارِ يَضْحَكُو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٤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عَلَى الأرَائِكِ يَنْظُرُو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٥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هَلْ ثُوِّبَ الْكُفَّارُ مَا كَانُوا يَفْعَلُو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٦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5125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2259"/>
                            </p:stCondLst>
                            <p:childTnLst>
                              <p:par>
                                <p:cTn id="6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04046E-006 L 0.9882 -0.00324 E">
                                      <p:cBhvr>
                                        <p:cTn id="6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4259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7875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33010"/>
                            </p:stCondLst>
                            <p:childTnLst>
                              <p:par>
                                <p:cTn id="7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6185E-006 L -1.08489 0.00047 E">
                                      <p:cBhvr>
                                        <p:cTn id="7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3501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7873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1980720" y="2921040"/>
            <a:ext cx="518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اختار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_s1037"/>
          <p:cNvSpPr/>
          <p:nvPr/>
        </p:nvSpPr>
        <p:spPr>
          <a:xfrm>
            <a:off x="969840" y="3449520"/>
            <a:ext cx="1935360" cy="1781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یاق سو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9</a:t>
            </a: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_s1049"/>
          <p:cNvSpPr/>
          <p:nvPr/>
        </p:nvSpPr>
        <p:spPr>
          <a:xfrm>
            <a:off x="3538440" y="3449520"/>
            <a:ext cx="1933560" cy="1781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یاق دو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7</a:t>
            </a: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_s1061"/>
          <p:cNvSpPr/>
          <p:nvPr/>
        </p:nvSpPr>
        <p:spPr>
          <a:xfrm>
            <a:off x="6105600" y="3448080"/>
            <a:ext cx="1935000" cy="1781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یاق او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_s1079"/>
          <p:cNvSpPr/>
          <p:nvPr/>
        </p:nvSpPr>
        <p:spPr>
          <a:xfrm>
            <a:off x="2165400" y="1071720"/>
            <a:ext cx="4680000" cy="974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وره مبارکه مطففی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متصل کننده پیکان مستقیم 7"/>
          <p:cNvCxnSpPr>
            <a:stCxn id="75" idx="2"/>
            <a:endCxn id="74" idx="0"/>
          </p:cNvCxnSpPr>
          <p:nvPr/>
        </p:nvCxnSpPr>
        <p:spPr>
          <a:xfrm>
            <a:off x="4504320" y="2046240"/>
            <a:ext cx="2569320" cy="14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متصل کننده پیکان مستقیم 8"/>
          <p:cNvCxnSpPr>
            <a:stCxn id="75" idx="2"/>
            <a:endCxn id="73" idx="0"/>
          </p:cNvCxnSpPr>
          <p:nvPr/>
        </p:nvCxnSpPr>
        <p:spPr>
          <a:xfrm>
            <a:off x="4504320" y="2046240"/>
            <a:ext cx="1080" cy="14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متصل کننده پیکان مستقیم 9"/>
          <p:cNvCxnSpPr>
            <a:stCxn id="75" idx="2"/>
          </p:cNvCxnSpPr>
          <p:nvPr/>
        </p:nvCxnSpPr>
        <p:spPr>
          <a:xfrm flipH="1">
            <a:off x="2165400" y="2046240"/>
            <a:ext cx="2340360" cy="14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2451600" y="1925640"/>
            <a:ext cx="42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2897280" y="3936960"/>
            <a:ext cx="334944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1026000" y="2874960"/>
            <a:ext cx="70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0:45Z</dcterms:modified>
  <cp:revision>85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