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CA0D-AC72-416F-A57B-B0D32DC6C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25B9-5D62-47D4-9F8A-56629EBE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2968-4510-4FEB-8FCB-ADCE2723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8F5F-58DD-47D3-86AC-BB6CD3EF6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7126-7638-4964-9DA6-EB276FB0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76B2-CA6D-4B09-B0A6-9F8E00E2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CAB5-7B95-4FD1-BFF2-2F905014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B2DB-1299-4CFB-90DF-5568A40F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A48B-7A3D-4BC0-BF2C-8F3DC37E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C4FC-80DB-46C7-83D3-9EC2F330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53D7-04AA-4BBE-A5DC-72406997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2211-DC1B-4087-A907-1858FC53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231B-B9DD-418C-BF04-61A20DD96F76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2" descr=""/>
          <p:cNvPicPr/>
          <p:nvPr/>
        </p:nvPicPr>
        <p:blipFill>
          <a:blip r:embed="rId2"/>
          <a:stretch/>
        </p:blipFill>
        <p:spPr>
          <a:xfrm>
            <a:off x="-512640" y="19080"/>
            <a:ext cx="2658960" cy="6345360"/>
          </a:xfrm>
          <a:prstGeom prst="rect">
            <a:avLst/>
          </a:prstGeom>
          <a:ln w="0">
            <a:noFill/>
          </a:ln>
        </p:spPr>
      </p:pic>
      <p:pic>
        <p:nvPicPr>
          <p:cNvPr id="43" name="besm.wav" descr=""/>
          <p:cNvPicPr/>
          <p:nvPr/>
        </p:nvPicPr>
        <p:blipFill>
          <a:blip r:embed="rId3"/>
          <a:stretch/>
        </p:blipFill>
        <p:spPr>
          <a:xfrm>
            <a:off x="1100124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758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1143000" y="711360"/>
            <a:ext cx="678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QuranTaha"/>
              </a:rPr>
              <a:t>بِسْمِ اللَّهِ الرَّحْمَنِ الرَّحِي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179280" y="2043000"/>
            <a:ext cx="8761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QuranTaha"/>
              </a:rPr>
              <a:t>إِذَا السَّمَاءُ انْفَطَرَتْ </a:t>
            </a:r>
            <a:r>
              <a:rPr b="1" lang="ar-SA" sz="36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﴿</a:t>
            </a:r>
            <a:r>
              <a:rPr b="1" lang="ar-SA" sz="36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١</a:t>
            </a:r>
            <a:r>
              <a:rPr b="1" lang="ar-SA" sz="36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﴾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QuranTaha"/>
              </a:rPr>
              <a:t>وَإِذَا الْكَوَاكِبُ انْتَثَرَتْ </a:t>
            </a:r>
            <a:r>
              <a:rPr b="1" lang="ar-SA" sz="36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﴿</a:t>
            </a:r>
            <a:r>
              <a:rPr b="1" lang="ar-SA" sz="36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٢</a:t>
            </a:r>
            <a:r>
              <a:rPr b="1" lang="ar-SA" sz="36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179280" y="4575240"/>
            <a:ext cx="876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QuranTaha"/>
              </a:rPr>
              <a:t>عَلِمَتْ نَفْسٌ مَا قَدَّمَتْ وَأَخَّرَتْ </a:t>
            </a:r>
            <a:r>
              <a:rPr b="1" lang="ar-SA" sz="36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﴿</a:t>
            </a:r>
            <a:r>
              <a:rPr b="1" lang="ar-SA" sz="36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٥</a:t>
            </a:r>
            <a:r>
              <a:rPr b="1" lang="ar-SA" sz="36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﴾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5"/>
          <p:cNvSpPr/>
          <p:nvPr/>
        </p:nvSpPr>
        <p:spPr>
          <a:xfrm>
            <a:off x="179280" y="3351240"/>
            <a:ext cx="876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QuranTaha"/>
              </a:rPr>
              <a:t>وَإِذَا الْبِحَارُ فُجِّرَتْ </a:t>
            </a:r>
            <a:r>
              <a:rPr b="1" lang="ar-SA" sz="36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﴿</a:t>
            </a:r>
            <a:r>
              <a:rPr b="1" lang="ar-SA" sz="36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٣</a:t>
            </a:r>
            <a:r>
              <a:rPr b="1" lang="ar-SA" sz="36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﴾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QuranTaha"/>
              </a:rPr>
              <a:t>وَإِذَا الْقُبُورُ بُعْثِرَتْ </a:t>
            </a:r>
            <a:r>
              <a:rPr b="1" lang="ar-SA" sz="36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﴿</a:t>
            </a:r>
            <a:r>
              <a:rPr b="1" lang="ar-SA" sz="36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٤</a:t>
            </a:r>
            <a:r>
              <a:rPr b="1" lang="ar-SA" sz="36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﴾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1-5.wav" descr=""/>
          <p:cNvPicPr/>
          <p:nvPr/>
        </p:nvPicPr>
        <p:blipFill>
          <a:blip r:embed="rId2"/>
          <a:stretch/>
        </p:blipFill>
        <p:spPr>
          <a:xfrm>
            <a:off x="1050120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30002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2"/>
          <p:cNvSpPr/>
          <p:nvPr/>
        </p:nvSpPr>
        <p:spPr>
          <a:xfrm>
            <a:off x="262440" y="2921040"/>
            <a:ext cx="861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فضای سخن سیاق او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1000080" y="3000240"/>
            <a:ext cx="7143840" cy="1617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Calibri"/>
                <a:cs typeface="2  Lotus"/>
              </a:rPr>
              <a:t>غفلت از آگاهی نسبت به دستاورد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2"/>
          <p:cNvSpPr/>
          <p:nvPr/>
        </p:nvSpPr>
        <p:spPr>
          <a:xfrm>
            <a:off x="305280" y="2921040"/>
            <a:ext cx="853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یاق او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5594400" y="1571760"/>
            <a:ext cx="276372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ts val="4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2  Badr"/>
              </a:rPr>
              <a:t>إِذَا السَّمَاءُ انْفَطَرَت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5594400" y="2571840"/>
            <a:ext cx="2763720" cy="6462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ts val="4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2  Badr"/>
              </a:rPr>
              <a:t>وَإِذَا الْكَوَاكِبُ انْتَثَرَت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5594400" y="3643200"/>
            <a:ext cx="2763720" cy="6462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ts val="4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2  Badr"/>
              </a:rPr>
              <a:t>وَإِذَا الْبِحَارُ فُجِّرَت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5594400" y="4711680"/>
            <a:ext cx="2763720" cy="6462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ts val="4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2  Badr"/>
              </a:rPr>
              <a:t>وَإِذَا الْقُبُورُ بُعْثِرَت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1062000" y="3071880"/>
            <a:ext cx="386712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ts val="4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2  Badr"/>
              </a:rPr>
              <a:t>عَلِمَتْ نَفْسٌ مَا قَدَّمَتْ وَأَخَّرَت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8"/>
          <p:cNvSpPr/>
          <p:nvPr/>
        </p:nvSpPr>
        <p:spPr>
          <a:xfrm>
            <a:off x="5000760" y="1571760"/>
            <a:ext cx="500040" cy="3714480"/>
          </a:xfrm>
          <a:custGeom>
            <a:avLst/>
            <a:gdLst>
              <a:gd name="textAreaLeft" fmla="*/ 319680 w 500040"/>
              <a:gd name="textAreaRight" fmla="*/ 500400 w 500040"/>
              <a:gd name="textAreaTop" fmla="*/ 81000 h 3714480"/>
              <a:gd name="textAreaBottom" fmla="*/ 3633480 h 371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3"/>
                  <a:pt x="10800" y="1505"/>
                </a:cubicBezTo>
                <a:lnTo>
                  <a:pt x="10800" y="9295"/>
                </a:lnTo>
                <a:cubicBezTo>
                  <a:pt x="10800" y="10048"/>
                  <a:pt x="5400" y="10800"/>
                  <a:pt x="0" y="10800"/>
                </a:cubicBezTo>
                <a:cubicBezTo>
                  <a:pt x="5400" y="10800"/>
                  <a:pt x="10800" y="11553"/>
                  <a:pt x="10800" y="12305"/>
                </a:cubicBezTo>
                <a:lnTo>
                  <a:pt x="10800" y="20095"/>
                </a:lnTo>
                <a:cubicBezTo>
                  <a:pt x="10800" y="2084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"/>
          <p:cNvSpPr/>
          <p:nvPr/>
        </p:nvSpPr>
        <p:spPr>
          <a:xfrm>
            <a:off x="1511280" y="2690640"/>
            <a:ext cx="612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یاق او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"/>
          <p:cNvSpPr/>
          <p:nvPr/>
        </p:nvSpPr>
        <p:spPr>
          <a:xfrm>
            <a:off x="928800" y="3860640"/>
            <a:ext cx="72151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2  Badr"/>
              </a:rPr>
              <a:t>نظام منسجم و به هم پیوسته عالم، از هم خواهد گسیخت و قیامت برپا گشته، انسان از تمام دستاوردهای خود آگاه خواهد ش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-6581520" y="1571760"/>
            <a:ext cx="2231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7200" spc="-1" strike="noStrike">
                <a:solidFill>
                  <a:srgbClr val="000000"/>
                </a:solidFill>
                <a:latin typeface="IranNastaliq"/>
                <a:cs typeface="IranNastaliq"/>
              </a:rPr>
              <a:t>آگاهی انسان از تمام دستاوردهای خویش در هنگامه قیامت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2437200" y="1925640"/>
            <a:ext cx="4269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اق دو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727360" y="3952800"/>
            <a:ext cx="3689280" cy="2104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0000"/>
                </a:solidFill>
                <a:latin typeface="Calibri"/>
                <a:cs typeface="B Zar"/>
              </a:rPr>
              <a:t>آیات </a:t>
            </a:r>
            <a:r>
              <a:rPr b="0" lang="fa-IR" sz="6600" spc="-1" strike="noStrike">
                <a:solidFill>
                  <a:srgbClr val="000000"/>
                </a:solidFill>
                <a:latin typeface="Calibri"/>
                <a:ea typeface="B Zar"/>
              </a:rPr>
              <a:t>6</a:t>
            </a:r>
            <a:r>
              <a:rPr b="0" lang="fa-IR" sz="6600" spc="-1" strike="noStrike">
                <a:solidFill>
                  <a:srgbClr val="000000"/>
                </a:solidFill>
                <a:latin typeface="Calibri"/>
                <a:ea typeface="B Zar"/>
              </a:rPr>
              <a:t> تا </a:t>
            </a:r>
            <a:r>
              <a:rPr b="0" lang="fa-IR" sz="6600" spc="-1" strike="noStrike">
                <a:solidFill>
                  <a:srgbClr val="000000"/>
                </a:solidFill>
                <a:latin typeface="Calibri"/>
                <a:ea typeface="B Zar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1011600" y="2874960"/>
            <a:ext cx="7121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یاق دو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185760" y="500040"/>
            <a:ext cx="88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يَا أَيُّهَا الإنْسَانُ مَا غَرَّكَ بِرَبِّكَ الْكَرِيمِ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٦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185760" y="4916520"/>
            <a:ext cx="88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كِرَامًا كَاتِبِينَ 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١١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214200" y="5845320"/>
            <a:ext cx="873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يَعْلَمُونَ مَا تَفْعَلُونَ 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١٢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1"/>
          <p:cNvSpPr/>
          <p:nvPr/>
        </p:nvSpPr>
        <p:spPr>
          <a:xfrm>
            <a:off x="185760" y="3201840"/>
            <a:ext cx="88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كَل</a:t>
            </a:r>
            <a:r>
              <a:rPr b="0" lang="fa-IR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ّ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ا بَلْ تُكَذِّبُونَ بِالدِّينِ 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٩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﴾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214200" y="1415880"/>
            <a:ext cx="87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الَّذِي خَلَقَكَ فَسَوَّاكَ فَعَدَلَكَ</a:t>
            </a:r>
            <a:r>
              <a:rPr b="1" lang="fa-IR" sz="3200" spc="-1" strike="noStrike">
                <a:solidFill>
                  <a:srgbClr val="000000"/>
                </a:solidFill>
                <a:latin typeface="Times New Roman"/>
                <a:ea typeface="QuranTaha"/>
              </a:rPr>
              <a:t> 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٧</a:t>
            </a:r>
            <a:r>
              <a:rPr b="1" lang="ar-SA" sz="32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</a:t>
            </a:r>
            <a:r>
              <a:rPr b="1" lang="ar-SA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214200" y="2332080"/>
            <a:ext cx="87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فِي أَيِّ صُورَةٍ مَا شَاءَ رَكَّبَكَ 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٨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﴾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214200" y="4059360"/>
            <a:ext cx="87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وَإِنَّ عَلَيْكُمْ لَحَافِظِينَ 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١٠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﴾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6-12.wav" descr=""/>
          <p:cNvPicPr/>
          <p:nvPr/>
        </p:nvPicPr>
        <p:blipFill>
          <a:blip r:embed="rId2"/>
          <a:stretch/>
        </p:blipFill>
        <p:spPr>
          <a:xfrm>
            <a:off x="1092996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48056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2012040" y="2921040"/>
            <a:ext cx="51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شناسه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"/>
          <p:cNvSpPr/>
          <p:nvPr/>
        </p:nvSpPr>
        <p:spPr>
          <a:xfrm>
            <a:off x="248760" y="2921040"/>
            <a:ext cx="8646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فضای سخن سیاق دو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-941760" y="3071880"/>
            <a:ext cx="11007360" cy="7542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ts val="5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2  Lotus"/>
              </a:rPr>
              <a:t>غرور (فریفته شدن به پروردگار)، ریشه تکذیب روز جز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"/>
          <p:cNvSpPr/>
          <p:nvPr/>
        </p:nvSpPr>
        <p:spPr>
          <a:xfrm>
            <a:off x="291600" y="2921040"/>
            <a:ext cx="856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یاق دو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3"/>
          <p:cNvSpPr/>
          <p:nvPr/>
        </p:nvSpPr>
        <p:spPr>
          <a:xfrm>
            <a:off x="5143680" y="571680"/>
            <a:ext cx="2728800" cy="13572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ts val="43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2  Badr"/>
              </a:rPr>
              <a:t>يَا أَيُّهَا الإنْسَانُ مَا غَرَّكَ بِرَبِّكَ الْكَرِيم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1428840" y="571680"/>
            <a:ext cx="2728800" cy="13572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ts val="43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2  Badr"/>
              </a:rPr>
              <a:t>الَّذِى خَلَقَكَ فَسَوَّئكَ فَعَدَلَكَ  فىِ أَىّ‏ِ صُورَةٍ مَّا شَاءَ رَكَّبَك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5143680" y="5369040"/>
            <a:ext cx="2728800" cy="703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ts val="43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2  Badr"/>
              </a:rPr>
              <a:t>يَعْلَمُونَ مَا تَفْعَلُون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5143680" y="2386080"/>
            <a:ext cx="2728800" cy="703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ts val="43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2  Badr"/>
              </a:rPr>
              <a:t>كَلا بَلْ تُكَذِّبُونَ بِالدِّين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143680" y="4429080"/>
            <a:ext cx="2728800" cy="703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ts val="43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2  Badr"/>
              </a:rPr>
              <a:t>كِرَامًا كَاتِبِين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5143680" y="3394080"/>
            <a:ext cx="2728800" cy="703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ts val="43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2  Badr"/>
              </a:rPr>
              <a:t>وَإِنَّ عَلَيْكُمْ لَحَافِظِين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AutoShape 9"/>
          <p:cNvCxnSpPr>
            <a:stCxn id="113" idx="2"/>
            <a:endCxn id="116" idx="0"/>
          </p:cNvCxnSpPr>
          <p:nvPr/>
        </p:nvCxnSpPr>
        <p:spPr>
          <a:xfrm flipH="1">
            <a:off x="6506280" y="1928880"/>
            <a:ext cx="25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AutoShape 10"/>
          <p:cNvCxnSpPr>
            <a:stCxn id="116" idx="2"/>
            <a:endCxn id="118" idx="0"/>
          </p:cNvCxnSpPr>
          <p:nvPr/>
        </p:nvCxnSpPr>
        <p:spPr>
          <a:xfrm flipH="1">
            <a:off x="6506280" y="3088800"/>
            <a:ext cx="25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AutoShape 11"/>
          <p:cNvCxnSpPr>
            <a:stCxn id="118" idx="2"/>
            <a:endCxn id="117" idx="0"/>
          </p:cNvCxnSpPr>
          <p:nvPr/>
        </p:nvCxnSpPr>
        <p:spPr>
          <a:xfrm flipH="1">
            <a:off x="6506280" y="4097160"/>
            <a:ext cx="2520" cy="33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AutoShape 12"/>
          <p:cNvCxnSpPr>
            <a:stCxn id="117" idx="2"/>
            <a:endCxn id="115" idx="0"/>
          </p:cNvCxnSpPr>
          <p:nvPr/>
        </p:nvCxnSpPr>
        <p:spPr>
          <a:xfrm flipH="1">
            <a:off x="6506280" y="5133600"/>
            <a:ext cx="2520" cy="23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AutoShape 13"/>
          <p:cNvCxnSpPr>
            <a:stCxn id="113" idx="1"/>
            <a:endCxn id="114" idx="3"/>
          </p:cNvCxnSpPr>
          <p:nvPr/>
        </p:nvCxnSpPr>
        <p:spPr>
          <a:xfrm flipH="1" flipV="1">
            <a:off x="4156920" y="1248480"/>
            <a:ext cx="9867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"/>
          <p:cNvSpPr/>
          <p:nvPr/>
        </p:nvSpPr>
        <p:spPr>
          <a:xfrm>
            <a:off x="1511280" y="2690640"/>
            <a:ext cx="612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یاق دو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"/>
          <p:cNvSpPr/>
          <p:nvPr/>
        </p:nvSpPr>
        <p:spPr>
          <a:xfrm>
            <a:off x="928800" y="3029040"/>
            <a:ext cx="73580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2  Badr"/>
              </a:rPr>
              <a:t>شما جزا را دورغ می پندارید و به همین دلیل غیر خدا در چشمتان جلوه می کند و از خدا غافل می شوید. بدانید که انسان و تمام افکار و علایق و اعمالش حفظ می گردد و جزا حق است؛ پس مبادا به پروردگار کریمتان فریفته شوی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-5842440" y="1428840"/>
            <a:ext cx="2077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0000"/>
                </a:solidFill>
                <a:latin typeface="IranNastaliq"/>
                <a:cs typeface="IranNastaliq"/>
              </a:rPr>
              <a:t>بازداری انسان از فریفته شدن به پروردگار، براثر تکذیب جزا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"/>
          <p:cNvSpPr/>
          <p:nvPr/>
        </p:nvSpPr>
        <p:spPr>
          <a:xfrm>
            <a:off x="2237760" y="1925640"/>
            <a:ext cx="4668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اق سو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2654280" y="3936960"/>
            <a:ext cx="3835440" cy="2104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0000"/>
                </a:solidFill>
                <a:latin typeface="Calibri"/>
                <a:cs typeface="B Zar"/>
              </a:rPr>
              <a:t>آیات </a:t>
            </a:r>
            <a:r>
              <a:rPr b="0" lang="fa-IR" sz="6600" spc="-1" strike="noStrike">
                <a:solidFill>
                  <a:srgbClr val="000000"/>
                </a:solidFill>
                <a:latin typeface="Calibri"/>
                <a:ea typeface="B Zar"/>
              </a:rPr>
              <a:t>13</a:t>
            </a:r>
            <a:r>
              <a:rPr b="0" lang="fa-IR" sz="6600" spc="-1" strike="noStrike">
                <a:solidFill>
                  <a:srgbClr val="000000"/>
                </a:solidFill>
                <a:latin typeface="Calibri"/>
                <a:ea typeface="B Zar"/>
              </a:rPr>
              <a:t> تا </a:t>
            </a:r>
            <a:r>
              <a:rPr b="0" lang="fa-IR" sz="6600" spc="-1" strike="noStrike">
                <a:solidFill>
                  <a:srgbClr val="000000"/>
                </a:solidFill>
                <a:latin typeface="Calibri"/>
                <a:ea typeface="B Zar"/>
              </a:rPr>
              <a:t>1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"/>
          <p:cNvSpPr/>
          <p:nvPr/>
        </p:nvSpPr>
        <p:spPr>
          <a:xfrm>
            <a:off x="811800" y="2874960"/>
            <a:ext cx="7520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یاق سو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"/>
          <p:cNvSpPr/>
          <p:nvPr/>
        </p:nvSpPr>
        <p:spPr>
          <a:xfrm>
            <a:off x="139680" y="4878360"/>
            <a:ext cx="87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يَوْمَ لا تَمْلِكُ نَفْسٌ لِنَفْسٍ شَيْئًا وَالأمْرُ يَوْمَئِذٍ لِلَّهِ 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١٩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149400" y="2424240"/>
            <a:ext cx="880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يَصْلَوْنَهَا يَوْمَ الدِّينِ 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١٥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وَمَا هُمْ عَنْهَا بِغَائِبِينَ 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١٦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158760" y="3662280"/>
            <a:ext cx="876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وَمَا أَدْرَاكَ مَا يَوْمُ الدِّينِ 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١٧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ثُمَّ مَا أَدْرَاكَ مَا يَوْمُ الدِّينِ 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١٨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5"/>
          <p:cNvSpPr/>
          <p:nvPr/>
        </p:nvSpPr>
        <p:spPr>
          <a:xfrm>
            <a:off x="139680" y="1184400"/>
            <a:ext cx="87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إِنَّ الأبْرَارَ لَفِي نَعِيمٍ 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١٣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وَإِنَّ الْفُجَّارَ لَفِي جَحِيمٍ 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١٤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13-19.wav" descr=""/>
          <p:cNvPicPr/>
          <p:nvPr/>
        </p:nvPicPr>
        <p:blipFill>
          <a:blip r:embed="rId2"/>
          <a:stretch/>
        </p:blipFill>
        <p:spPr>
          <a:xfrm>
            <a:off x="10572840" y="4287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4000"/>
                            </p:stCondLst>
                            <p:childTnLst>
                              <p:par>
                                <p:cTn id="4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5" dur="57484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"/>
          <p:cNvSpPr/>
          <p:nvPr/>
        </p:nvSpPr>
        <p:spPr>
          <a:xfrm>
            <a:off x="68400" y="2921040"/>
            <a:ext cx="900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فضای سخن سیاق سو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نگهدارنده مکان محتوا 6" descr=""/>
          <p:cNvPicPr/>
          <p:nvPr/>
        </p:nvPicPr>
        <p:blipFill>
          <a:blip r:embed="rId2"/>
          <a:stretch/>
        </p:blipFill>
        <p:spPr>
          <a:xfrm>
            <a:off x="-36360" y="255600"/>
            <a:ext cx="911988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2"/>
          <p:cNvSpPr/>
          <p:nvPr/>
        </p:nvSpPr>
        <p:spPr>
          <a:xfrm>
            <a:off x="-1346040" y="3071880"/>
            <a:ext cx="11836440" cy="665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2  Lotus"/>
              </a:rPr>
              <a:t>غرور(فریفته شدن به پروردگار) و فجور(گناه) در اثر تکذیب روز جز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2"/>
          <p:cNvSpPr/>
          <p:nvPr/>
        </p:nvSpPr>
        <p:spPr>
          <a:xfrm>
            <a:off x="110880" y="2921040"/>
            <a:ext cx="892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یاق سو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3"/>
          <p:cNvSpPr/>
          <p:nvPr/>
        </p:nvSpPr>
        <p:spPr>
          <a:xfrm>
            <a:off x="6213600" y="1214280"/>
            <a:ext cx="250164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ts val="4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2  Badr"/>
              </a:rPr>
              <a:t>إِنَّ الأبْرَارَ لَفِي نَعِيم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6213600" y="2214720"/>
            <a:ext cx="250164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ts val="4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2  Badr"/>
              </a:rPr>
              <a:t>وَإِنَّ الْفُجَّارَ لَفِي جَحِيمٍ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2  Bad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357120" y="2214720"/>
            <a:ext cx="250200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ts val="4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2  Badr"/>
              </a:rPr>
              <a:t>وَمَا هُمْ عَنْهَا بِغَائِبِين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3287880" y="2214720"/>
            <a:ext cx="249840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ts val="4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2  Badr"/>
              </a:rPr>
              <a:t>يَصْلَوْنَهَا يَوْمَ الدِّين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287880" y="3137040"/>
            <a:ext cx="249840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ts val="4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2  Badr"/>
              </a:rPr>
              <a:t>وَمَا أَدْرَاكَ مَا يَوْمُ الدِّی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1785960" y="5072040"/>
            <a:ext cx="550080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ts val="4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2  Badr"/>
              </a:rPr>
              <a:t>يَوْمَ لا تَمْلِكُ نَفْسٌ لِنَفْسٍ شَيْئًا وَالأمْرُ يَوْمَئِذٍ لِلَّه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3287880" y="4143240"/>
            <a:ext cx="249840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ts val="4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2  Badr"/>
              </a:rPr>
              <a:t>ثُمَّ مَا أَدْرَاكَ مَا يَوْمُ الد</a:t>
            </a:r>
            <a:r>
              <a:rPr b="1" lang="fa-IR" sz="2400" spc="-1" strike="noStrike">
                <a:solidFill>
                  <a:srgbClr val="000000"/>
                </a:solidFill>
                <a:latin typeface="Calibri"/>
                <a:cs typeface="2  Badr"/>
              </a:rPr>
              <a:t>ّ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2  Badr"/>
              </a:rPr>
              <a:t>ی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AutoShape 10"/>
          <p:cNvCxnSpPr>
            <a:stCxn id="147" idx="2"/>
            <a:endCxn id="148" idx="0"/>
          </p:cNvCxnSpPr>
          <p:nvPr/>
        </p:nvCxnSpPr>
        <p:spPr>
          <a:xfrm flipH="1">
            <a:off x="7464240" y="1856880"/>
            <a:ext cx="21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5" name="AutoShape 11"/>
          <p:cNvCxnSpPr>
            <a:stCxn id="148" idx="1"/>
            <a:endCxn id="150" idx="3"/>
          </p:cNvCxnSpPr>
          <p:nvPr/>
        </p:nvCxnSpPr>
        <p:spPr>
          <a:xfrm flipH="1" flipV="1">
            <a:off x="5785560" y="2534400"/>
            <a:ext cx="4280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12"/>
          <p:cNvCxnSpPr>
            <a:stCxn id="150" idx="1"/>
            <a:endCxn id="149" idx="3"/>
          </p:cNvCxnSpPr>
          <p:nvPr/>
        </p:nvCxnSpPr>
        <p:spPr>
          <a:xfrm flipH="1" flipV="1">
            <a:off x="2858400" y="2534400"/>
            <a:ext cx="429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AutoShape 13"/>
          <p:cNvCxnSpPr>
            <a:stCxn id="150" idx="2"/>
            <a:endCxn id="151" idx="0"/>
          </p:cNvCxnSpPr>
          <p:nvPr/>
        </p:nvCxnSpPr>
        <p:spPr>
          <a:xfrm flipH="1">
            <a:off x="4536720" y="2857680"/>
            <a:ext cx="2160" cy="28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AutoShape 14"/>
          <p:cNvCxnSpPr>
            <a:stCxn id="151" idx="2"/>
            <a:endCxn id="153" idx="0"/>
          </p:cNvCxnSpPr>
          <p:nvPr/>
        </p:nvCxnSpPr>
        <p:spPr>
          <a:xfrm flipH="1">
            <a:off x="4536720" y="3781440"/>
            <a:ext cx="2160" cy="36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AutoShape 15"/>
          <p:cNvCxnSpPr>
            <a:stCxn id="153" idx="2"/>
            <a:endCxn id="152" idx="0"/>
          </p:cNvCxnSpPr>
          <p:nvPr/>
        </p:nvCxnSpPr>
        <p:spPr>
          <a:xfrm flipH="1">
            <a:off x="4535280" y="4786200"/>
            <a:ext cx="216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2"/>
          <p:cNvSpPr/>
          <p:nvPr/>
        </p:nvSpPr>
        <p:spPr>
          <a:xfrm>
            <a:off x="1511280" y="2690640"/>
            <a:ext cx="612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یاق سو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1"/>
          <p:cNvSpPr/>
          <p:nvPr/>
        </p:nvSpPr>
        <p:spPr>
          <a:xfrm>
            <a:off x="1143000" y="3714840"/>
            <a:ext cx="6858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2  Badr"/>
              </a:rPr>
              <a:t>در آن روز از دست هیچکس کاری برای انسان ساخته نیست و فرمان مطلق از آنِ خداست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-4733280" y="981000"/>
            <a:ext cx="1861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7200" spc="-1" strike="noStrike">
                <a:solidFill>
                  <a:srgbClr val="000000"/>
                </a:solidFill>
                <a:latin typeface="IranNastaliq"/>
                <a:cs typeface="IranNastaliq"/>
              </a:rPr>
              <a:t>انذار فاجران از عذاب بی چون و چرا در روز جزا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49760" y="2921040"/>
            <a:ext cx="704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فضای سخن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2"/>
          <p:cNvSpPr/>
          <p:nvPr/>
        </p:nvSpPr>
        <p:spPr>
          <a:xfrm>
            <a:off x="1562400" y="3071880"/>
            <a:ext cx="6019200" cy="665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2  Lotus"/>
              </a:rPr>
              <a:t>فجور و گناه در اثر تکذیب روز جز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"/>
          <p:cNvSpPr/>
          <p:nvPr/>
        </p:nvSpPr>
        <p:spPr>
          <a:xfrm>
            <a:off x="2097000" y="2921040"/>
            <a:ext cx="495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_s1079"/>
          <p:cNvSpPr/>
          <p:nvPr/>
        </p:nvSpPr>
        <p:spPr>
          <a:xfrm>
            <a:off x="6084720" y="2924280"/>
            <a:ext cx="1846440" cy="3095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Calibri"/>
                <a:cs typeface="2  Badr"/>
              </a:rPr>
              <a:t>آیه</a:t>
            </a:r>
            <a:r>
              <a:rPr b="1" lang="fa-IR" sz="1600" spc="-1" strike="noStrike">
                <a:solidFill>
                  <a:srgbClr val="000000"/>
                </a:solidFill>
                <a:latin typeface="Calibri"/>
                <a:ea typeface="2  Badr"/>
              </a:rPr>
              <a:t>1</a:t>
            </a:r>
            <a:r>
              <a:rPr b="1" lang="fa-IR" sz="1600" spc="-1" strike="noStrike">
                <a:solidFill>
                  <a:srgbClr val="000000"/>
                </a:solidFill>
                <a:latin typeface="Calibri"/>
                <a:ea typeface="2  Badr"/>
              </a:rPr>
              <a:t> - </a:t>
            </a:r>
            <a:r>
              <a:rPr b="1" lang="fa-IR" sz="1600" spc="-1" strike="noStrike">
                <a:solidFill>
                  <a:srgbClr val="000000"/>
                </a:solidFill>
                <a:latin typeface="Calibri"/>
                <a:ea typeface="2  Badr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Calibri"/>
                <a:cs typeface="2  Badr"/>
              </a:rPr>
              <a:t>آگاهی انسان از تمام دستاوردهای خویش در هنگامه قیامت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2  Badr"/>
              </a:rPr>
              <a:t>نظام منسجم و به هم پیوسته عالم، از هم خواهد گسیخت و قیامت برپا گشته، انسان از تمام دستاوردهای خود آگاه خواهد شد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_s1087"/>
          <p:cNvSpPr/>
          <p:nvPr/>
        </p:nvSpPr>
        <p:spPr>
          <a:xfrm>
            <a:off x="3203640" y="2924280"/>
            <a:ext cx="2736720" cy="309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Calibri"/>
                <a:cs typeface="2  Badr"/>
              </a:rPr>
              <a:t>آیه</a:t>
            </a:r>
            <a:r>
              <a:rPr b="1" lang="fa-IR" sz="1600" spc="-1" strike="noStrike">
                <a:solidFill>
                  <a:srgbClr val="000000"/>
                </a:solidFill>
                <a:latin typeface="Calibri"/>
                <a:ea typeface="2  Badr"/>
              </a:rPr>
              <a:t>6</a:t>
            </a:r>
            <a:r>
              <a:rPr b="1" lang="fa-IR" sz="1600" spc="-1" strike="noStrike">
                <a:solidFill>
                  <a:srgbClr val="000000"/>
                </a:solidFill>
                <a:latin typeface="Calibri"/>
                <a:ea typeface="2  Badr"/>
              </a:rPr>
              <a:t> - </a:t>
            </a:r>
            <a:r>
              <a:rPr b="1" lang="fa-IR" sz="1600" spc="-1" strike="noStrike">
                <a:solidFill>
                  <a:srgbClr val="000000"/>
                </a:solidFill>
                <a:latin typeface="Calibri"/>
                <a:ea typeface="2  Badr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Calibri"/>
                <a:cs typeface="2  Badr"/>
              </a:rPr>
              <a:t>بازداری انسان از فریفته شدن به پروردگار، براثر تکذیب جز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2  Badr"/>
              </a:rPr>
              <a:t>شما جزا را دورغ می پندارید و به همین دلیل غیر خدا در چشمتان جلوه می کند و از خدا غافل       می شوید. بدانید که انسان و تمام افکار و علایق و اعمالش حفظ می گردد و جزا حق است؛ پس مبادا به پروردگار کریمتان فریفته شوید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_s1095"/>
          <p:cNvSpPr/>
          <p:nvPr/>
        </p:nvSpPr>
        <p:spPr>
          <a:xfrm>
            <a:off x="1187280" y="2924280"/>
            <a:ext cx="1872000" cy="309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Calibri"/>
                <a:cs typeface="2  Badr"/>
              </a:rPr>
              <a:t>آیه</a:t>
            </a:r>
            <a:r>
              <a:rPr b="1" lang="fa-IR" sz="1600" spc="-1" strike="noStrike">
                <a:solidFill>
                  <a:srgbClr val="000000"/>
                </a:solidFill>
                <a:latin typeface="Calibri"/>
                <a:ea typeface="2  Badr"/>
              </a:rPr>
              <a:t>13</a:t>
            </a:r>
            <a:r>
              <a:rPr b="1" lang="fa-IR" sz="1600" spc="-1" strike="noStrike">
                <a:solidFill>
                  <a:srgbClr val="000000"/>
                </a:solidFill>
                <a:latin typeface="Calibri"/>
                <a:ea typeface="2  Badr"/>
              </a:rPr>
              <a:t> - </a:t>
            </a:r>
            <a:r>
              <a:rPr b="1" lang="fa-IR" sz="1600" spc="-1" strike="noStrike">
                <a:solidFill>
                  <a:srgbClr val="000000"/>
                </a:solidFill>
                <a:latin typeface="Calibri"/>
                <a:ea typeface="2  Badr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Calibri"/>
                <a:cs typeface="2  Badr"/>
              </a:rPr>
              <a:t>انذار فاجران از عذاب بی چون و چرا در روز جزا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2  Badr"/>
              </a:rPr>
              <a:t>در آن روز از دست هیچکس کاری برای انسان ساخته نیست و فرمان مطلق از آنِ خداست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ea typeface="2  Badr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_s1103"/>
          <p:cNvSpPr/>
          <p:nvPr/>
        </p:nvSpPr>
        <p:spPr>
          <a:xfrm>
            <a:off x="1733400" y="333360"/>
            <a:ext cx="5677200" cy="1440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2  Badr"/>
              </a:rPr>
              <a:t>بازداری انسان از غرور و فجو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Calibri"/>
                <a:cs typeface="2  Badr"/>
              </a:rPr>
              <a:t>ای انسان! چه چیز در نظرت جلوه کرد و تو را از پروردگار کریمت غافل ساخت و در نتیجه، از فرمان او سر باز زدی؟ این همه، به سبب عدم باور به جزاست. بدان که تو با تمام دستاوردهایت حفظ می شوی و جزا حتمی است و عاقبت فاجران، جهنم است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متصل کننده لولایی 8"/>
          <p:cNvCxnSpPr>
            <a:stCxn id="172" idx="0"/>
            <a:endCxn id="175" idx="2"/>
          </p:cNvCxnSpPr>
          <p:nvPr/>
        </p:nvCxnSpPr>
        <p:spPr>
          <a:xfrm flipV="1" rot="16200000">
            <a:off x="5214240" y="1129680"/>
            <a:ext cx="1151640" cy="2437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7" name="متصل کننده لولایی 14"/>
          <p:cNvCxnSpPr>
            <a:stCxn id="174" idx="0"/>
            <a:endCxn id="175" idx="2"/>
          </p:cNvCxnSpPr>
          <p:nvPr/>
        </p:nvCxnSpPr>
        <p:spPr>
          <a:xfrm flipH="1" flipV="1" rot="5400000">
            <a:off x="2772360" y="1124280"/>
            <a:ext cx="1151640" cy="2448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8" name="متصل کننده پیکان مستقیم 16"/>
          <p:cNvCxnSpPr>
            <a:stCxn id="173" idx="0"/>
            <a:endCxn id="175" idx="2"/>
          </p:cNvCxnSpPr>
          <p:nvPr/>
        </p:nvCxnSpPr>
        <p:spPr>
          <a:xfrm flipV="1">
            <a:off x="4572000" y="1774080"/>
            <a:ext cx="2160" cy="115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7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8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000"/>
                            </p:stCondLst>
                            <p:childTnLst>
                              <p:par>
                                <p:cTn id="58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3000"/>
                            </p:stCondLst>
                            <p:childTnLst>
                              <p:par>
                                <p:cTn id="5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2"/>
          <p:cNvSpPr/>
          <p:nvPr/>
        </p:nvSpPr>
        <p:spPr>
          <a:xfrm>
            <a:off x="1891800" y="287496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1891800" y="287496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2"/>
          <p:cNvSpPr/>
          <p:nvPr/>
        </p:nvSpPr>
        <p:spPr>
          <a:xfrm>
            <a:off x="428760" y="500040"/>
            <a:ext cx="8286480" cy="58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بِسْمِ اللَّهِ الرَّحْمَنِ الرَّحِيم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إِذَا السَّمَاءُ انْفَطَرَتْ 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وَإِذَا الْكَوَاكِبُ انْتَثَرَتْ 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وَإِذَا الْبِحَارُ فُجِّرَتْ 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وَإِذَا الْقُبُورُ بُعْثِرَتْ 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٤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عَلِمَتْ نَفْسٌ مَا قَدَّمَتْ وَأَخَّرَتْ 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٥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يَا أَيُّهَا الإنْسَانُ مَا غَرَّكَ بِرَبِّكَ الْكَرِيمِ 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٦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الَّذِي خَلَقَكَ فَسَوَّاكَ فَعَدَلَكَ 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٧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</a:t>
            </a:r>
            <a:r>
              <a:rPr b="1" lang="ar-SA" sz="25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فِي أَيِّ صُورَةٍ مَا شَاءَ رَكَّبَكَ 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٨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كَل</a:t>
            </a: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QuranTaha"/>
              </a:rPr>
              <a:t>ّ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ا بَلْ تُكَذِّبُونَ بِالدِّينِ 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٩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وَإِنَّ عَلَيْكُمْ لَحَافِظِينَ 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٠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كِرَامًا كَاتِبِينَ 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١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يَعْلَمُونَ مَا تَفْعَلُونَ 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٢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إِنَّ الأبْرَارَ لَفِي نَعِيمٍ 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٣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وَإِنَّ الْفُجَّارَ لَفِي جَحِيمٍ 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٤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يَصْلَوْنَهَا يَوْمَ الدِّينِ 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٥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وَمَا هُمْ عَنْهَا بِغَائِبِينَ 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٦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وَمَا أَدْرَاكَ مَا يَوْمُ الدِّينِ 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٧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ثُمَّ مَا أَدْرَاكَ مَا يَوْمُ الدِّينِ 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٨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يَوْمَ لا تَمْلِكُ نَفْسٌ لِنَفْسٍ شَيْئًا وَالأمْرُ يَوْمَئِذٍ لِلَّهِ 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٩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259.MP3" descr=""/>
          <p:cNvPicPr/>
          <p:nvPr/>
        </p:nvPicPr>
        <p:blipFill>
          <a:blip r:embed="rId2"/>
          <a:stretch/>
        </p:blipFill>
        <p:spPr>
          <a:xfrm>
            <a:off x="10501200" y="285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4" dur="136887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2"/>
          <p:cNvSpPr/>
          <p:nvPr/>
        </p:nvSpPr>
        <p:spPr>
          <a:xfrm>
            <a:off x="3683160" y="2766960"/>
            <a:ext cx="177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دع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"/>
          <p:cNvSpPr/>
          <p:nvPr/>
        </p:nvSpPr>
        <p:spPr>
          <a:xfrm>
            <a:off x="3418560" y="285840"/>
            <a:ext cx="225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000000"/>
                </a:solidFill>
                <a:latin typeface="IranNastaliq"/>
                <a:cs typeface="IranNastaliq"/>
              </a:rPr>
              <a:t>خدايا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2769480" y="3716280"/>
            <a:ext cx="360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000000"/>
                </a:solidFill>
                <a:latin typeface="IranNastaliq"/>
                <a:cs typeface="IranNastaliq"/>
              </a:rPr>
              <a:t>پروردگارا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1008000" y="1500120"/>
            <a:ext cx="71280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(normal text)"/>
                <a:cs typeface="2  Badr"/>
              </a:rPr>
              <a:t>تو ما را به بهترين صورت آفريدي و فرصت حيات را در اختيار ما قرار دادي، مارا ياري كن كه اين همه نعمت موجب غفلت ما نشود و ما را از ياد معاد دور نگردان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1428840" y="4929120"/>
            <a:ext cx="6192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(normal text)"/>
                <a:cs typeface="2  Badr"/>
              </a:rPr>
              <a:t>در آن روزي كه هيچ كس به سود كسي قدرت كاري را ندارد، تو ياور ما با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000"/>
                            </p:stCondLst>
                            <p:childTnLst>
                              <p:par>
                                <p:cTn id="6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2"/>
          <p:cNvSpPr/>
          <p:nvPr/>
        </p:nvSpPr>
        <p:spPr>
          <a:xfrm>
            <a:off x="1146600" y="2644920"/>
            <a:ext cx="685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9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التماس دع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428760" y="500040"/>
            <a:ext cx="8286480" cy="58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بِسْمِ اللَّهِ الرَّحْمَنِ الرَّحِيم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إِذَا السَّمَاءُ انْفَطَرَتْ 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وَإِذَا الْكَوَاكِبُ انْتَثَرَتْ 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وَإِذَا الْبِحَارُ فُجِّرَتْ 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وَإِذَا الْقُبُورُ بُعْثِرَتْ 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٤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عَلِمَتْ نَفْسٌ مَا قَدَّمَتْ وَأَخَّرَتْ 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٥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يَا أَيُّهَا الإنْسَانُ مَا غَرَّكَ بِرَبِّكَ الْكَرِيمِ 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٦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الَّذِي خَلَقَكَ فَسَوَّاكَ فَعَدَلَكَ 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٧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</a:t>
            </a:r>
            <a:r>
              <a:rPr b="1" lang="ar-SA" sz="25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فِي أَيِّ صُورَةٍ مَا شَاءَ رَكَّبَكَ 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٨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كَلا بَلْ تُكَذِّبُونَ بِالدِّينِ 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٩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وَإِنَّ عَلَيْكُمْ لَحَافِظِينَ 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٠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كِرَامًا كَاتِبِينَ 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١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يَعْلَمُونَ مَا تَفْعَلُونَ 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٢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إِنَّ الأبْرَارَ لَفِي نَعِيمٍ 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٣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وَإِنَّ الْفُجَّارَ لَفِي جَحِيمٍ 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٤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يَصْلَوْنَهَا يَوْمَ الدِّينِ 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٥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وَمَا هُمْ عَنْهَا بِغَائِبِينَ 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٦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وَمَا أَدْرَاكَ مَا يَوْمُ الدِّينِ 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٧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ثُمَّ مَا أَدْرَاكَ مَا يَوْمُ الدِّينِ 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٨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يَوْمَ لا تَمْلِكُ نَفْسٌ لِنَفْسٍ شَيْئًا وَالأمْرُ يَوْمَئِذٍ لِلَّهِ 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٩</a:t>
            </a:r>
            <a:r>
              <a:rPr b="1" lang="ar-SA" sz="25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259.MP3" descr=""/>
          <p:cNvPicPr/>
          <p:nvPr/>
        </p:nvPicPr>
        <p:blipFill>
          <a:blip r:embed="rId2"/>
          <a:stretch/>
        </p:blipFill>
        <p:spPr>
          <a:xfrm>
            <a:off x="10501200" y="285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36887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"/>
          <p:cNvSpPr/>
          <p:nvPr/>
        </p:nvSpPr>
        <p:spPr>
          <a:xfrm>
            <a:off x="1980720" y="2921040"/>
            <a:ext cx="5182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اختار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_s1037"/>
          <p:cNvSpPr/>
          <p:nvPr/>
        </p:nvSpPr>
        <p:spPr>
          <a:xfrm>
            <a:off x="928800" y="3933720"/>
            <a:ext cx="2060640" cy="1567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سیاق سوم </a:t>
            </a:r>
            <a:r>
              <a:rPr b="1" lang="fa-IR" sz="4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3</a:t>
            </a:r>
            <a:r>
              <a:rPr b="1" lang="fa-IR" sz="4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تا </a:t>
            </a:r>
            <a:r>
              <a:rPr b="1" lang="fa-IR" sz="4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_s1049"/>
          <p:cNvSpPr/>
          <p:nvPr/>
        </p:nvSpPr>
        <p:spPr>
          <a:xfrm>
            <a:off x="3497400" y="3933720"/>
            <a:ext cx="2062080" cy="1567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سیاق دو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r>
              <a:rPr b="1" lang="fa-IR" sz="4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6</a:t>
            </a:r>
            <a:r>
              <a:rPr b="1" lang="fa-IR" sz="4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تا </a:t>
            </a:r>
            <a:r>
              <a:rPr b="1" lang="fa-IR" sz="4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_s1061"/>
          <p:cNvSpPr/>
          <p:nvPr/>
        </p:nvSpPr>
        <p:spPr>
          <a:xfrm>
            <a:off x="6083280" y="3968640"/>
            <a:ext cx="2060640" cy="1567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سیاق او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r>
              <a:rPr b="1" lang="fa-IR" sz="4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</a:t>
            </a:r>
            <a:r>
              <a:rPr b="1" lang="fa-IR" sz="4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تا </a:t>
            </a:r>
            <a:r>
              <a:rPr b="1" lang="fa-IR" sz="4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_s1079"/>
          <p:cNvSpPr/>
          <p:nvPr/>
        </p:nvSpPr>
        <p:spPr>
          <a:xfrm>
            <a:off x="2217600" y="1549440"/>
            <a:ext cx="4575240" cy="974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سوره مبارکه انفطا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متصل کننده پیکان مستقیم 7"/>
          <p:cNvCxnSpPr>
            <a:stCxn id="59" idx="2"/>
            <a:endCxn id="58" idx="0"/>
          </p:cNvCxnSpPr>
          <p:nvPr/>
        </p:nvCxnSpPr>
        <p:spPr>
          <a:xfrm>
            <a:off x="4504320" y="2523600"/>
            <a:ext cx="2608920" cy="144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" name="متصل کننده پیکان مستقیم 8"/>
          <p:cNvCxnSpPr>
            <a:stCxn id="59" idx="2"/>
            <a:endCxn id="57" idx="0"/>
          </p:cNvCxnSpPr>
          <p:nvPr/>
        </p:nvCxnSpPr>
        <p:spPr>
          <a:xfrm>
            <a:off x="4505400" y="2523960"/>
            <a:ext cx="24480" cy="1410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" name="متصل کننده پیکان مستقیم 9"/>
          <p:cNvCxnSpPr>
            <a:stCxn id="59" idx="2"/>
            <a:endCxn id="56" idx="0"/>
          </p:cNvCxnSpPr>
          <p:nvPr/>
        </p:nvCxnSpPr>
        <p:spPr>
          <a:xfrm flipH="1">
            <a:off x="1958400" y="2523960"/>
            <a:ext cx="2547000" cy="1410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"/>
          <p:cNvSpPr/>
          <p:nvPr/>
        </p:nvSpPr>
        <p:spPr>
          <a:xfrm>
            <a:off x="2451600" y="1925640"/>
            <a:ext cx="424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اق او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2897280" y="3936960"/>
            <a:ext cx="3349440" cy="2104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آیات 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تا 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"/>
          <p:cNvSpPr/>
          <p:nvPr/>
        </p:nvSpPr>
        <p:spPr>
          <a:xfrm>
            <a:off x="1026000" y="2874960"/>
            <a:ext cx="709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یاق او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7T11:41:04Z</dcterms:created>
  <dc:creator>YAALI</dc:creator>
  <dc:description/>
  <dc:language>en-US</dc:language>
  <cp:lastModifiedBy>ALI</cp:lastModifiedBy>
  <dcterms:modified xsi:type="dcterms:W3CDTF">2011-11-16T21:20:31Z</dcterms:modified>
  <cp:revision>76</cp:revision>
  <dc:subject/>
  <dc:title>ارائه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