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DEB7-F8BB-45C0-988A-341184098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نگهدارنده مکان شماره اسلاید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9FB0-AAC6-4B0A-9122-E941EDB35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F4DC-53A9-4E53-BE6D-D8C383C6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7047-E7D2-4463-BE2A-EBA9C5D8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6564-525F-44A3-9C63-C0323878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F6F-52EF-4166-BAC2-27D687BB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9D0B-D9B6-43DD-BC9F-9DF35CF7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73CC-8085-4AC9-8CC1-6AE184A9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844-7279-4B18-9279-12265D3B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87B3-11C2-4BA0-914C-0F292364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5F41-0CE0-4680-8914-714EF420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F82C-CD10-421C-BB13-D1545D9A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BFF1-9186-4CF0-9D7C-2334F81D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53AA-1F44-424E-B1F8-D31A2384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590C-DFA6-4886-9AFF-B3C7D1A71D99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2" descr=""/>
          <p:cNvPicPr/>
          <p:nvPr/>
        </p:nvPicPr>
        <p:blipFill>
          <a:blip r:embed="rId2"/>
          <a:stretch/>
        </p:blipFill>
        <p:spPr>
          <a:xfrm>
            <a:off x="-536400" y="371520"/>
            <a:ext cx="2841480" cy="5389560"/>
          </a:xfrm>
          <a:prstGeom prst="rect">
            <a:avLst/>
          </a:prstGeom>
          <a:ln w="0">
            <a:noFill/>
          </a:ln>
        </p:spPr>
      </p:pic>
      <p:pic>
        <p:nvPicPr>
          <p:cNvPr id="50" name="besm.wav" descr=""/>
          <p:cNvPicPr/>
          <p:nvPr/>
        </p:nvPicPr>
        <p:blipFill>
          <a:blip r:embed="rId3"/>
          <a:stretch/>
        </p:blipFill>
        <p:spPr>
          <a:xfrm>
            <a:off x="1100124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808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675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1000080" y="1656000"/>
            <a:ext cx="7143840" cy="3519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(normal text)"/>
                <a:cs typeface="2  Lotus"/>
              </a:rPr>
              <a:t>فردی که پیامبر مشغول هدایتش بوده با آمدن فرد نابینایی به سمت پیامبر</a:t>
            </a:r>
            <a:r>
              <a:rPr b="0" lang="fa-IR" sz="20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0" lang="fa-I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a-IR" sz="3000" spc="-1" strike="noStrike">
                <a:solidFill>
                  <a:srgbClr val="000000"/>
                </a:solidFill>
                <a:latin typeface="(normal text)"/>
                <a:cs typeface="2  Lotus"/>
              </a:rPr>
              <a:t>اخم کرده و رویگردان میشود و پیامبر درصدد بازخوانی او برای هدایت است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"/>
          <p:cNvSpPr/>
          <p:nvPr/>
        </p:nvSpPr>
        <p:spPr>
          <a:xfrm>
            <a:off x="305280" y="2921040"/>
            <a:ext cx="85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5786280" y="642960"/>
            <a:ext cx="2571840" cy="399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عَبَسَ وَتَوَلَّى * أَنْ جَاءَهُ الأعْمَ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792760" y="1503360"/>
            <a:ext cx="2565360" cy="399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وَمَا يُدْرِيكَ لَعَلَّهُ يَزَّكَّ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5792760" y="2171880"/>
            <a:ext cx="2565360" cy="399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أَوْ يَذَّكَّرُ فَتَنْفَعَهُ الذِّكْرَ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986280" y="928800"/>
            <a:ext cx="1350720" cy="785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أَمَّا مَنِ اسْتَغْنَ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357280" y="928800"/>
            <a:ext cx="1349640" cy="785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فَأَنْتَ لَهُ تَصَدَّى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2357280" y="2000160"/>
            <a:ext cx="1357560" cy="1071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فَأَنْتَ عَنْهُ تَلَهَّى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4000680" y="2000160"/>
            <a:ext cx="1357200" cy="1071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وَأَمَّا مَنْ جَاءَكَ يَسْعَى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وَهُوَ يَخْشَ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295360" y="3500280"/>
            <a:ext cx="1494000" cy="481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كَلا إِنَّهَا تَذْكِرَة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AutoShape 11"/>
          <p:cNvCxnSpPr>
            <a:stCxn id="81" idx="2"/>
            <a:endCxn id="82" idx="0"/>
          </p:cNvCxnSpPr>
          <p:nvPr/>
        </p:nvCxnSpPr>
        <p:spPr>
          <a:xfrm>
            <a:off x="7071120" y="104256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AutoShape 12"/>
          <p:cNvCxnSpPr>
            <a:stCxn id="82" idx="2"/>
            <a:endCxn id="83" idx="0"/>
          </p:cNvCxnSpPr>
          <p:nvPr/>
        </p:nvCxnSpPr>
        <p:spPr>
          <a:xfrm flipH="1">
            <a:off x="7074720" y="1903320"/>
            <a:ext cx="2520" cy="26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Rectangle 13"/>
          <p:cNvSpPr/>
          <p:nvPr/>
        </p:nvSpPr>
        <p:spPr>
          <a:xfrm>
            <a:off x="714240" y="928800"/>
            <a:ext cx="1351080" cy="785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وَمَا عَلَيْكَ أَلا يَزَّكَّ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4"/>
          <p:cNvSpPr/>
          <p:nvPr/>
        </p:nvSpPr>
        <p:spPr>
          <a:xfrm>
            <a:off x="5357880" y="944640"/>
            <a:ext cx="287280" cy="2127240"/>
          </a:xfrm>
          <a:custGeom>
            <a:avLst/>
            <a:gdLst>
              <a:gd name="textAreaLeft" fmla="*/ 0 w 287280"/>
              <a:gd name="textAreaRight" fmla="*/ 103680 w 287280"/>
              <a:gd name="textAreaTop" fmla="*/ 54000 h 2127240"/>
              <a:gd name="textAreaBottom" fmla="*/ 2073240 h 212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76"/>
                  <a:pt x="10800" y="1752"/>
                </a:cubicBezTo>
                <a:lnTo>
                  <a:pt x="10800" y="9048"/>
                </a:lnTo>
                <a:cubicBezTo>
                  <a:pt x="10800" y="9924"/>
                  <a:pt x="16200" y="10800"/>
                  <a:pt x="21600" y="10800"/>
                </a:cubicBezTo>
                <a:cubicBezTo>
                  <a:pt x="16200" y="10800"/>
                  <a:pt x="10800" y="11676"/>
                  <a:pt x="10800" y="12552"/>
                </a:cubicBezTo>
                <a:lnTo>
                  <a:pt x="10800" y="19848"/>
                </a:lnTo>
                <a:cubicBezTo>
                  <a:pt x="10800" y="2072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AutoShape 15"/>
          <p:cNvCxnSpPr>
            <a:stCxn id="84" idx="2"/>
            <a:endCxn id="87" idx="0"/>
          </p:cNvCxnSpPr>
          <p:nvPr/>
        </p:nvCxnSpPr>
        <p:spPr>
          <a:xfrm>
            <a:off x="4661280" y="1714320"/>
            <a:ext cx="1836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AutoShape 16"/>
          <p:cNvCxnSpPr>
            <a:stCxn id="85" idx="2"/>
            <a:endCxn id="86" idx="0"/>
          </p:cNvCxnSpPr>
          <p:nvPr/>
        </p:nvCxnSpPr>
        <p:spPr>
          <a:xfrm>
            <a:off x="3031200" y="1714320"/>
            <a:ext cx="540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5" name="AutoShape 17"/>
          <p:cNvSpPr/>
          <p:nvPr/>
        </p:nvSpPr>
        <p:spPr>
          <a:xfrm rot="16200000">
            <a:off x="2857320" y="928440"/>
            <a:ext cx="357120" cy="4643640"/>
          </a:xfrm>
          <a:custGeom>
            <a:avLst/>
            <a:gdLst>
              <a:gd name="textAreaLeft" fmla="*/ 228240 w 357120"/>
              <a:gd name="textAreaRight" fmla="*/ 357480 w 357120"/>
              <a:gd name="textAreaTop" fmla="*/ 103320 h 4643640"/>
              <a:gd name="textAreaBottom" fmla="*/ 4540320 h 464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0"/>
                  <a:pt x="10800" y="1539"/>
                </a:cubicBezTo>
                <a:lnTo>
                  <a:pt x="10800" y="9261"/>
                </a:lnTo>
                <a:cubicBezTo>
                  <a:pt x="10800" y="10031"/>
                  <a:pt x="5400" y="10800"/>
                  <a:pt x="0" y="10800"/>
                </a:cubicBezTo>
                <a:cubicBezTo>
                  <a:pt x="5400" y="10800"/>
                  <a:pt x="10800" y="11570"/>
                  <a:pt x="10800" y="12339"/>
                </a:cubicBezTo>
                <a:lnTo>
                  <a:pt x="10800" y="20061"/>
                </a:lnTo>
                <a:cubicBezTo>
                  <a:pt x="10800" y="2083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644400" y="3500280"/>
            <a:ext cx="1332000" cy="481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فَمَنْ شَاءَ ذَكَرَه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AutoShape 19"/>
          <p:cNvCxnSpPr>
            <a:stCxn id="84" idx="1"/>
            <a:endCxn id="85" idx="3"/>
          </p:cNvCxnSpPr>
          <p:nvPr/>
        </p:nvCxnSpPr>
        <p:spPr>
          <a:xfrm flipH="1" flipV="1">
            <a:off x="3706560" y="1320480"/>
            <a:ext cx="280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AutoShape 20"/>
          <p:cNvCxnSpPr>
            <a:stCxn id="85" idx="1"/>
            <a:endCxn id="91" idx="3"/>
          </p:cNvCxnSpPr>
          <p:nvPr/>
        </p:nvCxnSpPr>
        <p:spPr>
          <a:xfrm flipH="1" flipV="1">
            <a:off x="2064600" y="1320480"/>
            <a:ext cx="2926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AutoShape 21"/>
          <p:cNvCxnSpPr>
            <a:stCxn id="88" idx="1"/>
            <a:endCxn id="96" idx="3"/>
          </p:cNvCxnSpPr>
          <p:nvPr/>
        </p:nvCxnSpPr>
        <p:spPr>
          <a:xfrm flipH="1" flipV="1">
            <a:off x="1976040" y="3741480"/>
            <a:ext cx="3196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Rectangle 22"/>
          <p:cNvSpPr/>
          <p:nvPr/>
        </p:nvSpPr>
        <p:spPr>
          <a:xfrm>
            <a:off x="2286000" y="4357800"/>
            <a:ext cx="1500120" cy="480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فِي صُحُفٍ مُكَرَّمَة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3"/>
          <p:cNvSpPr/>
          <p:nvPr/>
        </p:nvSpPr>
        <p:spPr>
          <a:xfrm>
            <a:off x="642960" y="4357800"/>
            <a:ext cx="1335240" cy="480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مَرْفُوعَةٍ مُطَهَّرَة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4"/>
          <p:cNvSpPr/>
          <p:nvPr/>
        </p:nvSpPr>
        <p:spPr>
          <a:xfrm>
            <a:off x="2292480" y="5224320"/>
            <a:ext cx="1498320" cy="481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بِأَيْدِي سَفَرَة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5"/>
          <p:cNvSpPr/>
          <p:nvPr/>
        </p:nvSpPr>
        <p:spPr>
          <a:xfrm>
            <a:off x="650880" y="5214960"/>
            <a:ext cx="1349280" cy="480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كِرَامٍ بَرَرَة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AutoShape 26"/>
          <p:cNvCxnSpPr>
            <a:stCxn id="100" idx="1"/>
            <a:endCxn id="101" idx="3"/>
          </p:cNvCxnSpPr>
          <p:nvPr/>
        </p:nvCxnSpPr>
        <p:spPr>
          <a:xfrm flipH="1" flipV="1">
            <a:off x="1977480" y="4598640"/>
            <a:ext cx="308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27"/>
          <p:cNvCxnSpPr>
            <a:stCxn id="102" idx="1"/>
            <a:endCxn id="103" idx="3"/>
          </p:cNvCxnSpPr>
          <p:nvPr/>
        </p:nvCxnSpPr>
        <p:spPr>
          <a:xfrm flipH="1" flipV="1">
            <a:off x="1999800" y="5455440"/>
            <a:ext cx="29304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28"/>
          <p:cNvCxnSpPr>
            <a:stCxn id="88" idx="2"/>
            <a:endCxn id="100" idx="0"/>
          </p:cNvCxnSpPr>
          <p:nvPr/>
        </p:nvCxnSpPr>
        <p:spPr>
          <a:xfrm flipH="1">
            <a:off x="3034800" y="3981240"/>
            <a:ext cx="7200" cy="37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AutoShape 29"/>
          <p:cNvCxnSpPr>
            <a:stCxn id="100" idx="2"/>
            <a:endCxn id="102" idx="0"/>
          </p:cNvCxnSpPr>
          <p:nvPr/>
        </p:nvCxnSpPr>
        <p:spPr>
          <a:xfrm>
            <a:off x="3035160" y="4838400"/>
            <a:ext cx="7200" cy="38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1511280" y="269064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928800" y="3608280"/>
            <a:ext cx="72864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Elephant"/>
                <a:cs typeface="2  Badr"/>
              </a:rPr>
              <a:t>ای رسول ما! برخی خود را از هدایت قرآن بی</a:t>
            </a:r>
            <a:r>
              <a:rPr b="1" lang="fa-IR" sz="2800" spc="-1" strike="noStrike">
                <a:solidFill>
                  <a:srgbClr val="000000"/>
                </a:solidFill>
                <a:latin typeface="Elephant"/>
                <a:ea typeface="2  Badr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Elephant"/>
                <a:cs typeface="2  Badr"/>
              </a:rPr>
              <a:t>نیاز می</a:t>
            </a:r>
            <a:r>
              <a:rPr b="1" lang="fa-IR" sz="2800" spc="-1" strike="noStrike">
                <a:solidFill>
                  <a:srgbClr val="000000"/>
                </a:solidFill>
                <a:latin typeface="Elephant"/>
                <a:ea typeface="2  Badr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Elephant"/>
                <a:cs typeface="2  Badr"/>
              </a:rPr>
              <a:t>بینند و با توهم شرف و مقام برای خویشتن، از تو روی</a:t>
            </a:r>
            <a:r>
              <a:rPr b="1" lang="fa-IR" sz="2800" spc="-1" strike="noStrike">
                <a:solidFill>
                  <a:srgbClr val="000000"/>
                </a:solidFill>
                <a:latin typeface="Elephant"/>
                <a:ea typeface="2  Badr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Elephant"/>
                <a:cs typeface="2  Badr"/>
              </a:rPr>
              <a:t>گردانند. نسبت به تزکیه آنان مسئول نیستی، پس اصرار نورز و مشتاقان هدایت قرآنی را دریا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071720" y="585720"/>
            <a:ext cx="7000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IranNastaliq"/>
                <a:cs typeface="IranNastaliq"/>
              </a:rPr>
              <a:t>بازداری پیامبر</a:t>
            </a:r>
            <a:r>
              <a:rPr b="0" lang="fa-IR" sz="32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2  Badr"/>
              </a:rPr>
              <a:t> </a:t>
            </a:r>
            <a:r>
              <a:rPr b="0" lang="ar-SA" sz="5400" spc="-1" strike="noStrike">
                <a:solidFill>
                  <a:srgbClr val="000000"/>
                </a:solidFill>
                <a:latin typeface="IranNastaliq"/>
                <a:cs typeface="IranNastaliq"/>
              </a:rPr>
              <a:t>از تصدّی مسئولانه نسبت به تزکیه کسی که خود را از قرآن بی</a:t>
            </a:r>
            <a:r>
              <a:rPr b="0" lang="fa-IR" sz="5400" spc="-1" strike="noStrike">
                <a:solidFill>
                  <a:srgbClr val="000000"/>
                </a:solidFill>
                <a:latin typeface="IranNastaliq"/>
                <a:ea typeface="IranNastaliq"/>
              </a:rPr>
              <a:t> </a:t>
            </a:r>
            <a:r>
              <a:rPr b="0" lang="ar-SA" sz="5400" spc="-1" strike="noStrike">
                <a:solidFill>
                  <a:srgbClr val="000000"/>
                </a:solidFill>
                <a:latin typeface="IranNastaliq"/>
                <a:cs typeface="IranNastaliq"/>
              </a:rPr>
              <a:t>نیاز می</a:t>
            </a:r>
            <a:r>
              <a:rPr b="0" lang="fa-IR" sz="5400" spc="-1" strike="noStrike">
                <a:solidFill>
                  <a:srgbClr val="000000"/>
                </a:solidFill>
                <a:latin typeface="IranNastaliq"/>
                <a:ea typeface="IranNastaliq"/>
              </a:rPr>
              <a:t> </a:t>
            </a:r>
            <a:r>
              <a:rPr b="0" lang="ar-SA" sz="5400" spc="-1" strike="noStrike">
                <a:solidFill>
                  <a:srgbClr val="000000"/>
                </a:solidFill>
                <a:latin typeface="IranNastaliq"/>
                <a:cs typeface="IranNastaliq"/>
              </a:rPr>
              <a:t>بیند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"/>
          <p:cNvSpPr/>
          <p:nvPr/>
        </p:nvSpPr>
        <p:spPr>
          <a:xfrm>
            <a:off x="2437200" y="1925640"/>
            <a:ext cx="426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د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357280" y="4000680"/>
            <a:ext cx="4429440" cy="21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آیات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7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3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011600" y="2874960"/>
            <a:ext cx="712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د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0"/>
          <p:cNvSpPr/>
          <p:nvPr/>
        </p:nvSpPr>
        <p:spPr>
          <a:xfrm>
            <a:off x="714240" y="428760"/>
            <a:ext cx="77868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قُتِلَ الإنْسَانُ مَا أَكْفَرَهُ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٧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مِنْ أَيِّ شَيْءٍ خَلَقَهُ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٨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32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مِنْ نُطْفَةٍ خَلَقَهُ فَقَدَّرَهُ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٩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ثُمَّ السَّبِيلَ يَسَّرَهُ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٠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ثُمَّ أَمَاتَهُ فَأَقْبَرَهُ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١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ثُمَّ إِذَا شَاءَ أَنْشَرَهُ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٢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كَلا لَمَّا يَقْضِ مَا أَمَرَهُ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٣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فَلْيَنْظُرِ الإنْسَانُ إِلَى طَعَامِهِ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٤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أَنَّا صَبَبْنَا الْمَاءَ صَبًّا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٥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ثُمَّ شَقَقْنَا الأرْضَ شَقًّا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٦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فَأَنْبَتْنَا فِيهَا حَبًّا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٧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عِنَبًا وَقَضْبًا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٨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زَيْتُونًا وَنَخْلا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٩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حَدَائِقَ غُلْبًا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٠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فَاكِهَةً وَأَبًّا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١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مَتَاعًا لَكُمْ وَلأنْعَامِكُمْ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٢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17-32.wav" descr=""/>
          <p:cNvPicPr/>
          <p:nvPr/>
        </p:nvPicPr>
        <p:blipFill>
          <a:blip r:embed="rId2"/>
          <a:stretch/>
        </p:blipFill>
        <p:spPr>
          <a:xfrm>
            <a:off x="10929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82356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"/>
          <p:cNvSpPr/>
          <p:nvPr/>
        </p:nvSpPr>
        <p:spPr>
          <a:xfrm>
            <a:off x="248760" y="2921040"/>
            <a:ext cx="864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928800" y="2739960"/>
            <a:ext cx="7215120" cy="1373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Lotus"/>
              </a:rPr>
              <a:t>کفران و حق پوشی انسان نسبت خدای متعالی و نافرمانی از فرامین پرورد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"/>
          <p:cNvSpPr/>
          <p:nvPr/>
        </p:nvSpPr>
        <p:spPr>
          <a:xfrm>
            <a:off x="291600" y="2921040"/>
            <a:ext cx="856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6357960" y="785880"/>
            <a:ext cx="2071800" cy="399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قُتِلَ الإنْسَانُ مَا أَكْفَرَه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6357960" y="1461960"/>
            <a:ext cx="2071800" cy="400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مِنْ أَيِّ شَيْءٍ خَلَقَهُ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6357960" y="2143080"/>
            <a:ext cx="2071800" cy="399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مِنْ نُطْفَةٍ خَلَقَهُ فَقَدَّرَ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6357960" y="2857680"/>
            <a:ext cx="2071800" cy="399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ثُمَّ السَّبِيلَ يَسَّرَهُ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6357960" y="3571920"/>
            <a:ext cx="2071800" cy="399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ثُمَّ أَمَاتَهُ فَأَقْبَرَهُ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6357960" y="4300560"/>
            <a:ext cx="2071800" cy="399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ثُمَّ إِذَا شَاءَ أَنْشَرَهُ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9"/>
          <p:cNvSpPr/>
          <p:nvPr/>
        </p:nvSpPr>
        <p:spPr>
          <a:xfrm>
            <a:off x="5929200" y="2143080"/>
            <a:ext cx="371520" cy="2571840"/>
          </a:xfrm>
          <a:custGeom>
            <a:avLst/>
            <a:gdLst>
              <a:gd name="textAreaLeft" fmla="*/ 237240 w 371520"/>
              <a:gd name="textAreaRight" fmla="*/ 371880 w 371520"/>
              <a:gd name="textAreaTop" fmla="*/ 42480 h 2571840"/>
              <a:gd name="textAreaBottom" fmla="*/ 252936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1"/>
                  <a:pt x="10800" y="1141"/>
                </a:cubicBezTo>
                <a:lnTo>
                  <a:pt x="10800" y="8171"/>
                </a:lnTo>
                <a:cubicBezTo>
                  <a:pt x="10800" y="8742"/>
                  <a:pt x="5400" y="9312"/>
                  <a:pt x="0" y="9312"/>
                </a:cubicBezTo>
                <a:cubicBezTo>
                  <a:pt x="5400" y="9312"/>
                  <a:pt x="10800" y="9883"/>
                  <a:pt x="10800" y="10453"/>
                </a:cubicBezTo>
                <a:lnTo>
                  <a:pt x="10800" y="20459"/>
                </a:lnTo>
                <a:cubicBezTo>
                  <a:pt x="10800" y="2103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4554360" y="2922480"/>
            <a:ext cx="1303560" cy="720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كَلا لَمَّا يَقْضِ مَا أَمَرَه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2928960" y="2922480"/>
            <a:ext cx="1293840" cy="720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فَلْيَنْظُرِ الإنْسَانُ إِلَى طَعَامِهِ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642960" y="793800"/>
            <a:ext cx="1857240" cy="399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أَنَّا صَبَبْنَا الْمَاءَ صَبًّ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642960" y="1469880"/>
            <a:ext cx="1857240" cy="400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ثُمَّ شَقَقْنَا الأرْضَ شَقًّ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642960" y="2151000"/>
            <a:ext cx="1857240" cy="399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فَأَنْبَتْنَا فِيهَا حَبًّا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642960" y="2860560"/>
            <a:ext cx="1857240" cy="400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وَعِنَبًا وَقَضْبً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6"/>
          <p:cNvSpPr/>
          <p:nvPr/>
        </p:nvSpPr>
        <p:spPr>
          <a:xfrm>
            <a:off x="642960" y="3579840"/>
            <a:ext cx="1857240" cy="399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وَزَيْتُونًا وَنَخْلا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642960" y="4309920"/>
            <a:ext cx="1857240" cy="400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وَحَدَائِقَ غُلْبًا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642960" y="4995720"/>
            <a:ext cx="1857240" cy="400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وَفَاكِهَةً وَأَبًّا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9"/>
          <p:cNvSpPr/>
          <p:nvPr/>
        </p:nvSpPr>
        <p:spPr>
          <a:xfrm>
            <a:off x="642960" y="5672160"/>
            <a:ext cx="1857240" cy="399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مَتَاعًا لَكُمْ وَلأنْعَامِكُم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0"/>
          <p:cNvSpPr/>
          <p:nvPr/>
        </p:nvSpPr>
        <p:spPr>
          <a:xfrm>
            <a:off x="2571840" y="785880"/>
            <a:ext cx="285840" cy="5286240"/>
          </a:xfrm>
          <a:custGeom>
            <a:avLst/>
            <a:gdLst>
              <a:gd name="textAreaLeft" fmla="*/ 0 w 285840"/>
              <a:gd name="textAreaRight" fmla="*/ 103320 w 285840"/>
              <a:gd name="textAreaTop" fmla="*/ 43200 h 5286240"/>
              <a:gd name="textAreaBottom" fmla="*/ 5243040 h 528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2"/>
                  <a:pt x="10800" y="564"/>
                </a:cubicBezTo>
                <a:lnTo>
                  <a:pt x="10800" y="9477"/>
                </a:lnTo>
                <a:cubicBezTo>
                  <a:pt x="10800" y="9759"/>
                  <a:pt x="16200" y="10041"/>
                  <a:pt x="21600" y="10041"/>
                </a:cubicBezTo>
                <a:cubicBezTo>
                  <a:pt x="16200" y="10041"/>
                  <a:pt x="10800" y="10323"/>
                  <a:pt x="10800" y="10605"/>
                </a:cubicBezTo>
                <a:lnTo>
                  <a:pt x="10800" y="21036"/>
                </a:lnTo>
                <a:cubicBezTo>
                  <a:pt x="10800" y="2131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AutoShape 22"/>
          <p:cNvCxnSpPr>
            <a:stCxn id="135" idx="1"/>
            <a:endCxn id="136" idx="3"/>
          </p:cNvCxnSpPr>
          <p:nvPr/>
        </p:nvCxnSpPr>
        <p:spPr>
          <a:xfrm flipH="1" flipV="1">
            <a:off x="4222080" y="3282120"/>
            <a:ext cx="3322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21"/>
          <p:cNvCxnSpPr>
            <a:stCxn id="138" idx="2"/>
            <a:endCxn id="139" idx="0"/>
          </p:cNvCxnSpPr>
          <p:nvPr/>
        </p:nvCxnSpPr>
        <p:spPr>
          <a:xfrm flipH="1">
            <a:off x="1569240" y="1870200"/>
            <a:ext cx="2520" cy="28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AutoShape 21"/>
          <p:cNvCxnSpPr>
            <a:stCxn id="137" idx="2"/>
            <a:endCxn id="138" idx="0"/>
          </p:cNvCxnSpPr>
          <p:nvPr/>
        </p:nvCxnSpPr>
        <p:spPr>
          <a:xfrm flipH="1">
            <a:off x="1569240" y="1193400"/>
            <a:ext cx="252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AutoShape 21"/>
          <p:cNvCxnSpPr>
            <a:stCxn id="132" idx="2"/>
            <a:endCxn id="133" idx="0"/>
          </p:cNvCxnSpPr>
          <p:nvPr/>
        </p:nvCxnSpPr>
        <p:spPr>
          <a:xfrm flipH="1">
            <a:off x="7392600" y="3973680"/>
            <a:ext cx="2160" cy="32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1"/>
          <p:cNvCxnSpPr>
            <a:stCxn id="131" idx="2"/>
            <a:endCxn id="132" idx="0"/>
          </p:cNvCxnSpPr>
          <p:nvPr/>
        </p:nvCxnSpPr>
        <p:spPr>
          <a:xfrm flipH="1">
            <a:off x="7392600" y="3257280"/>
            <a:ext cx="216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1"/>
          <p:cNvCxnSpPr>
            <a:stCxn id="130" idx="2"/>
            <a:endCxn id="131" idx="0"/>
          </p:cNvCxnSpPr>
          <p:nvPr/>
        </p:nvCxnSpPr>
        <p:spPr>
          <a:xfrm flipH="1">
            <a:off x="7392600" y="2543040"/>
            <a:ext cx="2160" cy="31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1"/>
          <p:cNvCxnSpPr>
            <a:stCxn id="129" idx="2"/>
            <a:endCxn id="130" idx="0"/>
          </p:cNvCxnSpPr>
          <p:nvPr/>
        </p:nvCxnSpPr>
        <p:spPr>
          <a:xfrm flipH="1">
            <a:off x="7392600" y="1862280"/>
            <a:ext cx="2160" cy="28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1"/>
          <p:cNvCxnSpPr>
            <a:stCxn id="128" idx="2"/>
            <a:endCxn id="129" idx="0"/>
          </p:cNvCxnSpPr>
          <p:nvPr/>
        </p:nvCxnSpPr>
        <p:spPr>
          <a:xfrm flipH="1">
            <a:off x="7392600" y="1185480"/>
            <a:ext cx="216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1"/>
          <p:cNvCxnSpPr>
            <a:stCxn id="143" idx="2"/>
            <a:endCxn id="144" idx="0"/>
          </p:cNvCxnSpPr>
          <p:nvPr/>
        </p:nvCxnSpPr>
        <p:spPr>
          <a:xfrm flipH="1">
            <a:off x="1569240" y="5397120"/>
            <a:ext cx="252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1"/>
          <p:cNvCxnSpPr>
            <a:stCxn id="142" idx="2"/>
            <a:endCxn id="143" idx="0"/>
          </p:cNvCxnSpPr>
          <p:nvPr/>
        </p:nvCxnSpPr>
        <p:spPr>
          <a:xfrm flipH="1">
            <a:off x="1569240" y="471168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1"/>
          <p:cNvCxnSpPr>
            <a:stCxn id="141" idx="2"/>
            <a:endCxn id="142" idx="0"/>
          </p:cNvCxnSpPr>
          <p:nvPr/>
        </p:nvCxnSpPr>
        <p:spPr>
          <a:xfrm flipH="1">
            <a:off x="1569240" y="3981240"/>
            <a:ext cx="2520" cy="33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21"/>
          <p:cNvCxnSpPr>
            <a:stCxn id="140" idx="2"/>
            <a:endCxn id="141" idx="0"/>
          </p:cNvCxnSpPr>
          <p:nvPr/>
        </p:nvCxnSpPr>
        <p:spPr>
          <a:xfrm flipH="1">
            <a:off x="1569240" y="3260880"/>
            <a:ext cx="252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AutoShape 21"/>
          <p:cNvCxnSpPr>
            <a:stCxn id="139" idx="2"/>
            <a:endCxn id="140" idx="0"/>
          </p:cNvCxnSpPr>
          <p:nvPr/>
        </p:nvCxnSpPr>
        <p:spPr>
          <a:xfrm flipH="1">
            <a:off x="1569240" y="2550960"/>
            <a:ext cx="252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1511280" y="269064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"/>
          <p:cNvSpPr/>
          <p:nvPr/>
        </p:nvSpPr>
        <p:spPr>
          <a:xfrm>
            <a:off x="1071720" y="3500280"/>
            <a:ext cx="70005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آفرینش انسان، رشد دادن او، میراندن و برزخ و قیامت، همه در دست خداست، ولی اوامر او را اطاعت نمی کند. کافی است که انسان به غذای خود نظر کند تا حتی لحظه ای در پوشیدن جامه بندگی درنگ نورز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928800" y="1052640"/>
            <a:ext cx="7286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IranNastaliq"/>
                <a:cs typeface="IranNastaliq"/>
              </a:rPr>
              <a:t>نفرین و هشدار به انسان ناسپاس که فرامین پروردگارش را بجا نیاورده است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"/>
          <p:cNvSpPr/>
          <p:nvPr/>
        </p:nvSpPr>
        <p:spPr>
          <a:xfrm>
            <a:off x="2237760" y="1925640"/>
            <a:ext cx="466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س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2500200" y="3936960"/>
            <a:ext cx="4132440" cy="21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آیات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33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4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000"/>
                            </p:stCondLst>
                            <p:childTnLst>
                              <p:par>
                                <p:cTn id="52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"/>
          <p:cNvSpPr/>
          <p:nvPr/>
        </p:nvSpPr>
        <p:spPr>
          <a:xfrm>
            <a:off x="811800" y="2874960"/>
            <a:ext cx="7520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س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8"/>
          <p:cNvSpPr/>
          <p:nvPr/>
        </p:nvSpPr>
        <p:spPr>
          <a:xfrm>
            <a:off x="714240" y="920880"/>
            <a:ext cx="77155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فَإِذَا جَاءَتِ الصَّاخَّةُ 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٣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يَوْمَ يَفِرُّ الْمَرْءُ مِنْ أَخِيهِ 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٤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وَأُمِّهِ وَأَبِيهِ 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٥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وَصَاحِبَتِهِ وَبَنِيهِ 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٦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لِكُلِّ امْرِئٍ مِنْهُمْ يَوْمَئِذٍ شَأْنٌ يُغْنِيهِ 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٧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وُجُوهٌ يَوْمَئِذٍ مُسْفِرَةٌ 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٨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ضَاحِكَةٌ مُسْتَبْشِرَةٌ 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٩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وَوُجُوهٌ يَوْمَئِذٍ عَلَيْهَا غَبَرَةٌ 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٠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تَرْهَقُهَا قَتَرَةٌ 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١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أُولَئِكَ هُمُ الْكَفَرَةُ الْفَجَرَةُ 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٢</a:t>
            </a:r>
            <a:r>
              <a:rPr b="1" lang="ar-SA" sz="36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33-42.wav" descr=""/>
          <p:cNvPicPr/>
          <p:nvPr/>
        </p:nvPicPr>
        <p:blipFill>
          <a:blip r:embed="rId2"/>
          <a:stretch/>
        </p:blipFill>
        <p:spPr>
          <a:xfrm>
            <a:off x="1078704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6" dur="61280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68400" y="2921040"/>
            <a:ext cx="900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یاق س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2"/>
          <p:cNvSpPr/>
          <p:nvPr/>
        </p:nvSpPr>
        <p:spPr>
          <a:xfrm>
            <a:off x="753840" y="3143160"/>
            <a:ext cx="759348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2  Lotus"/>
              </a:rPr>
              <a:t>معصیت پیشگی و فجور در اثر کفران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2  Lotu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110880" y="2921040"/>
            <a:ext cx="892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س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208080" y="244440"/>
            <a:ext cx="866124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0"/>
          <p:cNvSpPr/>
          <p:nvPr/>
        </p:nvSpPr>
        <p:spPr>
          <a:xfrm>
            <a:off x="6143760" y="1143000"/>
            <a:ext cx="2347920" cy="500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فَإِذَا جَاءَتِ الصَّاخَّة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6143760" y="2357280"/>
            <a:ext cx="2357280" cy="1357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يَوْمَ يَفِرُّ الْمَرْءُ مِنْ أَخِیه * وَأُمِّهِ وَأَبِيهِ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2  Badr"/>
              </a:rPr>
              <a:t>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وَصَاحِبَتِهِ وَبَنِيه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6143760" y="4224240"/>
            <a:ext cx="2347920" cy="847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لِكُلِّ امْرِئٍ مِنْهُمْ يَوْمَئِذٍ شَأْنٌ يُغْنِيه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4000680" y="1714680"/>
            <a:ext cx="1482480" cy="928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وُجُوهٌ يَوْمَئِذٍ مُسْفِرَة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2357280" y="1714680"/>
            <a:ext cx="1285920" cy="928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ضَاحِكَةٌ مُسْتَبْشِرَة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5"/>
          <p:cNvSpPr/>
          <p:nvPr/>
        </p:nvSpPr>
        <p:spPr>
          <a:xfrm>
            <a:off x="642960" y="3429000"/>
            <a:ext cx="1357200" cy="928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أُولَئِكَ هُمُ الْكَفَرَةُ الْفَجَرَة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2357280" y="3429000"/>
            <a:ext cx="1285920" cy="928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تَرْهَقُهَا قَتَرَة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7"/>
          <p:cNvSpPr/>
          <p:nvPr/>
        </p:nvSpPr>
        <p:spPr>
          <a:xfrm>
            <a:off x="4000680" y="3429000"/>
            <a:ext cx="1482480" cy="928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وَوُجُوهٌ يَوْمَئِذٍ عَلَيْهَا غَبَرَ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AutoShape 28"/>
          <p:cNvCxnSpPr>
            <a:stCxn id="180" idx="2"/>
            <a:endCxn id="181" idx="0"/>
          </p:cNvCxnSpPr>
          <p:nvPr/>
        </p:nvCxnSpPr>
        <p:spPr>
          <a:xfrm flipH="1">
            <a:off x="7316280" y="3714480"/>
            <a:ext cx="7200" cy="51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AutoShape 29"/>
          <p:cNvCxnSpPr>
            <a:stCxn id="189" idx="1"/>
            <a:endCxn id="182" idx="3"/>
          </p:cNvCxnSpPr>
          <p:nvPr/>
        </p:nvCxnSpPr>
        <p:spPr>
          <a:xfrm rot="10800000">
            <a:off x="5482440" y="2177280"/>
            <a:ext cx="303840" cy="9295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AutoShape 30"/>
          <p:cNvCxnSpPr>
            <a:stCxn id="189" idx="1"/>
            <a:endCxn id="186" idx="3"/>
          </p:cNvCxnSpPr>
          <p:nvPr/>
        </p:nvCxnSpPr>
        <p:spPr>
          <a:xfrm flipV="1" rot="10800000">
            <a:off x="5482440" y="3105720"/>
            <a:ext cx="303840" cy="78804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AutoShape 31"/>
          <p:cNvCxnSpPr>
            <a:stCxn id="185" idx="1"/>
            <a:endCxn id="184" idx="3"/>
          </p:cNvCxnSpPr>
          <p:nvPr/>
        </p:nvCxnSpPr>
        <p:spPr>
          <a:xfrm flipH="1" flipV="1">
            <a:off x="1999800" y="3893760"/>
            <a:ext cx="357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AutoShape 32"/>
          <p:cNvCxnSpPr>
            <a:stCxn id="186" idx="1"/>
            <a:endCxn id="185" idx="3"/>
          </p:cNvCxnSpPr>
          <p:nvPr/>
        </p:nvCxnSpPr>
        <p:spPr>
          <a:xfrm flipH="1" flipV="1">
            <a:off x="3642480" y="3893760"/>
            <a:ext cx="358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AutoShape 33"/>
          <p:cNvCxnSpPr>
            <a:stCxn id="182" idx="1"/>
            <a:endCxn id="183" idx="3"/>
          </p:cNvCxnSpPr>
          <p:nvPr/>
        </p:nvCxnSpPr>
        <p:spPr>
          <a:xfrm flipH="1" flipV="1">
            <a:off x="3642480" y="2177280"/>
            <a:ext cx="358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AutoShape 34"/>
          <p:cNvCxnSpPr>
            <a:stCxn id="183" idx="2"/>
            <a:endCxn id="185" idx="0"/>
          </p:cNvCxnSpPr>
          <p:nvPr/>
        </p:nvCxnSpPr>
        <p:spPr>
          <a:xfrm flipH="1">
            <a:off x="2998440" y="2642760"/>
            <a:ext cx="216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5" name="AutoShape 35"/>
          <p:cNvCxnSpPr>
            <a:stCxn id="182" idx="2"/>
            <a:endCxn id="186" idx="0"/>
          </p:cNvCxnSpPr>
          <p:nvPr/>
        </p:nvCxnSpPr>
        <p:spPr>
          <a:xfrm flipH="1">
            <a:off x="4741560" y="2642760"/>
            <a:ext cx="216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6" name="AutoShape 36"/>
          <p:cNvCxnSpPr>
            <a:stCxn id="179" idx="2"/>
            <a:endCxn id="180" idx="0"/>
          </p:cNvCxnSpPr>
          <p:nvPr/>
        </p:nvCxnSpPr>
        <p:spPr>
          <a:xfrm>
            <a:off x="7317360" y="1643040"/>
            <a:ext cx="5400" cy="71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AutoShape 37"/>
          <p:cNvSpPr/>
          <p:nvPr/>
        </p:nvSpPr>
        <p:spPr>
          <a:xfrm>
            <a:off x="5786280" y="1143000"/>
            <a:ext cx="285840" cy="3929040"/>
          </a:xfrm>
          <a:custGeom>
            <a:avLst/>
            <a:gdLst>
              <a:gd name="textAreaLeft" fmla="*/ 182520 w 285840"/>
              <a:gd name="textAreaRight" fmla="*/ 286200 w 285840"/>
              <a:gd name="textAreaTop" fmla="*/ 43920 h 3929040"/>
              <a:gd name="textAreaBottom" fmla="*/ 3885120 h 39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9"/>
                  <a:pt x="10800" y="777"/>
                </a:cubicBezTo>
                <a:lnTo>
                  <a:pt x="10800" y="10023"/>
                </a:lnTo>
                <a:cubicBezTo>
                  <a:pt x="10800" y="10412"/>
                  <a:pt x="5400" y="10800"/>
                  <a:pt x="0" y="10800"/>
                </a:cubicBezTo>
                <a:cubicBezTo>
                  <a:pt x="5400" y="10800"/>
                  <a:pt x="10800" y="11189"/>
                  <a:pt x="10800" y="11577"/>
                </a:cubicBezTo>
                <a:lnTo>
                  <a:pt x="10800" y="20823"/>
                </a:lnTo>
                <a:cubicBezTo>
                  <a:pt x="10800" y="2121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000"/>
                            </p:stCondLst>
                            <p:childTnLst>
                              <p:par>
                                <p:cTn id="6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2"/>
          <p:cNvSpPr/>
          <p:nvPr/>
        </p:nvSpPr>
        <p:spPr>
          <a:xfrm>
            <a:off x="1511280" y="269064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س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"/>
          <p:cNvSpPr/>
          <p:nvPr/>
        </p:nvSpPr>
        <p:spPr>
          <a:xfrm>
            <a:off x="1403280" y="378936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آن‌گاه که قیامت فرا رسد و کسان و بستگان از یکدیگر فراری شوند، برخی شادمان خواهند بود، اما ناسپاسان فاجر، چهرههایی غبارآلود و تاریک خواهند داش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-4056480" y="1484280"/>
            <a:ext cx="1725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IranNastaliq"/>
                <a:cs typeface="IranNastaliq"/>
              </a:rPr>
              <a:t>ناسپاسان فاجر، چهره های غبارآلود و تاریک روز قیام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"/>
          <p:cNvSpPr/>
          <p:nvPr/>
        </p:nvSpPr>
        <p:spPr>
          <a:xfrm>
            <a:off x="928800" y="1239840"/>
            <a:ext cx="7215120" cy="1373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Lotus"/>
              </a:rPr>
              <a:t>کفران و حق پوشی انسان نسبت خدای متعالی و نافرمانی از فرامین پرورد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928800" y="3030480"/>
            <a:ext cx="7215120" cy="733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Lotus"/>
              </a:rPr>
              <a:t>معصیت پیشگی و فجور در اثر کفرا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928800" y="4240080"/>
            <a:ext cx="7215120" cy="1373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Lotus"/>
              </a:rPr>
              <a:t>فردی که سیاق اول از آن سخن گفت یکی از مصادیق فضای سخن فوق اس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2"/>
          <p:cNvSpPr/>
          <p:nvPr/>
        </p:nvSpPr>
        <p:spPr>
          <a:xfrm>
            <a:off x="2097000" y="2921040"/>
            <a:ext cx="495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_s1042"/>
          <p:cNvSpPr/>
          <p:nvPr/>
        </p:nvSpPr>
        <p:spPr>
          <a:xfrm>
            <a:off x="3498840" y="2441520"/>
            <a:ext cx="2146320" cy="388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آیه 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ea typeface="2  Badr"/>
              </a:rPr>
              <a:t>17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ea typeface="2  Badr"/>
              </a:rPr>
              <a:t> - 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ea typeface="2  Badr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نفرین و هشدار به انسان ناسپاس که فرامین پروردگارش را بجا نیاورده است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2  Badr"/>
              </a:rPr>
              <a:t>آفرینش انسان، رشد دادن او، میراندن و برزخ و قیامت، همه در دست خداست، ولی اوامر او را اطاعت نمی کند. کافی است که انسان به غذای خود نظر کند تا حتی لحظه ای در پوشیدن جامه بندگی درنگ نورز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_s1052"/>
          <p:cNvSpPr/>
          <p:nvPr/>
        </p:nvSpPr>
        <p:spPr>
          <a:xfrm>
            <a:off x="6084720" y="2386080"/>
            <a:ext cx="2176560" cy="388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آیه ا - 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ea typeface="2  Badr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بازداری پیامبر</a:t>
            </a:r>
            <a:r>
              <a:rPr b="1" lang="fa-IR" sz="1600" spc="-1" strike="noStrike">
                <a:solidFill>
                  <a:srgbClr val="000000"/>
                </a:solidFill>
                <a:latin typeface="Alaem"/>
                <a:ea typeface="Alaem"/>
              </a:rPr>
              <a:t></a:t>
            </a:r>
            <a:r>
              <a:rPr b="1" lang="fa-IR" sz="1600" spc="-1" strike="noStrike">
                <a:solidFill>
                  <a:srgbClr val="000000"/>
                </a:solidFill>
                <a:latin typeface="Alaem"/>
                <a:cs typeface="Alaem"/>
              </a:rPr>
              <a:t>ص</a:t>
            </a:r>
            <a:r>
              <a:rPr b="1" lang="fa-IR" sz="1600" spc="-1" strike="noStrike">
                <a:solidFill>
                  <a:srgbClr val="000000"/>
                </a:solidFill>
                <a:latin typeface="Alaem"/>
                <a:ea typeface="Alaem"/>
              </a:rPr>
              <a:t>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از تصدّی مسئولانه نسبت به تزکیه کسی که خود را از قرآن بی نیاز می بین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2  Badr"/>
              </a:rPr>
              <a:t>ای رسول ما! برخی خود را از هدایت قرآن بی نیاز می بینند و با توهم شرف و مقام برای خویشتن، از تو روی گردانند. نسبت به تزکیه آنان مسئول نیستی، پس اصرار نورز و مشتاقان هدایت قرآنی را دریاب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_s1059"/>
          <p:cNvSpPr/>
          <p:nvPr/>
        </p:nvSpPr>
        <p:spPr>
          <a:xfrm>
            <a:off x="826920" y="2387520"/>
            <a:ext cx="2178360" cy="388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آیه 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ea typeface="2  Badr"/>
              </a:rPr>
              <a:t>33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ea typeface="2  Badr"/>
              </a:rPr>
              <a:t> – 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ea typeface="2  Badr"/>
              </a:rPr>
              <a:t>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ناسپاسان فاجر، چهره های غبارآلود و تاریک روز قیام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2  Badr"/>
              </a:rPr>
              <a:t>آن‌گاه که قیامت فرا رسد و کسان و بستگان از یکدیگر فراری شوند، برخی شادمان خواهند بود، اما ناسپاسان فاجر، چهره هایی غبارآلود و تاریک خواهند داشت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_s1067"/>
          <p:cNvSpPr/>
          <p:nvPr/>
        </p:nvSpPr>
        <p:spPr>
          <a:xfrm>
            <a:off x="1733400" y="765000"/>
            <a:ext cx="5677200" cy="1144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هشدار و انذار کسانی که خود را از هدایت قرآنی بی نیاز می بینن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2  Badr"/>
              </a:rPr>
              <a:t>چرا که نسبت به پروردگار خویش ناسپاس‌اند و درصدد اجرای فرامین او نیستن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متصل کننده لولایی 8"/>
          <p:cNvCxnSpPr>
            <a:stCxn id="212" idx="0"/>
            <a:endCxn id="214" idx="2"/>
          </p:cNvCxnSpPr>
          <p:nvPr/>
        </p:nvCxnSpPr>
        <p:spPr>
          <a:xfrm flipV="1" rot="16200000">
            <a:off x="5634360" y="846000"/>
            <a:ext cx="477000" cy="2602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متصل کننده لولایی 12"/>
          <p:cNvCxnSpPr>
            <a:stCxn id="213" idx="0"/>
            <a:endCxn id="214" idx="2"/>
          </p:cNvCxnSpPr>
          <p:nvPr/>
        </p:nvCxnSpPr>
        <p:spPr>
          <a:xfrm flipH="1" flipV="1" rot="5400000">
            <a:off x="3004200" y="820080"/>
            <a:ext cx="478440" cy="2656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7" name="متصل کننده پیکان مستقیم 18"/>
          <p:cNvCxnSpPr>
            <a:stCxn id="211" idx="0"/>
            <a:endCxn id="214" idx="2"/>
          </p:cNvCxnSpPr>
          <p:nvPr/>
        </p:nvCxnSpPr>
        <p:spPr>
          <a:xfrm flipV="1">
            <a:off x="4570560" y="1910880"/>
            <a:ext cx="3600" cy="53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500"/>
                            </p:stCondLst>
                            <p:childTnLst>
                              <p:par>
                                <p:cTn id="7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26"/>
          <p:cNvSpPr/>
          <p:nvPr/>
        </p:nvSpPr>
        <p:spPr>
          <a:xfrm>
            <a:off x="571680" y="357120"/>
            <a:ext cx="8001000" cy="64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عَبَسَ وَتَوَلَّى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أَنْ جَاءَهُ الأعْمَى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وَمَا يُدْرِيكَ لَعَلَّهُ يَزَّكَّى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أَوْ يَذَّكَّرُ فَتَنْفَعَهُ الذِّكْرَى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أَمَّا مَنِ اسْتَغْنَى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٥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فَأَنْتَ لَهُ تَصَدَّى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٦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وَمَا عَلَيْكَ أَلا يَزَّكَّى</a:t>
            </a:r>
            <a:r>
              <a:rPr b="0" lang="ar-SA" sz="2800" spc="-1" strike="noStrike">
                <a:solidFill>
                  <a:srgbClr val="007635"/>
                </a:solidFill>
                <a:latin typeface="Arial"/>
                <a:ea typeface="QuranTaha"/>
              </a:rPr>
              <a:t>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٧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وَأَمَّا مَنْ جَاءَكَ يَسْعَى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٨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8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وَهُوَ يَخْشَى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٩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فَأَنْتَ عَنْهُ تَلَهَّى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كَلا إِنَّهَا تَذْكِرَةٌ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8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فَمَنْ شَاءَ ذَكَرَهُ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فِي صُحُفٍ مُكَرَّمَةٍ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مَرْفُوعَةٍ مُطَهَّرَةٍ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بِأَيْدِي سَفَرَةٍ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كِرَامٍ بَرَرَةٍ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٦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قُتِلَ الإنْسَانُ مَا أَكْفَرَهُ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٧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مِنْ أَيِّ شَيْءٍ خَلَقَهُ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٨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مِنْ نُطْفَةٍ خَلَقَهُ فَقَدَّرَهُ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٩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ثُمَّ السَّبِيلَ يَسَّرَهُ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٠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ثُمَّ أَمَاتَهُ فَأَقْبَرَهُ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١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9"/>
          <p:cNvSpPr/>
          <p:nvPr/>
        </p:nvSpPr>
        <p:spPr>
          <a:xfrm>
            <a:off x="10787040" y="655560"/>
            <a:ext cx="7929720" cy="62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ثُمَّ إِذَا شَاءَ أَنْشَرَهُ 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٢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كَلا لَمَّا يَقْضِ مَا أَمَرَهُ 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٣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فَلْيَنْظُرِ الإنْسَانُ إِلَى طَعَامِهِ 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٤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أَنَّا صَبَبْنَا الْمَاءَ صَبًّا 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٥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ثُمَّ شَقَقْنَا الأرْضَ شَقًّا 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٦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فَأَنْبَتْنَا فِيهَا حَبًّا 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٧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وَعِنَبًا وَقَضْبًا 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٨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وَزَيْتُونًا وَنَخْلا 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٩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وَحَدَائِقَ غُلْبًا 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٠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وَفَاكِهَةً وَأَبًّا 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١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مَتَاعًا لَكُمْ وَلأنْعَامِكُمْ 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٢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فَإِذَا جَاءَتِ الصَّاخَّةُ 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٣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يَوْمَ يَفِرُّ الْمَرْءُ مِنْ أَخِيهِ 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٤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وَأُمِّهِ وَأَبِيهِ 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٥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وَصَاحِبَتِهِ وَبَنِيهِ 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٦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لِكُلِّ امْرِئٍ مِنْهُمْ يَوْمَئِذٍ شَأْنٌ يُغْنِيهِ 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٧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وُجُوهٌ يَوْمَئِذٍ مُسْفِرَةٌ 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٨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ضَاحِكَةٌ مُسْتَبْشِرَةٌ 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٩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وَوُجُوهٌ يَوْمَئِذٍ عَلَيْهَا غَبَرَةٌ 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٠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تَرْهَقُهَا قَتَرَةٌ 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١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أُولَئِكَ هُمُ الْكَفَرَةُ الْفَجَرَةُ 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٢</a:t>
            </a:r>
            <a:r>
              <a:rPr b="1" lang="ar-SA" sz="27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1-21.wav" descr=""/>
          <p:cNvPicPr/>
          <p:nvPr/>
        </p:nvPicPr>
        <p:blipFill>
          <a:blip r:embed="rId2"/>
          <a:stretch/>
        </p:blipFill>
        <p:spPr>
          <a:xfrm>
            <a:off x="10625040" y="-152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4" name="22-42.wav" descr=""/>
          <p:cNvPicPr/>
          <p:nvPr/>
        </p:nvPicPr>
        <p:blipFill>
          <a:blip r:embed="rId3"/>
          <a:stretch/>
        </p:blipFill>
        <p:spPr>
          <a:xfrm>
            <a:off x="10144080" y="-15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6" dur="100159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2159"/>
                            </p:stCondLst>
                            <p:childTnLst>
                              <p:par>
                                <p:cTn id="77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89017E-006 L -1.10538 -0.00948 E">
                                      <p:cBhvr>
                                        <p:cTn id="779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04159"/>
                            </p:stCondLst>
                            <p:childTnLst>
                              <p:par>
                                <p:cTn id="7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2" dur="119187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1980720" y="2921040"/>
            <a:ext cx="518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اختار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2"/>
          <p:cNvSpPr/>
          <p:nvPr/>
        </p:nvSpPr>
        <p:spPr>
          <a:xfrm>
            <a:off x="3353760" y="606600"/>
            <a:ext cx="2463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IranNastaliq"/>
                <a:cs typeface="IranNastaliq"/>
              </a:rPr>
              <a:t>خدايا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606040" y="3392640"/>
            <a:ext cx="395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IranNastaliq"/>
                <a:cs typeface="IranNastaliq"/>
              </a:rPr>
              <a:t>پروردگارا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550800" y="1785960"/>
            <a:ext cx="79930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(normal text)"/>
                <a:cs typeface="2  Badr"/>
              </a:rPr>
              <a:t>با ناسپاسي و كفران در اين دنيا، ما را از چهره هاي غمگين غبارآلود روز هولناك قيامت قرار مد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550800" y="4616280"/>
            <a:ext cx="79930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(normal text)"/>
                <a:cs typeface="2  Badr"/>
              </a:rPr>
              <a:t>توهم برتري و شرافت ساختگي بر مبناي دنيا را از ما دور بدار، تا مشتاقانه به هدايت تو روي بياوري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000"/>
                            </p:stCondLst>
                            <p:childTnLst>
                              <p:par>
                                <p:cTn id="8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_s1037"/>
          <p:cNvSpPr/>
          <p:nvPr/>
        </p:nvSpPr>
        <p:spPr>
          <a:xfrm>
            <a:off x="826920" y="3957480"/>
            <a:ext cx="2283120" cy="136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سیاق س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33</a:t>
            </a: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_s1049"/>
          <p:cNvSpPr/>
          <p:nvPr/>
        </p:nvSpPr>
        <p:spPr>
          <a:xfrm>
            <a:off x="3389400" y="3933720"/>
            <a:ext cx="2282760" cy="136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سیاق د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7</a:t>
            </a: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_s1061"/>
          <p:cNvSpPr/>
          <p:nvPr/>
        </p:nvSpPr>
        <p:spPr>
          <a:xfrm>
            <a:off x="5940360" y="3933720"/>
            <a:ext cx="2282760" cy="136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سیاق ا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</a:t>
            </a: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_s1079"/>
          <p:cNvSpPr/>
          <p:nvPr/>
        </p:nvSpPr>
        <p:spPr>
          <a:xfrm>
            <a:off x="2298600" y="1413000"/>
            <a:ext cx="4464000" cy="1119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سوره مبارکه عب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متصل کننده پیکان مستقیم 6"/>
          <p:cNvCxnSpPr>
            <a:stCxn id="61" idx="2"/>
            <a:endCxn id="60" idx="0"/>
          </p:cNvCxnSpPr>
          <p:nvPr/>
        </p:nvCxnSpPr>
        <p:spPr>
          <a:xfrm>
            <a:off x="4530240" y="2531880"/>
            <a:ext cx="2552040" cy="140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متصل کننده پیکان مستقیم 7"/>
          <p:cNvCxnSpPr>
            <a:stCxn id="61" idx="2"/>
            <a:endCxn id="59" idx="0"/>
          </p:cNvCxnSpPr>
          <p:nvPr/>
        </p:nvCxnSpPr>
        <p:spPr>
          <a:xfrm>
            <a:off x="4530240" y="2531880"/>
            <a:ext cx="1080" cy="140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متصل کننده پیکان مستقیم 8"/>
          <p:cNvCxnSpPr>
            <a:stCxn id="61" idx="2"/>
          </p:cNvCxnSpPr>
          <p:nvPr/>
        </p:nvCxnSpPr>
        <p:spPr>
          <a:xfrm flipH="1">
            <a:off x="1939680" y="2531880"/>
            <a:ext cx="2591280" cy="142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2451600" y="1925640"/>
            <a:ext cx="424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او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500200" y="4106880"/>
            <a:ext cx="4143600" cy="21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آیات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6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1026000" y="2874960"/>
            <a:ext cx="709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او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9"/>
          <p:cNvSpPr/>
          <p:nvPr/>
        </p:nvSpPr>
        <p:spPr>
          <a:xfrm>
            <a:off x="714240" y="750960"/>
            <a:ext cx="77155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عَبَسَ وَتَوَلَّى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١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أَنْ جَاءَهُ الأعْمَى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٢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وَمَا يُدْرِيكَ لَعَلَّهُ يَزَّكَّى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٣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أَوْ يَذَّكَّرُ فَتَنْفَعَهُ الذِّكْرَى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٤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أَمَّا مَنِ اسْتَغْنَى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٥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فَأَنْتَ لَهُ تَصَدَّى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وَمَا عَلَيْكَ أَلا يَزَّكَّى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٧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وَأَمَّا مَنْ جَاءَكَ يَسْعَى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٨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وَهُوَ يَخْشَى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فَأَنْتَ عَنْهُ تَلَهَّى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١٠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كَلا إِنَّهَا تَذْكِرَةٌ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١١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فَمَنْ شَاءَ ذَكَرَهُ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١٢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فِي صُحُفٍ مُكَرَّمَةٍ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١٣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مَرْفُوعَةٍ مُطَهَّرَةٍ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١٤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بِأَيْدِي سَفَرَةٍ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١٥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كِرَامٍ بَرَرَةٍ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١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قُتِلَ الإنْسَانُ مَا أَكْفَرَهُ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١٧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مِنْ أَيِّ شَيْءٍ خَلَقَهُ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١٨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مِنْ نُطْفَةٍ خَلَقَهُ فَقَدَّرَهُ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١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ثُمَّ السَّبِيلَ يَسَّرَهُ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٢٠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ثُمَّ أَمَاتَهُ فَأَقْبَرَهُ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٢١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ثُمَّ إِذَا شَاءَ أَنْشَرَهُ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٢٢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كَلا لَمَّا يَقْضِ مَا أَمَرَهُ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٢٣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فَلْيَنْظُرِ الإنْسَانُ إِلَى طَعَامِهِ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٢٤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أَنَّا صَبَبْنَا الْمَاءَ صَبًّا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٢٥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ثُمَّ شَقَقْنَا الأرْضَ شَقًّا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٢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فَأَنْبَتْنَا فِيهَا حَبًّا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٢٧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وَعِنَبًا وَقَضْبًا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٢٨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وَزَيْتُونًا وَنَخْلا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٢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وَحَدَائِقَ غُلْبًا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٣٠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وَفَاكِهَةً وَأَبًّا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٣١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مَتَاعًا لَكُمْ وَلأنْعَامِكُمْ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٣٢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فَإِذَا جَاءَتِ الصَّاخَّةُ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٣٣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يَوْمَ يَفِرُّ الْمَرْءُ مِنْ أَخِيهِ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٣٤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وَأُمِّهِ وَأَبِيهِ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٣٥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وَصَاحِبَتِهِ وَبَنِيهِ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٣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لِكُلِّ امْرِئٍ مِنْهُمْ يَوْمَئِذٍ شَأْنٌ يُغْنِيهِ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٣٧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وُجُوهٌ يَوْمَئِذٍ مُسْفِرَةٌ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٣٨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ضَاحِكَةٌ مُسْتَبْشِرَةٌ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٣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وَوُجُوهٌ يَوْمَئِذٍ عَلَيْهَا غَبَرَةٌ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٤٠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تَرْهَقُهَا قَتَرَةٌ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٤١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أُولَئِكَ هُمُ الْكَفَرَةُ الْفَجَرَةُ ﴿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٤٢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QuranTaha"/>
              </a:rPr>
              <a:t>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8"/>
          <p:cNvSpPr/>
          <p:nvPr/>
        </p:nvSpPr>
        <p:spPr>
          <a:xfrm>
            <a:off x="714240" y="426960"/>
            <a:ext cx="77155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عَبَسَ وَتَوَلَّى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أَنْ جَاءَهُ الأعْمَى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مَا يُدْرِيكَ لَعَلَّهُ يَزَّكَّى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أَوْ يَذَّكَّرُ فَتَنْفَعَهُ الذِّكْرَى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32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أَمَّا مَنِ اسْتَغْنَى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٥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فَأَنْتَ لَهُ تَصَدَّى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٦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32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مَا عَلَيْكَ أَلا يَزَّكَّى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٧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أَمَّا مَنْ جَاءَكَ يَسْعَى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٨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هُوَ يَخْشَى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٩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فَأَنْتَ عَنْهُ تَلَهَّى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كَلا إِنَّهَا تَذْكِرَةٌ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فَمَنْ شَاءَ ذَكَرَهُ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فِي صُحُفٍ مُكَرَّمَةٍ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مَرْفُوعَةٍ مُطَهَّرَةٍ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بِأَيْدِي سَفَرَةٍ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كِرَامٍ بَرَرَةٍ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٦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1-16.wav" descr=""/>
          <p:cNvPicPr/>
          <p:nvPr/>
        </p:nvPicPr>
        <p:blipFill>
          <a:blip r:embed="rId2"/>
          <a:stretch/>
        </p:blipFill>
        <p:spPr>
          <a:xfrm>
            <a:off x="10787040" y="428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75659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262440" y="2921040"/>
            <a:ext cx="86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1:41:04Z</dcterms:created>
  <dc:creator>YAALI</dc:creator>
  <dc:description/>
  <dc:language>en-US</dc:language>
  <cp:lastModifiedBy>ALI</cp:lastModifiedBy>
  <dcterms:modified xsi:type="dcterms:W3CDTF">2011-11-16T21:19:45Z</dcterms:modified>
  <cp:revision>77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