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947A8-301A-4660-BC70-B9612CA4C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25030-9E91-468F-AB93-DC4917F82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3D28D-D735-4CA4-8D10-7661D36CF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0257D-163D-42BE-A9FE-6B75CBE9A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77CEA-DE82-4118-BA93-21A8DA353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59E21-5B1D-4BF0-A68B-0C9C3C49F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9B1E9-B711-41EF-A66F-35DE5A851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CA1C1-4907-4DBA-8D8F-727906B59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9C8FD-DB8B-4C32-BF85-52D631286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921C4-CCBB-476E-808C-766E14DFB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5542E-58B3-44A7-9B62-D7B923C3E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36026-F898-4CDF-97E6-0B908EAC8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0BC85-5879-4A20-86A9-BA22591FBDF8}" type="slidenum">
              <a:rPr b="0" lang="fa-I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تصویر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Rectangle 2" descr=""/>
          <p:cNvPicPr/>
          <p:nvPr/>
        </p:nvPicPr>
        <p:blipFill>
          <a:blip r:embed="rId2"/>
          <a:stretch/>
        </p:blipFill>
        <p:spPr>
          <a:xfrm>
            <a:off x="-6480" y="5224320"/>
            <a:ext cx="9156960" cy="1743120"/>
          </a:xfrm>
          <a:prstGeom prst="rect">
            <a:avLst/>
          </a:prstGeom>
          <a:ln w="0">
            <a:noFill/>
          </a:ln>
        </p:spPr>
      </p:pic>
      <p:pic>
        <p:nvPicPr>
          <p:cNvPr id="43" name="besm.wav" descr=""/>
          <p:cNvPicPr/>
          <p:nvPr/>
        </p:nvPicPr>
        <p:blipFill>
          <a:blip r:embed="rId3"/>
          <a:stretch/>
        </p:blipFill>
        <p:spPr>
          <a:xfrm>
            <a:off x="10858680" y="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6105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675"/>
                                  </p:iterate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تصویر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2"/>
          <p:cNvSpPr/>
          <p:nvPr/>
        </p:nvSpPr>
        <p:spPr>
          <a:xfrm>
            <a:off x="-514080" y="3068640"/>
            <a:ext cx="10194840" cy="6426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000000"/>
                </a:solidFill>
                <a:latin typeface="Calibri"/>
                <a:cs typeface="2  Lotus"/>
              </a:rPr>
              <a:t>غفلت انسان نسبت به آگاهی از اعمال در روز قیامت</a:t>
            </a:r>
            <a:r>
              <a:rPr b="0" lang="fa-IR" sz="3600" spc="-1" strike="noStrike">
                <a:solidFill>
                  <a:srgbClr val="000000"/>
                </a:solidFill>
                <a:latin typeface="Calibri"/>
                <a:ea typeface="2  Lotu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1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تصویر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2"/>
          <p:cNvSpPr/>
          <p:nvPr/>
        </p:nvSpPr>
        <p:spPr>
          <a:xfrm>
            <a:off x="305280" y="2921040"/>
            <a:ext cx="8533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6000" spc="-1" strike="noStrike">
                <a:solidFill>
                  <a:srgbClr val="0d0d0d"/>
                </a:solidFill>
                <a:latin typeface="Calibri"/>
                <a:cs typeface="DecoType Naskh Extensions"/>
              </a:rPr>
              <a:t>سیر هدایتی سیاق اول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تصویر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</p:pic>
      <p:sp>
        <p:nvSpPr>
          <p:cNvPr id="71" name="Rectangle 3"/>
          <p:cNvSpPr/>
          <p:nvPr/>
        </p:nvSpPr>
        <p:spPr>
          <a:xfrm>
            <a:off x="4057560" y="714240"/>
            <a:ext cx="3443400" cy="4161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alibri"/>
                <a:cs typeface="2  Badr"/>
              </a:rPr>
              <a:t>إِذَا الشَّمْسُ كُوِّرَتْ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4"/>
          <p:cNvSpPr/>
          <p:nvPr/>
        </p:nvSpPr>
        <p:spPr>
          <a:xfrm>
            <a:off x="1000080" y="3292560"/>
            <a:ext cx="2143080" cy="4158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alibri"/>
                <a:cs typeface="2  Badr"/>
              </a:rPr>
              <a:t>عَلِمَتْ نَفْسٌ مَّا أَحْضَرَتْ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5"/>
          <p:cNvSpPr/>
          <p:nvPr/>
        </p:nvSpPr>
        <p:spPr>
          <a:xfrm>
            <a:off x="4057560" y="1143000"/>
            <a:ext cx="3443400" cy="4158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alibri"/>
                <a:cs typeface="2  Badr"/>
              </a:rPr>
              <a:t>وَإِذَا النُّجُومُ انْكَدَرَتْ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2  Badr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6"/>
          <p:cNvSpPr/>
          <p:nvPr/>
        </p:nvSpPr>
        <p:spPr>
          <a:xfrm>
            <a:off x="4057560" y="3583080"/>
            <a:ext cx="3443400" cy="4176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alibri"/>
                <a:cs typeface="2  Badr"/>
              </a:rPr>
              <a:t>وَإِذَا النُّفُوسُ زُوِّجَتْ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2  Badr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7"/>
          <p:cNvSpPr/>
          <p:nvPr/>
        </p:nvSpPr>
        <p:spPr>
          <a:xfrm>
            <a:off x="4057560" y="4441680"/>
            <a:ext cx="3443400" cy="4161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alibri"/>
                <a:cs typeface="2  Badr"/>
              </a:rPr>
              <a:t>وَإِذَا الصُّحُفُ نُشِرَتْ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"/>
          <p:cNvSpPr/>
          <p:nvPr/>
        </p:nvSpPr>
        <p:spPr>
          <a:xfrm>
            <a:off x="4057560" y="2870280"/>
            <a:ext cx="3443400" cy="4158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alibri"/>
                <a:cs typeface="2  Badr"/>
              </a:rPr>
              <a:t>وَإِذَا الْبِحَارُ سُجِّرَتْ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2  Badr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9"/>
          <p:cNvSpPr/>
          <p:nvPr/>
        </p:nvSpPr>
        <p:spPr>
          <a:xfrm>
            <a:off x="4057560" y="2013120"/>
            <a:ext cx="3443400" cy="4158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alibri"/>
                <a:cs typeface="2  Badr"/>
              </a:rPr>
              <a:t>وَإِذَا الْعِشَارُ عُطِّلَتْ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10"/>
          <p:cNvSpPr/>
          <p:nvPr/>
        </p:nvSpPr>
        <p:spPr>
          <a:xfrm>
            <a:off x="4057560" y="2440080"/>
            <a:ext cx="3443400" cy="4176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alibri"/>
                <a:cs typeface="2  Badr"/>
              </a:rPr>
              <a:t>وَإِذَا الْوُحُوشُ حُشِرَت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11"/>
          <p:cNvSpPr/>
          <p:nvPr/>
        </p:nvSpPr>
        <p:spPr>
          <a:xfrm>
            <a:off x="4057560" y="4013280"/>
            <a:ext cx="3443400" cy="4158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alibri"/>
                <a:cs typeface="2  Badr"/>
              </a:rPr>
              <a:t>وَإِذَا الْمَوْءُودَةُ سُئِلَتْ * بِأَيِّ ذَنْبٍ قُتِلَتْ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12"/>
          <p:cNvSpPr/>
          <p:nvPr/>
        </p:nvSpPr>
        <p:spPr>
          <a:xfrm>
            <a:off x="4057560" y="1584360"/>
            <a:ext cx="3443400" cy="4158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alibri"/>
                <a:cs typeface="2  Badr"/>
              </a:rPr>
              <a:t>وَإِذَا الْجِبَالُ سُيِّرَتْ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13"/>
          <p:cNvSpPr/>
          <p:nvPr/>
        </p:nvSpPr>
        <p:spPr>
          <a:xfrm>
            <a:off x="4057560" y="4857840"/>
            <a:ext cx="3443400" cy="4176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alibri"/>
                <a:cs typeface="2  Badr"/>
              </a:rPr>
              <a:t>وَإِذَا السَّمَاءُ كُشِطَتْ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2  Badr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4"/>
          <p:cNvSpPr/>
          <p:nvPr/>
        </p:nvSpPr>
        <p:spPr>
          <a:xfrm>
            <a:off x="4057560" y="5286240"/>
            <a:ext cx="3443400" cy="4161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alibri"/>
                <a:cs typeface="2  Badr"/>
              </a:rPr>
              <a:t>وَإِذَا الْجَحِيمُ سُعِّرَتْ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2  Badr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5"/>
          <p:cNvSpPr/>
          <p:nvPr/>
        </p:nvSpPr>
        <p:spPr>
          <a:xfrm>
            <a:off x="4057560" y="5726160"/>
            <a:ext cx="3443400" cy="4176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alibri"/>
                <a:cs typeface="2  Badr"/>
              </a:rPr>
              <a:t>وَإِذَا الْجَنَّةُ أُزْلِفَتْ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2  Badr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AutoShape 16"/>
          <p:cNvCxnSpPr>
            <a:stCxn id="76" idx="2"/>
            <a:endCxn id="74" idx="0"/>
          </p:cNvCxnSpPr>
          <p:nvPr/>
        </p:nvCxnSpPr>
        <p:spPr>
          <a:xfrm flipH="1">
            <a:off x="5777640" y="3285720"/>
            <a:ext cx="2520" cy="297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AutoShape 18"/>
          <p:cNvCxnSpPr>
            <a:stCxn id="86" idx="1"/>
            <a:endCxn id="72" idx="3"/>
          </p:cNvCxnSpPr>
          <p:nvPr/>
        </p:nvCxnSpPr>
        <p:spPr>
          <a:xfrm flipH="1" flipV="1">
            <a:off x="3142800" y="3499560"/>
            <a:ext cx="572400" cy="1358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AutoShape 19"/>
          <p:cNvSpPr/>
          <p:nvPr/>
        </p:nvSpPr>
        <p:spPr>
          <a:xfrm>
            <a:off x="3714840" y="714240"/>
            <a:ext cx="353880" cy="2571840"/>
          </a:xfrm>
          <a:custGeom>
            <a:avLst/>
            <a:gdLst>
              <a:gd name="textAreaLeft" fmla="*/ 226080 w 353880"/>
              <a:gd name="textAreaRight" fmla="*/ 354240 w 353880"/>
              <a:gd name="textAreaTop" fmla="*/ 41400 h 2571840"/>
              <a:gd name="textAreaBottom" fmla="*/ 2530440 h 2571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556"/>
                  <a:pt x="10800" y="1111"/>
                </a:cubicBezTo>
                <a:lnTo>
                  <a:pt x="10800" y="9689"/>
                </a:lnTo>
                <a:cubicBezTo>
                  <a:pt x="10800" y="10245"/>
                  <a:pt x="5400" y="10800"/>
                  <a:pt x="0" y="10800"/>
                </a:cubicBezTo>
                <a:cubicBezTo>
                  <a:pt x="5400" y="10800"/>
                  <a:pt x="10800" y="11356"/>
                  <a:pt x="10800" y="11911"/>
                </a:cubicBezTo>
                <a:lnTo>
                  <a:pt x="10800" y="20489"/>
                </a:lnTo>
                <a:cubicBezTo>
                  <a:pt x="10800" y="21045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AutoShape 20"/>
          <p:cNvCxnSpPr>
            <a:stCxn id="87" idx="1"/>
            <a:endCxn id="72" idx="3"/>
          </p:cNvCxnSpPr>
          <p:nvPr/>
        </p:nvCxnSpPr>
        <p:spPr>
          <a:xfrm flipH="1">
            <a:off x="3142800" y="1999080"/>
            <a:ext cx="572400" cy="1500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6" name="AutoShape 19"/>
          <p:cNvSpPr/>
          <p:nvPr/>
        </p:nvSpPr>
        <p:spPr>
          <a:xfrm>
            <a:off x="3714840" y="3571920"/>
            <a:ext cx="353880" cy="2571840"/>
          </a:xfrm>
          <a:custGeom>
            <a:avLst/>
            <a:gdLst>
              <a:gd name="textAreaLeft" fmla="*/ 226080 w 353880"/>
              <a:gd name="textAreaRight" fmla="*/ 354240 w 353880"/>
              <a:gd name="textAreaTop" fmla="*/ 46080 h 2571840"/>
              <a:gd name="textAreaBottom" fmla="*/ 2525760 h 2571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622"/>
                  <a:pt x="10800" y="1244"/>
                </a:cubicBezTo>
                <a:lnTo>
                  <a:pt x="10800" y="9556"/>
                </a:lnTo>
                <a:cubicBezTo>
                  <a:pt x="10800" y="10178"/>
                  <a:pt x="5400" y="10800"/>
                  <a:pt x="0" y="10800"/>
                </a:cubicBezTo>
                <a:cubicBezTo>
                  <a:pt x="5400" y="10800"/>
                  <a:pt x="10800" y="11422"/>
                  <a:pt x="10800" y="12044"/>
                </a:cubicBezTo>
                <a:lnTo>
                  <a:pt x="10800" y="20356"/>
                </a:lnTo>
                <a:cubicBezTo>
                  <a:pt x="10800" y="20978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7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2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7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2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7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2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7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1000"/>
                            </p:stCondLst>
                            <p:childTnLst>
                              <p:par>
                                <p:cTn id="15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6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1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6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1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6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1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5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0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1000"/>
                            </p:stCondLst>
                            <p:childTnLst>
                              <p:par>
                                <p:cTn id="202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04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2000"/>
                            </p:stCondLst>
                            <p:childTnLst>
                              <p:par>
                                <p:cTn id="20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8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تصویر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2"/>
          <p:cNvSpPr/>
          <p:nvPr/>
        </p:nvSpPr>
        <p:spPr>
          <a:xfrm>
            <a:off x="1511280" y="2690640"/>
            <a:ext cx="6121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6000" spc="-1" strike="noStrike">
                <a:solidFill>
                  <a:srgbClr val="0d0d0d"/>
                </a:solidFill>
                <a:latin typeface="Calibri"/>
                <a:cs typeface="DecoType Naskh Extensions"/>
              </a:rPr>
              <a:t>جهت هدایتی سیاق اول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0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تصویر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2"/>
          <p:cNvSpPr/>
          <p:nvPr/>
        </p:nvSpPr>
        <p:spPr>
          <a:xfrm>
            <a:off x="1071720" y="3860640"/>
            <a:ext cx="707220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5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Calibri"/>
                <a:cs typeface="2  Badr"/>
              </a:rPr>
              <a:t>نظام عادی عالم برچیده می شود و نظام تعیین سرنوشت براساس دستاوردهای خود جای آن را می گیرد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3"/>
          <p:cNvSpPr/>
          <p:nvPr/>
        </p:nvSpPr>
        <p:spPr>
          <a:xfrm>
            <a:off x="-5607000" y="1773360"/>
            <a:ext cx="20358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6600" spc="-1" strike="noStrike">
                <a:solidFill>
                  <a:srgbClr val="000000"/>
                </a:solidFill>
                <a:latin typeface="IranNastaliq"/>
                <a:cs typeface="IranNastaliq"/>
              </a:rPr>
              <a:t>هشدار و انذار؛ آگاهی انسان از دستاورد خود در روز قیامت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تصویر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2"/>
          <p:cNvSpPr/>
          <p:nvPr/>
        </p:nvSpPr>
        <p:spPr>
          <a:xfrm>
            <a:off x="2437200" y="1925640"/>
            <a:ext cx="42696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6600" spc="-1" strike="noStrike">
                <a:solidFill>
                  <a:srgbClr val="0d0d0d"/>
                </a:solidFill>
                <a:latin typeface="Calibri"/>
                <a:cs typeface="DecoType Naskh Extensions"/>
              </a:rPr>
              <a:t>سیاق دوم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3"/>
          <p:cNvSpPr/>
          <p:nvPr/>
        </p:nvSpPr>
        <p:spPr>
          <a:xfrm>
            <a:off x="2428920" y="3936960"/>
            <a:ext cx="4287960" cy="21049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6600" spc="-1" strike="noStrike">
                <a:solidFill>
                  <a:srgbClr val="000000"/>
                </a:solidFill>
                <a:latin typeface="Traditional Arabic"/>
                <a:cs typeface="Traditional Arabic"/>
              </a:rPr>
              <a:t>آیات </a:t>
            </a:r>
            <a:r>
              <a:rPr b="1" lang="fa-IR" sz="6600" spc="-1" strike="noStrike">
                <a:solidFill>
                  <a:srgbClr val="000000"/>
                </a:solidFill>
                <a:latin typeface="Traditional Arabic"/>
                <a:ea typeface="Traditional Arabic"/>
              </a:rPr>
              <a:t>15</a:t>
            </a:r>
            <a:r>
              <a:rPr b="1" lang="fa-IR" sz="6600" spc="-1" strike="noStrike">
                <a:solidFill>
                  <a:srgbClr val="000000"/>
                </a:solidFill>
                <a:latin typeface="Traditional Arabic"/>
                <a:ea typeface="Traditional Arabic"/>
              </a:rPr>
              <a:t> تا </a:t>
            </a:r>
            <a:r>
              <a:rPr b="1" lang="fa-IR" sz="6600" spc="-1" strike="noStrike">
                <a:solidFill>
                  <a:srgbClr val="000000"/>
                </a:solidFill>
                <a:latin typeface="Traditional Arabic"/>
                <a:ea typeface="Traditional Arabic"/>
              </a:rPr>
              <a:t>29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0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4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تصویر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2"/>
          <p:cNvSpPr/>
          <p:nvPr/>
        </p:nvSpPr>
        <p:spPr>
          <a:xfrm>
            <a:off x="1011600" y="2874960"/>
            <a:ext cx="71211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6600" spc="-1" strike="noStrike">
                <a:solidFill>
                  <a:srgbClr val="0d0d0d"/>
                </a:solidFill>
                <a:latin typeface="Calibri"/>
                <a:cs typeface="DecoType Naskh Extensions"/>
              </a:rPr>
              <a:t>قرائت سیاق دوم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0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تصویر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20"/>
          <p:cNvSpPr/>
          <p:nvPr/>
        </p:nvSpPr>
        <p:spPr>
          <a:xfrm>
            <a:off x="928800" y="857160"/>
            <a:ext cx="7286400" cy="649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  <a:cs typeface="QuranTaha"/>
              </a:rPr>
              <a:t>فَلا أُقْسِمُ بِالْخُنَّسِ </a:t>
            </a:r>
            <a:r>
              <a:rPr b="1" lang="ar-SA" sz="28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8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١٥</a:t>
            </a:r>
            <a:r>
              <a:rPr b="1" lang="ar-SA" sz="28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cs typeface="QuranTaha"/>
              </a:rPr>
              <a:t>الْجَوَارِ الْكُنَّسِ </a:t>
            </a:r>
            <a:r>
              <a:rPr b="1" lang="ar-SA" sz="28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8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١٦</a:t>
            </a:r>
            <a:r>
              <a:rPr b="1" lang="ar-SA" sz="28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cs typeface="QuranTaha"/>
              </a:rPr>
              <a:t>وَاللَّيْلِ إِذَا عَسْعَسَ</a:t>
            </a:r>
            <a:r>
              <a:rPr b="1" lang="ar-SA" sz="2800" spc="-1" strike="noStrike">
                <a:solidFill>
                  <a:srgbClr val="ff0000"/>
                </a:solidFill>
                <a:latin typeface="Traditional Arabic"/>
                <a:ea typeface="Traditional Arabic"/>
              </a:rPr>
              <a:t> </a:t>
            </a:r>
            <a:r>
              <a:rPr b="1" lang="ar-SA" sz="28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8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١٧</a:t>
            </a:r>
            <a:r>
              <a:rPr b="1" lang="ar-SA" sz="28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cs typeface="QuranTaha"/>
              </a:rPr>
              <a:t>وَالصُّبْحِ إِذَا تَنَفَّسَ </a:t>
            </a:r>
            <a:r>
              <a:rPr b="1" lang="ar-SA" sz="28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8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١٨</a:t>
            </a:r>
            <a:r>
              <a:rPr b="1" lang="ar-SA" sz="28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cs typeface="QuranTaha"/>
              </a:rPr>
              <a:t>إِنَّهُ لَقَوْلُ رَسُولٍ كَرِيمٍ </a:t>
            </a:r>
            <a:r>
              <a:rPr b="1" lang="ar-SA" sz="28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8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١٩</a:t>
            </a:r>
            <a:r>
              <a:rPr b="1" lang="ar-SA" sz="28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cs typeface="QuranTaha"/>
              </a:rPr>
              <a:t>ذِي قُوَّةٍ عِنْدَ ذِي الْعَرْشِ مَكِينٍ </a:t>
            </a:r>
            <a:r>
              <a:rPr b="1" lang="ar-SA" sz="28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8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٢٠</a:t>
            </a:r>
            <a:r>
              <a:rPr b="1" lang="ar-SA" sz="28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cs typeface="QuranTaha"/>
              </a:rPr>
              <a:t>مُطَاعٍ ثَمَّ أَمِينٍ </a:t>
            </a:r>
            <a:r>
              <a:rPr b="1" lang="ar-SA" sz="28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8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٢١</a:t>
            </a:r>
            <a:r>
              <a:rPr b="1" lang="ar-SA" sz="28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cs typeface="QuranTaha"/>
              </a:rPr>
              <a:t>وَمَا صَاحِبُكُمْ بِمَجْنُونٍ </a:t>
            </a:r>
            <a:r>
              <a:rPr b="1" lang="ar-SA" sz="28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8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٢٢</a:t>
            </a:r>
            <a:r>
              <a:rPr b="1" lang="ar-SA" sz="28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cs typeface="QuranTaha"/>
              </a:rPr>
              <a:t>وَلَقَدْ رَآهُ بِالأفُقِ الْمُبِينِ </a:t>
            </a:r>
            <a:r>
              <a:rPr b="1" lang="ar-SA" sz="28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8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٢٣</a:t>
            </a:r>
            <a:r>
              <a:rPr b="1" lang="ar-SA" sz="28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cs typeface="QuranTaha"/>
              </a:rPr>
              <a:t>وَمَا هُوَ عَلَى الْغَيْبِ بِضَنِينٍ </a:t>
            </a:r>
            <a:r>
              <a:rPr b="1" lang="ar-SA" sz="28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8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٢٤</a:t>
            </a:r>
            <a:r>
              <a:rPr b="1" lang="ar-SA" sz="28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cs typeface="QuranTaha"/>
              </a:rPr>
              <a:t>وَمَا هُوَ بِقَوْلِ شَيْطَانٍ رَجِيمٍ </a:t>
            </a:r>
            <a:r>
              <a:rPr b="1" lang="ar-SA" sz="28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8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٢٥</a:t>
            </a:r>
            <a:r>
              <a:rPr b="1" lang="ar-SA" sz="28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cs typeface="QuranTaha"/>
              </a:rPr>
              <a:t>فَأَيْنَ تَذْهَبُونَ </a:t>
            </a:r>
            <a:r>
              <a:rPr b="1" lang="ar-SA" sz="28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8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٢٦</a:t>
            </a:r>
            <a:r>
              <a:rPr b="1" lang="ar-SA" sz="28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cs typeface="QuranTaha"/>
              </a:rPr>
              <a:t>إِنْ هُوَ إِلا ذِكْرٌ لِلْعَالَمِينَ </a:t>
            </a:r>
            <a:r>
              <a:rPr b="1" lang="ar-SA" sz="28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8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٢٧</a:t>
            </a:r>
            <a:r>
              <a:rPr b="1" lang="ar-SA" sz="28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cs typeface="QuranTaha"/>
              </a:rPr>
              <a:t>لِمَنْ شَاءَ مِنْكُمْ أَنْ يَسْتَقِيمَ </a:t>
            </a:r>
            <a:r>
              <a:rPr b="1" lang="ar-SA" sz="28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8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٢٨</a:t>
            </a:r>
            <a:r>
              <a:rPr b="1" lang="ar-SA" sz="28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cs typeface="QuranTaha"/>
              </a:rPr>
              <a:t>وَمَا تَشَاءُونَ إِلا أَنْ يَشَاءَ اللَّهُ رَبُّ الْعَالَمِينَ </a:t>
            </a:r>
            <a:r>
              <a:rPr b="1" lang="ar-SA" sz="28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8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٢٩</a:t>
            </a:r>
            <a:r>
              <a:rPr b="1" lang="ar-SA" sz="28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15-29.wav" descr=""/>
          <p:cNvPicPr/>
          <p:nvPr/>
        </p:nvPicPr>
        <p:blipFill>
          <a:blip r:embed="rId2"/>
          <a:stretch/>
        </p:blipFill>
        <p:spPr>
          <a:xfrm>
            <a:off x="1114416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0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1000"/>
                            </p:stCondLst>
                            <p:childTnLst>
                              <p:par>
                                <p:cTn id="26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9" dur="96676" fill="hold"/>
                                        <p:tgtEl>
                                          <p:spTgt spid="1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تصویر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2"/>
          <p:cNvSpPr/>
          <p:nvPr/>
        </p:nvSpPr>
        <p:spPr>
          <a:xfrm>
            <a:off x="248760" y="2921040"/>
            <a:ext cx="8646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6000" spc="-1" strike="noStrike">
                <a:solidFill>
                  <a:srgbClr val="0d0d0d"/>
                </a:solidFill>
                <a:latin typeface="Calibri"/>
                <a:cs typeface="DecoType Naskh Extensions"/>
              </a:rPr>
              <a:t>فضای سخن سیاق دوم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0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تصویر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3"/>
          <p:cNvSpPr/>
          <p:nvPr/>
        </p:nvSpPr>
        <p:spPr>
          <a:xfrm>
            <a:off x="1143000" y="2428920"/>
            <a:ext cx="6858000" cy="32925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Calibri"/>
                <a:cs typeface="2  Lotus"/>
              </a:rPr>
              <a:t>وارد ساختن اتهام القاء قرآن توسط جنیان و شیاطین در مقابله با هشدار و انذار قرآن نسبت به برچیده شدن نظام عالم و برپایی نظام حساب و کتاب بر اساس اعمال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0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5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تصویر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2"/>
          <p:cNvSpPr/>
          <p:nvPr/>
        </p:nvSpPr>
        <p:spPr>
          <a:xfrm>
            <a:off x="2012040" y="2921040"/>
            <a:ext cx="5119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6000" spc="-1" strike="noStrike">
                <a:solidFill>
                  <a:srgbClr val="0d0d0d"/>
                </a:solidFill>
                <a:latin typeface="Calibri"/>
                <a:cs typeface="DecoType Naskh Extensions"/>
              </a:rPr>
              <a:t>شناسه سوره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تصویر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2"/>
          <p:cNvSpPr/>
          <p:nvPr/>
        </p:nvSpPr>
        <p:spPr>
          <a:xfrm>
            <a:off x="291600" y="2921040"/>
            <a:ext cx="8561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6000" spc="-1" strike="noStrike">
                <a:solidFill>
                  <a:srgbClr val="0d0d0d"/>
                </a:solidFill>
                <a:latin typeface="Calibri"/>
                <a:cs typeface="DecoType Naskh Extensions"/>
              </a:rPr>
              <a:t>سیر هدایتی سیاق دوم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4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تصویر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Rectangle 3"/>
          <p:cNvSpPr/>
          <p:nvPr/>
        </p:nvSpPr>
        <p:spPr>
          <a:xfrm>
            <a:off x="7053120" y="2319480"/>
            <a:ext cx="1305000" cy="9334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Scheherazade"/>
                <a:cs typeface="B Badr"/>
              </a:rPr>
              <a:t>وَ الَّيْلِ إِذَا عَسْعَسَ</a:t>
            </a:r>
            <a:r>
              <a:rPr b="1" lang="en-US" sz="2000" spc="-1" strike="noStrike">
                <a:solidFill>
                  <a:srgbClr val="000000"/>
                </a:solidFill>
                <a:latin typeface="Scheherazade"/>
                <a:ea typeface="B Badr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4978440" y="714240"/>
            <a:ext cx="1093680" cy="9288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Scheherazade"/>
                <a:cs typeface="B Badr"/>
              </a:rPr>
              <a:t>إِنَّهُ لَقَوْلُ رَسُولٍ كَرِيم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5"/>
          <p:cNvSpPr/>
          <p:nvPr/>
        </p:nvSpPr>
        <p:spPr>
          <a:xfrm>
            <a:off x="4978440" y="2000160"/>
            <a:ext cx="1093680" cy="17146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Scheherazade"/>
                <a:cs typeface="B Badr"/>
              </a:rPr>
              <a:t>ذِى قُوَّةٍ عِندَ ذِى الْعَرْشِ مَكِينٍ * مُّطَاعٍ ثمَ‏َّأَمِين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6"/>
          <p:cNvSpPr/>
          <p:nvPr/>
        </p:nvSpPr>
        <p:spPr>
          <a:xfrm>
            <a:off x="961920" y="2286000"/>
            <a:ext cx="150192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(normal text)"/>
                <a:cs typeface="B Badr"/>
              </a:rPr>
              <a:t>فَأَيْنَ تَذْهَبُون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cheherazade"/>
                <a:ea typeface="B Badr"/>
              </a:rPr>
              <a:t> </a:t>
            </a:r>
            <a:r>
              <a:rPr b="1" lang="ar-SA" sz="2000" spc="-1" strike="noStrike">
                <a:solidFill>
                  <a:srgbClr val="000000"/>
                </a:solidFill>
                <a:latin typeface="Scheherazade"/>
                <a:cs typeface="B Badr"/>
              </a:rPr>
              <a:t>إِنْ هُوَ إِلَّا ذِكْرٌ لِّلْعَالَمِين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7"/>
          <p:cNvSpPr/>
          <p:nvPr/>
        </p:nvSpPr>
        <p:spPr>
          <a:xfrm>
            <a:off x="961920" y="3786120"/>
            <a:ext cx="1501920" cy="16430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Scheherazade"/>
                <a:cs typeface="B Badr"/>
              </a:rPr>
              <a:t>لِمَن شَاءَ مِنكُمْ أَن يَسْتَقِيمَ*وَ مَا تَشَاءُونَ إِلَّا أَن يَشَاءَ اللَّهُ رَبّ الْعَالَمِين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8"/>
          <p:cNvSpPr/>
          <p:nvPr/>
        </p:nvSpPr>
        <p:spPr>
          <a:xfrm>
            <a:off x="7053120" y="3495600"/>
            <a:ext cx="1305000" cy="9334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Scheherazade"/>
                <a:cs typeface="B Badr"/>
              </a:rPr>
              <a:t>وَ الصُّبْحِ إِذَا تَنَفَّس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9"/>
          <p:cNvSpPr/>
          <p:nvPr/>
        </p:nvSpPr>
        <p:spPr>
          <a:xfrm>
            <a:off x="7053120" y="1071720"/>
            <a:ext cx="1305000" cy="1017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Scheherazade"/>
                <a:cs typeface="B Badr"/>
              </a:rPr>
              <a:t>فَلَا أُقْسِمُ بِالخُْنَّسِ * الجَْوَارِ الْكُنَّس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10"/>
          <p:cNvSpPr/>
          <p:nvPr/>
        </p:nvSpPr>
        <p:spPr>
          <a:xfrm>
            <a:off x="3321000" y="2000160"/>
            <a:ext cx="1536840" cy="17146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(normal text)"/>
                <a:cs typeface="B Badr"/>
              </a:rPr>
              <a:t>وَ مَا صَاحِبُكمُ بِمَجْنُونٍ</a:t>
            </a:r>
            <a:r>
              <a:rPr b="1" lang="ar-SA" sz="2000" spc="-1" strike="noStrike">
                <a:solidFill>
                  <a:srgbClr val="000000"/>
                </a:solidFill>
                <a:latin typeface="Scheherazade"/>
                <a:ea typeface="B Badr"/>
              </a:rPr>
              <a:t> * </a:t>
            </a:r>
            <a:r>
              <a:rPr b="1" lang="ar-SA" sz="2000" spc="-1" strike="noStrike">
                <a:solidFill>
                  <a:srgbClr val="000000"/>
                </a:solidFill>
                <a:latin typeface="(normal text)"/>
                <a:cs typeface="B Badr"/>
              </a:rPr>
              <a:t>وَ لَقَدْ رَءَاهُ بِالْأُفُقِ المُْبِينِ * وَ مَا هُوَ عَلىَ الْغَيْبِ بِضَنِينٍ</a:t>
            </a:r>
            <a:r>
              <a:rPr b="1" lang="en-US" sz="2000" spc="-1" strike="noStrike">
                <a:solidFill>
                  <a:srgbClr val="000000"/>
                </a:solidFill>
                <a:latin typeface="Scheherazade"/>
                <a:ea typeface="B Badr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11"/>
          <p:cNvSpPr/>
          <p:nvPr/>
        </p:nvSpPr>
        <p:spPr>
          <a:xfrm>
            <a:off x="4978440" y="3887640"/>
            <a:ext cx="1093680" cy="10414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(normal text)"/>
                <a:cs typeface="B Badr"/>
              </a:rPr>
              <a:t>وَ مَا هُوَ بِقَوْلِ شَيْطَانٍ رَّجِيم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12"/>
          <p:cNvSpPr/>
          <p:nvPr/>
        </p:nvSpPr>
        <p:spPr>
          <a:xfrm>
            <a:off x="6715080" y="1071720"/>
            <a:ext cx="285840" cy="33573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880 h 3357360"/>
              <a:gd name="textAreaBottom" fmla="*/ 3327480 h 3357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10"/>
                  <a:pt x="10800" y="620"/>
                </a:cubicBezTo>
                <a:lnTo>
                  <a:pt x="10800" y="10180"/>
                </a:lnTo>
                <a:cubicBezTo>
                  <a:pt x="10800" y="10490"/>
                  <a:pt x="5400" y="10800"/>
                  <a:pt x="0" y="10800"/>
                </a:cubicBezTo>
                <a:cubicBezTo>
                  <a:pt x="5400" y="10800"/>
                  <a:pt x="10800" y="11110"/>
                  <a:pt x="10800" y="11420"/>
                </a:cubicBezTo>
                <a:lnTo>
                  <a:pt x="10800" y="20980"/>
                </a:lnTo>
                <a:cubicBezTo>
                  <a:pt x="10800" y="2129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AutoShape 13"/>
          <p:cNvCxnSpPr>
            <a:stCxn id="118" idx="1"/>
            <a:endCxn id="110" idx="3"/>
          </p:cNvCxnSpPr>
          <p:nvPr/>
        </p:nvCxnSpPr>
        <p:spPr>
          <a:xfrm flipH="1" flipV="1">
            <a:off x="6072120" y="1177560"/>
            <a:ext cx="643320" cy="1572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0" name="AutoShape 14"/>
          <p:cNvCxnSpPr>
            <a:stCxn id="118" idx="1"/>
            <a:endCxn id="117" idx="3"/>
          </p:cNvCxnSpPr>
          <p:nvPr/>
        </p:nvCxnSpPr>
        <p:spPr>
          <a:xfrm flipH="1">
            <a:off x="6072120" y="2749680"/>
            <a:ext cx="643320" cy="1659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1" name="AutoShape 15"/>
          <p:cNvCxnSpPr>
            <a:stCxn id="110" idx="2"/>
            <a:endCxn id="111" idx="0"/>
          </p:cNvCxnSpPr>
          <p:nvPr/>
        </p:nvCxnSpPr>
        <p:spPr>
          <a:xfrm flipH="1">
            <a:off x="5524200" y="164304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2" name="AutoShape 16"/>
          <p:cNvCxnSpPr>
            <a:stCxn id="110" idx="1"/>
            <a:endCxn id="116" idx="0"/>
          </p:cNvCxnSpPr>
          <p:nvPr/>
        </p:nvCxnSpPr>
        <p:spPr>
          <a:xfrm flipV="1" rot="10800000">
            <a:off x="4088520" y="1177560"/>
            <a:ext cx="889920" cy="822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3" name="AutoShape 17"/>
          <p:cNvCxnSpPr>
            <a:stCxn id="124" idx="1"/>
            <a:endCxn id="112" idx="3"/>
          </p:cNvCxnSpPr>
          <p:nvPr/>
        </p:nvCxnSpPr>
        <p:spPr>
          <a:xfrm flipH="1" flipV="1">
            <a:off x="2463480" y="2857320"/>
            <a:ext cx="3499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4" name="AutoShape 18"/>
          <p:cNvSpPr/>
          <p:nvPr/>
        </p:nvSpPr>
        <p:spPr>
          <a:xfrm>
            <a:off x="2813040" y="714240"/>
            <a:ext cx="401760" cy="4286520"/>
          </a:xfrm>
          <a:custGeom>
            <a:avLst/>
            <a:gdLst>
              <a:gd name="textAreaLeft" fmla="*/ 256680 w 401760"/>
              <a:gd name="textAreaRight" fmla="*/ 402120 w 401760"/>
              <a:gd name="textAreaTop" fmla="*/ 72360 h 4286520"/>
              <a:gd name="textAreaBottom" fmla="*/ 4214160 h 4286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583"/>
                  <a:pt x="10800" y="1166"/>
                </a:cubicBezTo>
                <a:lnTo>
                  <a:pt x="10800" y="9634"/>
                </a:lnTo>
                <a:cubicBezTo>
                  <a:pt x="10800" y="10217"/>
                  <a:pt x="5400" y="10800"/>
                  <a:pt x="0" y="10800"/>
                </a:cubicBezTo>
                <a:cubicBezTo>
                  <a:pt x="5400" y="10800"/>
                  <a:pt x="10800" y="11383"/>
                  <a:pt x="10800" y="11966"/>
                </a:cubicBezTo>
                <a:lnTo>
                  <a:pt x="10800" y="20434"/>
                </a:lnTo>
                <a:cubicBezTo>
                  <a:pt x="10800" y="21017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5" name="AutoShape 19"/>
          <p:cNvCxnSpPr>
            <a:stCxn id="112" idx="2"/>
            <a:endCxn id="113" idx="0"/>
          </p:cNvCxnSpPr>
          <p:nvPr/>
        </p:nvCxnSpPr>
        <p:spPr>
          <a:xfrm flipH="1">
            <a:off x="1712160" y="3428640"/>
            <a:ext cx="2520" cy="359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6" name="AutoShape 20"/>
          <p:cNvCxnSpPr>
            <a:stCxn id="117" idx="1"/>
            <a:endCxn id="116" idx="2"/>
          </p:cNvCxnSpPr>
          <p:nvPr/>
        </p:nvCxnSpPr>
        <p:spPr>
          <a:xfrm rot="10800000">
            <a:off x="4088520" y="3714120"/>
            <a:ext cx="889920" cy="6944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0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1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6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1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6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21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1000"/>
                            </p:stCondLst>
                            <p:childTnLst>
                              <p:par>
                                <p:cTn id="32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5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0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1000"/>
                            </p:stCondLst>
                            <p:childTnLst>
                              <p:par>
                                <p:cTn id="33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4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9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1000"/>
                            </p:stCondLst>
                            <p:childTnLst>
                              <p:par>
                                <p:cTn id="34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3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8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1000"/>
                            </p:stCondLst>
                            <p:childTnLst>
                              <p:par>
                                <p:cTn id="350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52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2000"/>
                            </p:stCondLst>
                            <p:childTnLst>
                              <p:par>
                                <p:cTn id="35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6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1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1000"/>
                            </p:stCondLst>
                            <p:childTnLst>
                              <p:par>
                                <p:cTn id="36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5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2000"/>
                            </p:stCondLst>
                            <p:childTnLst>
                              <p:par>
                                <p:cTn id="36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9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4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1000"/>
                            </p:stCondLst>
                            <p:childTnLst>
                              <p:par>
                                <p:cTn id="37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8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تصویر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2"/>
          <p:cNvSpPr/>
          <p:nvPr/>
        </p:nvSpPr>
        <p:spPr>
          <a:xfrm>
            <a:off x="1511280" y="2690640"/>
            <a:ext cx="6121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6000" spc="-1" strike="noStrike">
                <a:solidFill>
                  <a:srgbClr val="0d0d0d"/>
                </a:solidFill>
                <a:latin typeface="Calibri"/>
                <a:cs typeface="DecoType Naskh Extensions"/>
              </a:rPr>
              <a:t>جهت هدایتی سیاق دوم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0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7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تصویر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Rectangle 2"/>
          <p:cNvSpPr/>
          <p:nvPr/>
        </p:nvSpPr>
        <p:spPr>
          <a:xfrm>
            <a:off x="928800" y="3071880"/>
            <a:ext cx="72151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5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Calibri"/>
                <a:cs typeface="2  Badr"/>
              </a:rPr>
              <a:t>آگاهی انسان از دستاورد خود در روز قیامت، سخن فرشته امین وحی است و رسول خدا</a:t>
            </a:r>
            <a:r>
              <a:rPr b="0" lang="fa-IR" sz="3200" spc="-1" strike="noStrike">
                <a:solidFill>
                  <a:srgbClr val="000000"/>
                </a:solidFill>
                <a:latin typeface="Alaem"/>
                <a:ea typeface="Alaem"/>
              </a:rPr>
              <a:t></a:t>
            </a:r>
            <a:r>
              <a:rPr b="0" lang="fa-IR" sz="3200" spc="-1" strike="noStrike">
                <a:solidFill>
                  <a:srgbClr val="000000"/>
                </a:solidFill>
                <a:latin typeface="Alaem"/>
                <a:cs typeface="Alaem"/>
              </a:rPr>
              <a:t>ص</a:t>
            </a:r>
            <a:r>
              <a:rPr b="0" lang="fa-IR" sz="3200" spc="-1" strike="noStrike">
                <a:solidFill>
                  <a:srgbClr val="000000"/>
                </a:solidFill>
                <a:latin typeface="Alaem"/>
                <a:ea typeface="Alaem"/>
              </a:rPr>
              <a:t></a:t>
            </a:r>
            <a:r>
              <a:rPr b="0" lang="fa-IR" sz="3200" spc="-1" strike="noStrike">
                <a:solidFill>
                  <a:srgbClr val="000000"/>
                </a:solidFill>
                <a:latin typeface="Calibri"/>
                <a:cs typeface="2  Badr"/>
              </a:rPr>
              <a:t>آن را از جنیان و شیاطین دریافت نکرده است؛ پس چرا از آن دوری می‌کنید؟ به جای دوری کردن، متذکر آن شوید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3"/>
          <p:cNvSpPr/>
          <p:nvPr/>
        </p:nvSpPr>
        <p:spPr>
          <a:xfrm>
            <a:off x="-3604680" y="1484280"/>
            <a:ext cx="16353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7200" spc="-1" strike="noStrike">
                <a:solidFill>
                  <a:srgbClr val="000000"/>
                </a:solidFill>
                <a:latin typeface="IranNastaliq"/>
                <a:cs typeface="IranNastaliq"/>
              </a:rPr>
              <a:t>از سخن وحی دوری نکنید و متذکر آن شوید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fill="hold">
                      <p:stCondLst>
                        <p:cond delay="0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4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تصویر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2"/>
          <p:cNvSpPr/>
          <p:nvPr/>
        </p:nvSpPr>
        <p:spPr>
          <a:xfrm>
            <a:off x="1049760" y="2921040"/>
            <a:ext cx="7044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6000" spc="-1" strike="noStrike">
                <a:solidFill>
                  <a:srgbClr val="0d0d0d"/>
                </a:solidFill>
                <a:latin typeface="Calibri"/>
                <a:cs typeface="DecoType Naskh Extensions"/>
              </a:rPr>
              <a:t>فضای سخن سوره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0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2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تصویر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Rectangle 3"/>
          <p:cNvSpPr/>
          <p:nvPr/>
        </p:nvSpPr>
        <p:spPr>
          <a:xfrm>
            <a:off x="1214280" y="3786120"/>
            <a:ext cx="6715440" cy="20131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Calibri"/>
                <a:cs typeface="2  Lotus"/>
              </a:rPr>
              <a:t>وارد ساختن اتهام القاء قرآن توسط جنیان و شیاطین در مقابله با هشدار و انذار قرآن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4"/>
          <p:cNvSpPr/>
          <p:nvPr/>
        </p:nvSpPr>
        <p:spPr>
          <a:xfrm>
            <a:off x="1214280" y="1357200"/>
            <a:ext cx="6715440" cy="24699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600" spc="-1" strike="noStrike">
                <a:solidFill>
                  <a:srgbClr val="000000"/>
                </a:solidFill>
                <a:latin typeface="Calibri"/>
                <a:cs typeface="2  Lotus"/>
              </a:rPr>
              <a:t>غفلت انسان نسبت به آگاهی از اعمال در روز قیامت.</a:t>
            </a:r>
            <a:r>
              <a:rPr b="1" lang="fa-IR" sz="2600" spc="-1" strike="noStrike">
                <a:solidFill>
                  <a:srgbClr val="ff0000"/>
                </a:solidFill>
                <a:latin typeface="Calibri"/>
                <a:ea typeface="2  Lotus"/>
              </a:rPr>
              <a:t> هشدار و انذار قرآن نسبت به برچیده شدن نظام عالم و برپایی نظام حساب و کتاب بر اساس اعمال.</a:t>
            </a:r>
            <a:r>
              <a:rPr b="0" lang="fa-IR" sz="2600" spc="-1" strike="noStrike">
                <a:solidFill>
                  <a:srgbClr val="000000"/>
                </a:solidFill>
                <a:latin typeface="Calibri"/>
                <a:ea typeface="2  Lotus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0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19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24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تصویر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8" name="Rectangle 2"/>
          <p:cNvSpPr/>
          <p:nvPr/>
        </p:nvSpPr>
        <p:spPr>
          <a:xfrm>
            <a:off x="2097000" y="2921040"/>
            <a:ext cx="4950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6000" spc="-1" strike="noStrike">
                <a:solidFill>
                  <a:srgbClr val="0d0d0d"/>
                </a:solidFill>
                <a:latin typeface="Calibri"/>
                <a:cs typeface="DecoType Naskh Extensions"/>
              </a:rPr>
              <a:t>جهت هدایتی سوره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0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3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تصویر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</p:pic>
      <p:sp>
        <p:nvSpPr>
          <p:cNvPr id="140" name="_s1188"/>
          <p:cNvSpPr/>
          <p:nvPr/>
        </p:nvSpPr>
        <p:spPr>
          <a:xfrm>
            <a:off x="4680000" y="3243240"/>
            <a:ext cx="3352680" cy="25621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 rtl="1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Calibri"/>
                <a:cs typeface="2  Badr"/>
              </a:rPr>
              <a:t>آیه </a:t>
            </a:r>
            <a:r>
              <a:rPr b="1" lang="fa-IR" sz="1800" spc="-1" strike="noStrike">
                <a:solidFill>
                  <a:srgbClr val="000000"/>
                </a:solidFill>
                <a:latin typeface="Calibri"/>
                <a:ea typeface="2  Badr"/>
              </a:rPr>
              <a:t>1</a:t>
            </a:r>
            <a:r>
              <a:rPr b="1" lang="fa-IR" sz="1800" spc="-1" strike="noStrike">
                <a:solidFill>
                  <a:srgbClr val="000000"/>
                </a:solidFill>
                <a:latin typeface="Calibri"/>
                <a:ea typeface="2  Badr"/>
              </a:rPr>
              <a:t> - </a:t>
            </a:r>
            <a:r>
              <a:rPr b="1" lang="fa-IR" sz="1800" spc="-1" strike="noStrike">
                <a:solidFill>
                  <a:srgbClr val="000000"/>
                </a:solidFill>
                <a:latin typeface="Calibri"/>
                <a:ea typeface="2  Badr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Calibri"/>
                <a:cs typeface="2  Badr"/>
              </a:rPr>
              <a:t>هشدار و انذار؛ آگاهی انسان از دستاورد خود در روز قیام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5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600" spc="-1" strike="noStrike">
                <a:solidFill>
                  <a:srgbClr val="000000"/>
                </a:solidFill>
                <a:latin typeface="Calibri"/>
                <a:cs typeface="2  Badr"/>
              </a:rPr>
              <a:t>نظام عادی عالم برچیده می شود و نظام تعیین سرنوشت براساس دستاوردهای خود جای آن را می گیرد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_s1194"/>
          <p:cNvSpPr/>
          <p:nvPr/>
        </p:nvSpPr>
        <p:spPr>
          <a:xfrm>
            <a:off x="1116000" y="3243240"/>
            <a:ext cx="3351240" cy="25621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 rtl="1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Calibri"/>
                <a:cs typeface="2  Badr"/>
              </a:rPr>
              <a:t>آیه </a:t>
            </a:r>
            <a:r>
              <a:rPr b="1" lang="fa-IR" sz="1800" spc="-1" strike="noStrike">
                <a:solidFill>
                  <a:srgbClr val="000000"/>
                </a:solidFill>
                <a:latin typeface="Calibri"/>
                <a:ea typeface="2  Badr"/>
              </a:rPr>
              <a:t>15</a:t>
            </a:r>
            <a:r>
              <a:rPr b="1" lang="fa-IR" sz="1800" spc="-1" strike="noStrike">
                <a:solidFill>
                  <a:srgbClr val="000000"/>
                </a:solidFill>
                <a:latin typeface="Calibri"/>
                <a:ea typeface="2  Badr"/>
              </a:rPr>
              <a:t> - </a:t>
            </a:r>
            <a:r>
              <a:rPr b="1" lang="fa-IR" sz="1800" spc="-1" strike="noStrike">
                <a:solidFill>
                  <a:srgbClr val="000000"/>
                </a:solidFill>
                <a:latin typeface="Calibri"/>
                <a:ea typeface="2  Badr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Calibri"/>
                <a:cs typeface="2  Badr"/>
              </a:rPr>
              <a:t>از سخن وحی دوری نکنید و متذکر آن شوی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5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600" spc="-1" strike="noStrike">
                <a:solidFill>
                  <a:srgbClr val="000000"/>
                </a:solidFill>
                <a:latin typeface="Calibri"/>
                <a:cs typeface="2  Badr"/>
              </a:rPr>
              <a:t>آگاهی انسان از دستاورد خود در روز قیامت، سخن فرشته امین وحی است و رسول خدا</a:t>
            </a:r>
            <a:r>
              <a:rPr b="0" lang="fa-IR" sz="1600" spc="-1" strike="noStrike">
                <a:solidFill>
                  <a:srgbClr val="000000"/>
                </a:solidFill>
                <a:latin typeface="Alaem"/>
                <a:ea typeface="Alaem"/>
              </a:rPr>
              <a:t></a:t>
            </a:r>
            <a:r>
              <a:rPr b="0" lang="fa-IR" sz="1600" spc="-1" strike="noStrike">
                <a:solidFill>
                  <a:srgbClr val="000000"/>
                </a:solidFill>
                <a:latin typeface="Alaem"/>
                <a:cs typeface="Alaem"/>
              </a:rPr>
              <a:t>ص</a:t>
            </a:r>
            <a:r>
              <a:rPr b="0" lang="fa-IR" sz="1600" spc="-1" strike="noStrike">
                <a:solidFill>
                  <a:srgbClr val="000000"/>
                </a:solidFill>
                <a:latin typeface="Alaem"/>
                <a:ea typeface="Alaem"/>
              </a:rPr>
              <a:t></a:t>
            </a:r>
            <a:r>
              <a:rPr b="0" lang="fa-IR" sz="1600" spc="-1" strike="noStrike">
                <a:solidFill>
                  <a:srgbClr val="000000"/>
                </a:solidFill>
                <a:latin typeface="Calibri"/>
                <a:cs typeface="2  Badr"/>
              </a:rPr>
              <a:t>آن را از جنیان و شیاطین دریافت نکرده است؛ پس چرا از آن دوری می‌کنید؟ به جای دوری کردن، متذکر آن شوید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_s1200"/>
          <p:cNvSpPr/>
          <p:nvPr/>
        </p:nvSpPr>
        <p:spPr>
          <a:xfrm>
            <a:off x="1733400" y="836640"/>
            <a:ext cx="5677200" cy="18478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 rtl="1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Calibri"/>
                <a:cs typeface="2  Badr"/>
              </a:rPr>
              <a:t>انذار وحی الهی؛ آگاهی انسان از دستاورد خود در روز قیام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5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600" spc="-1" strike="noStrike">
                <a:solidFill>
                  <a:srgbClr val="000000"/>
                </a:solidFill>
                <a:latin typeface="Angsana New"/>
                <a:cs typeface="2  Badr"/>
              </a:rPr>
              <a:t>اوضاع جهان دگرگون می شود و انسان از دستاورد خود آگاه می شود. این پیام وحی الهی است و جنیان و شیاطین، هیچ دخالتی در نزول آن ندارند. از آن دوری نکنید و تذکرش را پذیرا باشید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متصل کننده لولایی 8"/>
          <p:cNvCxnSpPr>
            <a:stCxn id="140" idx="0"/>
            <a:endCxn id="142" idx="2"/>
          </p:cNvCxnSpPr>
          <p:nvPr/>
        </p:nvCxnSpPr>
        <p:spPr>
          <a:xfrm flipV="1" rot="16200000">
            <a:off x="5184360" y="2071440"/>
            <a:ext cx="559080" cy="17852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44" name="متصل کننده لولایی 10"/>
          <p:cNvCxnSpPr>
            <a:stCxn id="141" idx="0"/>
            <a:endCxn id="142" idx="2"/>
          </p:cNvCxnSpPr>
          <p:nvPr/>
        </p:nvCxnSpPr>
        <p:spPr>
          <a:xfrm flipH="1" flipV="1" rot="5400000">
            <a:off x="3402000" y="2073240"/>
            <a:ext cx="559080" cy="17820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0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0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7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5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500"/>
                            </p:stCondLst>
                            <p:childTnLst>
                              <p:par>
                                <p:cTn id="456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58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تصویر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6" name="Rectangle 2"/>
          <p:cNvSpPr/>
          <p:nvPr/>
        </p:nvSpPr>
        <p:spPr>
          <a:xfrm>
            <a:off x="1891800" y="2874960"/>
            <a:ext cx="53607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6600" spc="-1" strike="noStrike">
                <a:solidFill>
                  <a:srgbClr val="0d0d0d"/>
                </a:solidFill>
                <a:latin typeface="Calibri"/>
                <a:cs typeface="DecoType Naskh Extensions"/>
              </a:rPr>
              <a:t>قرائت سوره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fill="hold">
                      <p:stCondLst>
                        <p:cond delay="0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3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تصویر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8" name="Rectangle 18"/>
          <p:cNvSpPr/>
          <p:nvPr/>
        </p:nvSpPr>
        <p:spPr>
          <a:xfrm>
            <a:off x="857160" y="500040"/>
            <a:ext cx="7358040" cy="60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  <a:cs typeface="QuranTaha"/>
              </a:rPr>
              <a:t>بِسْمِ اللَّهِ الرَّحْمَنِ الرَّحِي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  <a:cs typeface="QuranTaha"/>
              </a:rPr>
              <a:t>إِذَا الشَّمْسُ كُوِّرَتْ </a:t>
            </a:r>
            <a:r>
              <a:rPr b="1" lang="ar-SA" sz="20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0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١</a:t>
            </a:r>
            <a:r>
              <a:rPr b="1" lang="ar-SA" sz="20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cs typeface="QuranTaha"/>
              </a:rPr>
              <a:t>وَإِذَا النُّجُومُ انْكَدَرَتْ </a:t>
            </a:r>
            <a:r>
              <a:rPr b="1" lang="ar-SA" sz="20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0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٢</a:t>
            </a:r>
            <a:r>
              <a:rPr b="1" lang="ar-SA" sz="20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cs typeface="QuranTaha"/>
              </a:rPr>
              <a:t>وَإِذَا الْجِبَالُ سُيِّرَتْ </a:t>
            </a:r>
            <a:r>
              <a:rPr b="1" lang="ar-SA" sz="20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0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٣</a:t>
            </a:r>
            <a:r>
              <a:rPr b="1" lang="ar-SA" sz="20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cs typeface="QuranTaha"/>
              </a:rPr>
              <a:t>وَإِذَا الْعِشَارُ عُطِّلَتْ </a:t>
            </a:r>
            <a:r>
              <a:rPr b="1" lang="ar-SA" sz="20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0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٤</a:t>
            </a:r>
            <a:r>
              <a:rPr b="1" lang="ar-SA" sz="20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cs typeface="QuranTaha"/>
              </a:rPr>
              <a:t>وَإِذَا الْوُحُوشُ حُشِرَتْ </a:t>
            </a:r>
            <a:r>
              <a:rPr b="1" lang="ar-SA" sz="20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0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٥</a:t>
            </a:r>
            <a:r>
              <a:rPr b="1" lang="ar-SA" sz="20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cs typeface="QuranTaha"/>
              </a:rPr>
              <a:t>وَإِذَا الْبِحَارُ سُجِّرَتْ </a:t>
            </a:r>
            <a:r>
              <a:rPr b="1" lang="ar-SA" sz="20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0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٦</a:t>
            </a:r>
            <a:r>
              <a:rPr b="1" lang="ar-SA" sz="20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cs typeface="QuranTaha"/>
              </a:rPr>
              <a:t>وَإِذَا النُّفُوسُ زُوِّجَتْ </a:t>
            </a:r>
            <a:r>
              <a:rPr b="1" lang="ar-SA" sz="20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0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٧</a:t>
            </a:r>
            <a:r>
              <a:rPr b="1" lang="ar-SA" sz="20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cs typeface="QuranTaha"/>
              </a:rPr>
              <a:t>وَإِذَا الْمَوْءُودَةُ سُئِلَتْ </a:t>
            </a:r>
            <a:r>
              <a:rPr b="1" lang="ar-SA" sz="20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0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٨</a:t>
            </a:r>
            <a:r>
              <a:rPr b="1" lang="ar-SA" sz="20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cs typeface="QuranTaha"/>
              </a:rPr>
              <a:t>بِأَيِّ ذَنْبٍ قُتِلَتْ </a:t>
            </a:r>
            <a:r>
              <a:rPr b="1" lang="ar-SA" sz="20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0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٩</a:t>
            </a:r>
            <a:r>
              <a:rPr b="1" lang="ar-SA" sz="20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cs typeface="QuranTaha"/>
              </a:rPr>
              <a:t>وَإِذَا الصُّحُفُ نُشِرَتْ </a:t>
            </a:r>
            <a:r>
              <a:rPr b="1" lang="ar-SA" sz="20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0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١٠</a:t>
            </a:r>
            <a:r>
              <a:rPr b="1" lang="ar-SA" sz="20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cs typeface="QuranTaha"/>
              </a:rPr>
              <a:t>وَإِذَا السَّمَاءُ كُشِطَتْ </a:t>
            </a:r>
            <a:r>
              <a:rPr b="1" lang="ar-SA" sz="20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0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١١</a:t>
            </a:r>
            <a:r>
              <a:rPr b="1" lang="ar-SA" sz="20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cs typeface="QuranTaha"/>
              </a:rPr>
              <a:t>وَإِذَا الْجَحِيمُ سُعِّرَتْ </a:t>
            </a:r>
            <a:r>
              <a:rPr b="1" lang="ar-SA" sz="20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0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١٢</a:t>
            </a:r>
            <a:r>
              <a:rPr b="1" lang="ar-SA" sz="20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cs typeface="QuranTaha"/>
              </a:rPr>
              <a:t>وَإِذَا الْجَنَّةُ أُزْلِفَتْ </a:t>
            </a:r>
            <a:r>
              <a:rPr b="1" lang="ar-SA" sz="20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0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١٣</a:t>
            </a:r>
            <a:r>
              <a:rPr b="1" lang="ar-SA" sz="20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cs typeface="QuranTaha"/>
              </a:rPr>
              <a:t>عَلِمَتْ نَفْسٌ مَا أَحْضَرَتْ </a:t>
            </a:r>
            <a:r>
              <a:rPr b="1" lang="ar-SA" sz="20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0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١٤</a:t>
            </a:r>
            <a:r>
              <a:rPr b="1" lang="ar-SA" sz="20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cs typeface="QuranTaha"/>
              </a:rPr>
              <a:t>فَلا أُقْسِمُ بِالْخُنَّسِ </a:t>
            </a:r>
            <a:r>
              <a:rPr b="1" lang="ar-SA" sz="20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0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١٥</a:t>
            </a:r>
            <a:r>
              <a:rPr b="1" lang="ar-SA" sz="20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cs typeface="QuranTaha"/>
              </a:rPr>
              <a:t>الْجَوَارِ الْكُنَّسِ </a:t>
            </a:r>
            <a:r>
              <a:rPr b="1" lang="ar-SA" sz="20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0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١٦</a:t>
            </a:r>
            <a:r>
              <a:rPr b="1" lang="ar-SA" sz="20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cs typeface="QuranTaha"/>
              </a:rPr>
              <a:t>وَاللَّيْلِ إِذَا عَسْعَسَ</a:t>
            </a:r>
            <a:r>
              <a:rPr b="1" lang="ar-SA" sz="2000" spc="-1" strike="noStrike">
                <a:solidFill>
                  <a:srgbClr val="ff0000"/>
                </a:solidFill>
                <a:latin typeface="Traditional Arabic"/>
                <a:ea typeface="Traditional Arabic"/>
              </a:rPr>
              <a:t> </a:t>
            </a:r>
            <a:r>
              <a:rPr b="1" lang="ar-SA" sz="20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0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١٧</a:t>
            </a:r>
            <a:r>
              <a:rPr b="1" lang="ar-SA" sz="20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cs typeface="QuranTaha"/>
              </a:rPr>
              <a:t>وَالصُّبْحِ إِذَا تَنَفَّسَ </a:t>
            </a:r>
            <a:r>
              <a:rPr b="1" lang="ar-SA" sz="20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0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١٨</a:t>
            </a:r>
            <a:r>
              <a:rPr b="1" lang="ar-SA" sz="20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cs typeface="QuranTaha"/>
              </a:rPr>
              <a:t>إِنَّهُ لَقَوْلُ رَسُولٍ كَرِيمٍ </a:t>
            </a:r>
            <a:r>
              <a:rPr b="1" lang="ar-SA" sz="20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0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١٩</a:t>
            </a:r>
            <a:r>
              <a:rPr b="1" lang="ar-SA" sz="20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cs typeface="QuranTaha"/>
              </a:rPr>
              <a:t>ذِي قُوَّةٍ عِنْدَ ذِي الْعَرْشِ مَكِينٍ </a:t>
            </a:r>
            <a:r>
              <a:rPr b="1" lang="ar-SA" sz="20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0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٢٠</a:t>
            </a:r>
            <a:r>
              <a:rPr b="1" lang="ar-SA" sz="20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cs typeface="QuranTaha"/>
              </a:rPr>
              <a:t>مُطَاعٍ ثَمَّ أَمِينٍ </a:t>
            </a:r>
            <a:r>
              <a:rPr b="1" lang="ar-SA" sz="20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0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٢١</a:t>
            </a:r>
            <a:r>
              <a:rPr b="1" lang="ar-SA" sz="20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cs typeface="QuranTaha"/>
              </a:rPr>
              <a:t>وَمَا صَاحِبُكُمْ بِمَجْنُونٍ </a:t>
            </a:r>
            <a:r>
              <a:rPr b="1" lang="ar-SA" sz="20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0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٢٢</a:t>
            </a:r>
            <a:r>
              <a:rPr b="1" lang="ar-SA" sz="20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cs typeface="QuranTaha"/>
              </a:rPr>
              <a:t>وَلَقَدْ رَآهُ بِالأفُقِ الْمُبِينِ </a:t>
            </a:r>
            <a:r>
              <a:rPr b="1" lang="ar-SA" sz="20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0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٢٣</a:t>
            </a:r>
            <a:r>
              <a:rPr b="1" lang="ar-SA" sz="20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cs typeface="QuranTaha"/>
              </a:rPr>
              <a:t>وَمَا هُوَ عَلَى الْغَيْبِ بِضَنِينٍ </a:t>
            </a:r>
            <a:r>
              <a:rPr b="1" lang="ar-SA" sz="20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0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٢٤</a:t>
            </a:r>
            <a:r>
              <a:rPr b="1" lang="ar-SA" sz="20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cs typeface="QuranTaha"/>
              </a:rPr>
              <a:t>وَمَا هُوَ بِقَوْلِ شَيْطَانٍ رَجِيمٍ</a:t>
            </a:r>
            <a:r>
              <a:rPr b="0" lang="ar-SA" sz="2000" spc="-1" strike="noStrike">
                <a:solidFill>
                  <a:srgbClr val="007635"/>
                </a:solidFill>
                <a:latin typeface="Arial"/>
                <a:ea typeface="QuranTaha"/>
              </a:rPr>
              <a:t> </a:t>
            </a:r>
            <a:r>
              <a:rPr b="1" lang="ar-SA" sz="20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0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٢٥</a:t>
            </a:r>
            <a:r>
              <a:rPr b="1" lang="ar-SA" sz="20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cs typeface="QuranTaha"/>
              </a:rPr>
              <a:t>فَأَيْنَ تَذْهَبُونَ </a:t>
            </a:r>
            <a:r>
              <a:rPr b="1" lang="ar-SA" sz="20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0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٢٦</a:t>
            </a:r>
            <a:r>
              <a:rPr b="1" lang="ar-SA" sz="20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cs typeface="QuranTaha"/>
              </a:rPr>
              <a:t>إِنْ هُوَ إِلا ذِكْرٌ لِلْعَالَمِينَ </a:t>
            </a:r>
            <a:r>
              <a:rPr b="1" lang="ar-SA" sz="20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0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٢٧</a:t>
            </a:r>
            <a:r>
              <a:rPr b="1" lang="ar-SA" sz="20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cs typeface="QuranTaha"/>
              </a:rPr>
              <a:t>لِمَنْ شَاءَ مِنْكُمْ أَنْ يَسْتَقِيمَ </a:t>
            </a:r>
            <a:r>
              <a:rPr b="1" lang="ar-SA" sz="20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0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٢٨</a:t>
            </a:r>
            <a:r>
              <a:rPr b="1" lang="ar-SA" sz="20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cs typeface="QuranTaha"/>
              </a:rPr>
              <a:t>وَمَا تَشَاءُونَ إِلا أَنْ يَشَاءَ اللَّهُ رَبُّ الْعَالَمِينَ </a:t>
            </a:r>
            <a:r>
              <a:rPr b="1" lang="ar-SA" sz="20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0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٢٩</a:t>
            </a:r>
            <a:r>
              <a:rPr b="1" lang="ar-SA" sz="20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258.MP3" descr=""/>
          <p:cNvPicPr/>
          <p:nvPr/>
        </p:nvPicPr>
        <p:blipFill>
          <a:blip r:embed="rId2"/>
          <a:stretch/>
        </p:blipFill>
        <p:spPr>
          <a:xfrm>
            <a:off x="10715760" y="57168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fill="hold">
                      <p:stCondLst>
                        <p:cond delay="0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2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1000"/>
                            </p:stCondLst>
                            <p:childTnLst>
                              <p:par>
                                <p:cTn id="48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5" dur="158439" fill="hold"/>
                                        <p:tgtEl>
                                          <p:spTgt spid="1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تصویر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7" name="نگهدارنده مکان محتوا 6" descr=""/>
          <p:cNvPicPr/>
          <p:nvPr/>
        </p:nvPicPr>
        <p:blipFill>
          <a:blip r:embed="rId2"/>
          <a:stretch/>
        </p:blipFill>
        <p:spPr>
          <a:xfrm>
            <a:off x="487440" y="463680"/>
            <a:ext cx="8138880" cy="57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تصویر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1" name="Rectangle 2"/>
          <p:cNvSpPr/>
          <p:nvPr/>
        </p:nvSpPr>
        <p:spPr>
          <a:xfrm>
            <a:off x="3683160" y="2766960"/>
            <a:ext cx="1778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8000" spc="-1" strike="noStrike">
                <a:solidFill>
                  <a:srgbClr val="0d0d0d"/>
                </a:solidFill>
                <a:latin typeface="Calibri"/>
                <a:cs typeface="DecoType Naskh Extensions"/>
              </a:rPr>
              <a:t>دعا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fill="hold">
                      <p:stCondLst>
                        <p:cond delay="0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4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تصویر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3" name="Rectangle 2"/>
          <p:cNvSpPr/>
          <p:nvPr/>
        </p:nvSpPr>
        <p:spPr>
          <a:xfrm>
            <a:off x="2869920" y="500040"/>
            <a:ext cx="3362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8000" spc="-1" strike="noStrike">
                <a:solidFill>
                  <a:srgbClr val="000000"/>
                </a:solidFill>
                <a:latin typeface="IranNastaliq"/>
                <a:cs typeface="IranNastaliq"/>
              </a:rPr>
              <a:t>بارالها !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4"/>
          <p:cNvSpPr/>
          <p:nvPr/>
        </p:nvSpPr>
        <p:spPr>
          <a:xfrm>
            <a:off x="714240" y="1785960"/>
            <a:ext cx="77155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Calibri"/>
                <a:cs typeface="2  Lotus"/>
              </a:rPr>
              <a:t>در آن هنگامه سخت، كه مظاهر عظيم خلقت تو به نابودي مي گرايند، بهشت و جهنم مهيا مي شوند و نامه اعمال بندگان گشوده مي شود، ما را از ياري خود بي نصيب نكن و به حال خودمان وا مگذار و در بهشت برينت ساكن كن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5"/>
          <p:cNvSpPr/>
          <p:nvPr/>
        </p:nvSpPr>
        <p:spPr>
          <a:xfrm>
            <a:off x="1000080" y="4782960"/>
            <a:ext cx="7143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2  Lotus"/>
              </a:rPr>
              <a:t> ايمان به قرآن را در دلهاي ما زنده بدار، تا از ياد قيامتي كه از آن خبر داده است غافل نماني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6"/>
          <p:cNvSpPr/>
          <p:nvPr/>
        </p:nvSpPr>
        <p:spPr>
          <a:xfrm>
            <a:off x="3070080" y="3429000"/>
            <a:ext cx="2946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8000" spc="-1" strike="noStrike">
                <a:solidFill>
                  <a:srgbClr val="000000"/>
                </a:solidFill>
                <a:latin typeface="IranNastaliq"/>
                <a:cs typeface="IranNastaliq"/>
              </a:rPr>
              <a:t>خدايا !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1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fill="hold">
                            <p:stCondLst>
                              <p:cond delay="1000"/>
                            </p:stCondLst>
                            <p:childTnLst>
                              <p:par>
                                <p:cTn id="50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07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1000"/>
                            </p:stCondLst>
                            <p:childTnLst>
                              <p:par>
                                <p:cTn id="51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18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تصویر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8" name="Rectangle 2"/>
          <p:cNvSpPr/>
          <p:nvPr/>
        </p:nvSpPr>
        <p:spPr>
          <a:xfrm>
            <a:off x="1146600" y="2644920"/>
            <a:ext cx="6851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9600" spc="-1" strike="noStrike">
                <a:solidFill>
                  <a:srgbClr val="0d0d0d"/>
                </a:solidFill>
                <a:latin typeface="Calibri"/>
                <a:cs typeface="DecoType Naskh Extensions"/>
              </a:rPr>
              <a:t>التماس دعا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fill="hold">
                      <p:stCondLst>
                        <p:cond delay="0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5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7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تصویر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2"/>
          <p:cNvSpPr/>
          <p:nvPr/>
        </p:nvSpPr>
        <p:spPr>
          <a:xfrm>
            <a:off x="1980720" y="2921040"/>
            <a:ext cx="5182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6000" spc="-1" strike="noStrike">
                <a:solidFill>
                  <a:srgbClr val="0d0d0d"/>
                </a:solidFill>
                <a:latin typeface="Calibri"/>
                <a:cs typeface="DecoType Naskh Extensions"/>
              </a:rPr>
              <a:t>ساختار سوره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تصویر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Round Same Side Corner Rectangle 2"/>
          <p:cNvSpPr/>
          <p:nvPr/>
        </p:nvSpPr>
        <p:spPr>
          <a:xfrm>
            <a:off x="900000" y="3732120"/>
            <a:ext cx="3167280" cy="1459080"/>
          </a:xfrm>
          <a:prstGeom prst="pie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Calibri"/>
                <a:cs typeface="2  Badr"/>
              </a:rPr>
              <a:t>سیاق دو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Calibri"/>
                <a:ea typeface="2  Badr"/>
              </a:rPr>
              <a:t> آیات </a:t>
            </a:r>
            <a:r>
              <a:rPr b="1" lang="fa-IR" sz="2800" spc="-1" strike="noStrike">
                <a:solidFill>
                  <a:srgbClr val="000000"/>
                </a:solidFill>
                <a:latin typeface="Calibri"/>
                <a:ea typeface="2  Badr"/>
              </a:rPr>
              <a:t>15</a:t>
            </a:r>
            <a:r>
              <a:rPr b="1" lang="fa-IR" sz="2800" spc="-1" strike="noStrike">
                <a:solidFill>
                  <a:srgbClr val="000000"/>
                </a:solidFill>
                <a:latin typeface="Calibri"/>
                <a:ea typeface="2  Badr"/>
              </a:rPr>
              <a:t> تا </a:t>
            </a:r>
            <a:r>
              <a:rPr b="1" lang="fa-IR" sz="2800" spc="-1" strike="noStrike">
                <a:solidFill>
                  <a:srgbClr val="000000"/>
                </a:solidFill>
                <a:latin typeface="Calibri"/>
                <a:ea typeface="2  Badr"/>
              </a:rPr>
              <a:t>29</a:t>
            </a:r>
            <a:r>
              <a:rPr b="1" lang="fa-IR" sz="2800" spc="-1" strike="noStrike">
                <a:solidFill>
                  <a:srgbClr val="000000"/>
                </a:solidFill>
                <a:latin typeface="Calibri"/>
                <a:ea typeface="2  Badr"/>
              </a:rPr>
              <a:t>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ounded Rectangle 3"/>
          <p:cNvSpPr/>
          <p:nvPr/>
        </p:nvSpPr>
        <p:spPr>
          <a:xfrm>
            <a:off x="3286080" y="1571760"/>
            <a:ext cx="2571840" cy="1189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000000"/>
                </a:solidFill>
                <a:latin typeface="Calibri"/>
                <a:cs typeface="2  Badr"/>
              </a:rPr>
              <a:t>سوره مبارک تکوی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ound Same Side Corner Rectangle 4"/>
          <p:cNvSpPr/>
          <p:nvPr/>
        </p:nvSpPr>
        <p:spPr>
          <a:xfrm>
            <a:off x="5094360" y="3686040"/>
            <a:ext cx="3168720" cy="1457640"/>
          </a:xfrm>
          <a:prstGeom prst="pie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Calibri"/>
                <a:cs typeface="2  Badr"/>
              </a:rPr>
              <a:t>سیاق او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Calibri"/>
                <a:ea typeface="2  Badr"/>
              </a:rPr>
              <a:t> آیات </a:t>
            </a:r>
            <a:r>
              <a:rPr b="1" lang="fa-IR" sz="2800" spc="-1" strike="noStrike">
                <a:solidFill>
                  <a:srgbClr val="000000"/>
                </a:solidFill>
                <a:latin typeface="Calibri"/>
                <a:ea typeface="2  Badr"/>
              </a:rPr>
              <a:t>1</a:t>
            </a:r>
            <a:r>
              <a:rPr b="1" lang="fa-IR" sz="2800" spc="-1" strike="noStrike">
                <a:solidFill>
                  <a:srgbClr val="000000"/>
                </a:solidFill>
                <a:latin typeface="Calibri"/>
                <a:ea typeface="2  Badr"/>
              </a:rPr>
              <a:t> تا </a:t>
            </a:r>
            <a:r>
              <a:rPr b="1" lang="fa-IR" sz="2800" spc="-1" strike="noStrike">
                <a:solidFill>
                  <a:srgbClr val="000000"/>
                </a:solidFill>
                <a:latin typeface="Calibri"/>
                <a:ea typeface="2  Badr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متصل کننده پیکان مستقیم 5"/>
          <p:cNvCxnSpPr>
            <a:stCxn id="52" idx="2"/>
            <a:endCxn id="51" idx="4"/>
          </p:cNvCxnSpPr>
          <p:nvPr/>
        </p:nvCxnSpPr>
        <p:spPr>
          <a:xfrm flipH="1">
            <a:off x="2483640" y="2760840"/>
            <a:ext cx="2088360" cy="972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5" name="متصل کننده پیکان مستقیم 6"/>
          <p:cNvCxnSpPr>
            <a:stCxn id="52" idx="2"/>
            <a:endCxn id="53" idx="4"/>
          </p:cNvCxnSpPr>
          <p:nvPr/>
        </p:nvCxnSpPr>
        <p:spPr>
          <a:xfrm>
            <a:off x="4572000" y="2760840"/>
            <a:ext cx="2107440" cy="925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500"/>
                            </p:stCondLst>
                            <p:childTnLst>
                              <p:par>
                                <p:cTn id="5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تصویر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2"/>
          <p:cNvSpPr/>
          <p:nvPr/>
        </p:nvSpPr>
        <p:spPr>
          <a:xfrm>
            <a:off x="2451600" y="1925640"/>
            <a:ext cx="4240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6600" spc="-1" strike="noStrike">
                <a:solidFill>
                  <a:srgbClr val="0d0d0d"/>
                </a:solidFill>
                <a:latin typeface="Calibri"/>
                <a:cs typeface="DecoType Naskh Extensions"/>
              </a:rPr>
              <a:t>سیاق اول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3"/>
          <p:cNvSpPr/>
          <p:nvPr/>
        </p:nvSpPr>
        <p:spPr>
          <a:xfrm>
            <a:off x="2571840" y="3952800"/>
            <a:ext cx="4000320" cy="21049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6600" spc="-1" strike="noStrike">
                <a:solidFill>
                  <a:srgbClr val="000000"/>
                </a:solidFill>
                <a:latin typeface="Traditional Arabic"/>
                <a:cs typeface="Traditional Arabic"/>
              </a:rPr>
              <a:t>آیات </a:t>
            </a:r>
            <a:r>
              <a:rPr b="1" lang="fa-IR" sz="6600" spc="-1" strike="noStrike">
                <a:solidFill>
                  <a:srgbClr val="000000"/>
                </a:solidFill>
                <a:latin typeface="Traditional Arabic"/>
                <a:ea typeface="Traditional Arabic"/>
              </a:rPr>
              <a:t>1</a:t>
            </a:r>
            <a:r>
              <a:rPr b="1" lang="fa-IR" sz="6600" spc="-1" strike="noStrike">
                <a:solidFill>
                  <a:srgbClr val="000000"/>
                </a:solidFill>
                <a:latin typeface="Traditional Arabic"/>
                <a:ea typeface="Traditional Arabic"/>
              </a:rPr>
              <a:t> تا </a:t>
            </a:r>
            <a:r>
              <a:rPr b="1" lang="fa-IR" sz="6600" spc="-1" strike="noStrike">
                <a:solidFill>
                  <a:srgbClr val="000000"/>
                </a:solidFill>
                <a:latin typeface="Traditional Arabic"/>
                <a:ea typeface="Traditional Arabic"/>
              </a:rPr>
              <a:t>1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2000"/>
                            </p:stCondLst>
                            <p:childTnLst>
                              <p:par>
                                <p:cTn id="70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تصویر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2"/>
          <p:cNvSpPr/>
          <p:nvPr/>
        </p:nvSpPr>
        <p:spPr>
          <a:xfrm>
            <a:off x="1026000" y="2874960"/>
            <a:ext cx="7092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6600" spc="-1" strike="noStrike">
                <a:solidFill>
                  <a:srgbClr val="0d0d0d"/>
                </a:solidFill>
                <a:latin typeface="Calibri"/>
                <a:cs typeface="DecoType Naskh Extensions"/>
              </a:rPr>
              <a:t>قرائت سیاق اول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تصویر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2"/>
          <p:cNvSpPr/>
          <p:nvPr/>
        </p:nvSpPr>
        <p:spPr>
          <a:xfrm>
            <a:off x="928800" y="666720"/>
            <a:ext cx="7215120" cy="585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  <a:cs typeface="QuranTaha"/>
              </a:rPr>
              <a:t>بِسْمِ اللَّهِ الرَّحْمَنِ الرَّحِي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  <a:cs typeface="QuranTaha"/>
              </a:rPr>
              <a:t>إِذَا الشَّمْسُ كُوِّرَتْ </a:t>
            </a:r>
            <a:r>
              <a:rPr b="1" lang="ar-SA" sz="28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8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١</a:t>
            </a:r>
            <a:r>
              <a:rPr b="1" lang="ar-SA" sz="28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cs typeface="QuranTaha"/>
              </a:rPr>
              <a:t>وَإِذَا النُّجُومُ انْكَدَرَتْ </a:t>
            </a:r>
            <a:r>
              <a:rPr b="1" lang="ar-SA" sz="28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8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٢</a:t>
            </a:r>
            <a:r>
              <a:rPr b="1" lang="ar-SA" sz="28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﴾</a:t>
            </a:r>
            <a:r>
              <a:rPr b="1" lang="ar-SA" sz="2800" spc="-1" strike="noStrike">
                <a:solidFill>
                  <a:srgbClr val="ff0000"/>
                </a:solidFill>
                <a:latin typeface="Traditional Arabic"/>
                <a:ea typeface="Traditional Arabic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cs typeface="QuranTaha"/>
              </a:rPr>
              <a:t>وَإِذَا الْجِبَالُ سُيِّرَتْ </a:t>
            </a:r>
            <a:r>
              <a:rPr b="1" lang="ar-SA" sz="28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8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٣</a:t>
            </a:r>
            <a:r>
              <a:rPr b="1" lang="ar-SA" sz="28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cs typeface="QuranTaha"/>
              </a:rPr>
              <a:t>وَإِذَا الْعِشَارُ عُطِّلَتْ </a:t>
            </a:r>
            <a:r>
              <a:rPr b="1" lang="ar-SA" sz="28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8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٤</a:t>
            </a:r>
            <a:r>
              <a:rPr b="1" lang="ar-SA" sz="28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﴾</a:t>
            </a:r>
            <a:r>
              <a:rPr b="1" lang="ar-SA" sz="2800" spc="-1" strike="noStrike">
                <a:solidFill>
                  <a:srgbClr val="ff0000"/>
                </a:solidFill>
                <a:latin typeface="Traditional Arabic"/>
                <a:ea typeface="Traditional Arabic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cs typeface="QuranTaha"/>
              </a:rPr>
              <a:t>وَإِذَا الْوُحُوشُ حُشِرَتْ </a:t>
            </a:r>
            <a:r>
              <a:rPr b="1" lang="ar-SA" sz="28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8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٥</a:t>
            </a:r>
            <a:r>
              <a:rPr b="1" lang="ar-SA" sz="28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cs typeface="QuranTaha"/>
              </a:rPr>
              <a:t>وَإِذَا الْبِحَارُ سُجِّرَتْ </a:t>
            </a:r>
            <a:r>
              <a:rPr b="1" lang="ar-SA" sz="28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8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٦</a:t>
            </a:r>
            <a:r>
              <a:rPr b="1" lang="ar-SA" sz="28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﴾</a:t>
            </a:r>
            <a:r>
              <a:rPr b="1" lang="ar-SA" sz="2800" spc="-1" strike="noStrike">
                <a:solidFill>
                  <a:srgbClr val="ff0000"/>
                </a:solidFill>
                <a:latin typeface="Traditional Arabic"/>
                <a:ea typeface="Traditional Arabic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cs typeface="QuranTaha"/>
              </a:rPr>
              <a:t>وَإِذَا النُّفُوسُ زُوِّجَتْ </a:t>
            </a:r>
            <a:r>
              <a:rPr b="1" lang="ar-SA" sz="28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8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٧</a:t>
            </a:r>
            <a:r>
              <a:rPr b="1" lang="ar-SA" sz="28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cs typeface="QuranTaha"/>
              </a:rPr>
              <a:t>وَإِذَا الْمَوْءُودَةُ سُئِلَتْ </a:t>
            </a:r>
            <a:r>
              <a:rPr b="1" lang="ar-SA" sz="28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8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٨</a:t>
            </a:r>
            <a:r>
              <a:rPr b="1" lang="ar-SA" sz="28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cs typeface="QuranTaha"/>
              </a:rPr>
              <a:t>بِأَيِّ ذَنْبٍ قُتِلَتْ </a:t>
            </a:r>
            <a:r>
              <a:rPr b="1" lang="ar-SA" sz="28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8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٩</a:t>
            </a:r>
            <a:r>
              <a:rPr b="1" lang="ar-SA" sz="28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cs typeface="QuranTaha"/>
              </a:rPr>
              <a:t>وَإِذَا الصُّحُفُ نُشِرَتْ </a:t>
            </a:r>
            <a:r>
              <a:rPr b="1" lang="ar-SA" sz="28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8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١٠</a:t>
            </a:r>
            <a:r>
              <a:rPr b="1" lang="ar-SA" sz="28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cs typeface="QuranTaha"/>
              </a:rPr>
              <a:t>وَإِذَا السَّمَاءُ كُشِطَتْ </a:t>
            </a:r>
            <a:r>
              <a:rPr b="1" lang="ar-SA" sz="28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8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١١</a:t>
            </a:r>
            <a:r>
              <a:rPr b="1" lang="ar-SA" sz="28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cs typeface="QuranTaha"/>
              </a:rPr>
              <a:t>وَإِذَا الْجَحِيمُ سُعِّرَتْ </a:t>
            </a:r>
            <a:r>
              <a:rPr b="1" lang="ar-SA" sz="28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8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١٢</a:t>
            </a:r>
            <a:r>
              <a:rPr b="1" lang="ar-SA" sz="28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cs typeface="QuranTaha"/>
              </a:rPr>
              <a:t>وَإِذَا الْجَنَّةُ أُزْلِفَتْ </a:t>
            </a:r>
            <a:r>
              <a:rPr b="1" lang="ar-SA" sz="28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8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١٣</a:t>
            </a:r>
            <a:r>
              <a:rPr b="1" lang="ar-SA" sz="28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cs typeface="QuranTaha"/>
              </a:rPr>
              <a:t>عَلِمَتْ نَفْسٌ مَا أَحْضَرَتْ </a:t>
            </a:r>
            <a:r>
              <a:rPr b="1" lang="ar-SA" sz="28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8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١٤</a:t>
            </a:r>
            <a:r>
              <a:rPr b="1" lang="ar-SA" sz="28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1-14.wav" descr=""/>
          <p:cNvPicPr/>
          <p:nvPr/>
        </p:nvPicPr>
        <p:blipFill>
          <a:blip r:embed="rId2"/>
          <a:stretch/>
        </p:blipFill>
        <p:spPr>
          <a:xfrm>
            <a:off x="1100124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1000"/>
                            </p:stCondLst>
                            <p:childTnLst>
                              <p:par>
                                <p:cTn id="9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5" dur="60557" fill="hold"/>
                                        <p:tgtEl>
                                          <p:spTgt spid="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تصویر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2"/>
          <p:cNvSpPr/>
          <p:nvPr/>
        </p:nvSpPr>
        <p:spPr>
          <a:xfrm>
            <a:off x="262440" y="2921040"/>
            <a:ext cx="8619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6000" spc="-1" strike="noStrike">
                <a:solidFill>
                  <a:srgbClr val="0d0d0d"/>
                </a:solidFill>
                <a:latin typeface="Calibri"/>
                <a:cs typeface="DecoType Naskh Extensions"/>
              </a:rPr>
              <a:t>فضای سخن سیاق اول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17T11:41:04Z</dcterms:created>
  <dc:creator>YAALI</dc:creator>
  <dc:description/>
  <dc:language>en-US</dc:language>
  <cp:lastModifiedBy>ALI</cp:lastModifiedBy>
  <dcterms:modified xsi:type="dcterms:W3CDTF">2011-11-16T21:20:18Z</dcterms:modified>
  <cp:revision>44</cp:revision>
  <dc:subject/>
  <dc:title>ارائه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MarkAsFinal">
    <vt:bool>1</vt:bool>
  </property>
</Properties>
</file>