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F58B-D462-41E1-916E-2EBFC51B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3EB-8846-4E43-A5EE-EC9C4071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833-9144-4F7A-BB86-8F18DDFC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9B5-5BD2-4123-8E63-1D6A2152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1BC-E617-4D35-8538-9DB00287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0C2-35E4-45B2-BBCB-4F6445D0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6CB-8766-4B41-B681-06BDB0D0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CD2-B47A-40EA-95D7-25B1442C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C62-93B0-41FA-B40C-D22DD334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85E-CFA9-46C1-B451-D1CB3542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ABD-7E67-4EF8-BE88-B7FF16BA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B9B-3C82-4BB7-B250-14C2D0CF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2CD7-B9BC-47EE-A98D-91824DB3E247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ffff"/>
                </a:solidFill>
                <a:latin typeface="Calibri"/>
                <a:cs typeface="Mj_Zobeir"/>
              </a:rPr>
              <a:t>بسم الله  الرحمن الرحی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5" descr=""/>
          <p:cNvPicPr/>
          <p:nvPr/>
        </p:nvPicPr>
        <p:blipFill>
          <a:blip r:embed="rId2"/>
          <a:stretch/>
        </p:blipFill>
        <p:spPr>
          <a:xfrm>
            <a:off x="-433440" y="5151600"/>
            <a:ext cx="10071000" cy="1755720"/>
          </a:xfrm>
          <a:prstGeom prst="rect">
            <a:avLst/>
          </a:prstGeom>
          <a:ln w="0">
            <a:noFill/>
          </a:ln>
        </p:spPr>
      </p:pic>
      <p:pic>
        <p:nvPicPr>
          <p:cNvPr id="44" name="besm.wav" descr=""/>
          <p:cNvPicPr/>
          <p:nvPr/>
        </p:nvPicPr>
        <p:blipFill>
          <a:blip r:embed="rId3"/>
          <a:stretch/>
        </p:blipFill>
        <p:spPr>
          <a:xfrm>
            <a:off x="1071576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iterate type="wd">
                                    <p:tmAbs val="533.339996337891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90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403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6"/>
          <p:cNvSpPr/>
          <p:nvPr/>
        </p:nvSpPr>
        <p:spPr>
          <a:xfrm>
            <a:off x="714240" y="571680"/>
            <a:ext cx="77155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هَلْ أَتَاكَ حَدِيثُ الْغَاشِيَةِ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ُجُوهٌ يَوْمَئِذٍ خَاشِعَةٌ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عَامِلَةٌ نَاصِبَةٌ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تَصْلَى نَارًا حَامِيَةً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٤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تُسْقَى مِنْ عَيْنٍ آنِيَةٍ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٥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لَيْسَ لَهُمْ طَعَامٌ إِلا مِنْ ضَرِيعٍ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لا يُسْمِنُ وَلا يُغْنِي مِنْ جُوعٍ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ُجُوهٌ يَوْمَئِذٍ نَاعِمَةٌ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لِسَعْيِهَا رَاضِيَةٌ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فِي جَنَّةٍ عَالِيَةٍ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لا تَسْمَعُ فِيهَا لاغِيَةً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5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فِيهَا عَيْنٌ جَارِيَةٌ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فِيهَا سُرُرٌ مَرْفُوعَةٌ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أَكْوَابٌ مَوْضُوعَةٌ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نَمَارِقُ مَصْفُوفَةٌ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QuranTaha"/>
              </a:rPr>
              <a:t>وَزَرَابِيُّ مَبْثُوثَةٌ 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1-16.wav" descr=""/>
          <p:cNvPicPr/>
          <p:nvPr/>
        </p:nvPicPr>
        <p:blipFill>
          <a:blip r:embed="rId2"/>
          <a:stretch/>
        </p:blipFill>
        <p:spPr>
          <a:xfrm>
            <a:off x="1085868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7940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7443720" y="2857680"/>
            <a:ext cx="9144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هَلْ أَتَاكَ حَدِيثُ الْغَاشِيَة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508640" y="1357200"/>
            <a:ext cx="9144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عَامِلَةٌ نَّاصِبَة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785880" y="928800"/>
            <a:ext cx="3359160" cy="1993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تَصْلىَ‏  نَارًا حَامِيَة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2  Badr"/>
              </a:rPr>
              <a:t> تُسْقَى‏ مِنْ عَينْ‏ٍ ءَانِيَة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2  Badr"/>
              </a:rPr>
              <a:t> لَّيْسَ لهَُمْ طَعَامٌ إِلَّا مِن ضَرِيع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2  Badr"/>
              </a:rPr>
              <a:t> لَّا يُسْمِنُ وَ لَا يُغْنىِ مِن جُوع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800680" y="1373040"/>
            <a:ext cx="9144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وُجُوه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يَوْمَئذٍ خاشعهٌ</a:t>
            </a: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85880" y="3929040"/>
            <a:ext cx="3359160" cy="2143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فىِ جَنَّةٍ عَالِيَةٍ * لَّا تَسْمَعُ فِيهَا لَاغِيَةً * </a:t>
            </a: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2  Badr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فِيهَا عَينْ‏ٌ جَارِيَةٌ * فِيهَا سُرُرٌ مَّرْفُوعَةٌ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وَ أَكْوَابٌ مَّوْضُوعَةٌ * وَ نمََارِقُ مَصْفُوفَةٌ * </a:t>
            </a: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2  Badr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وَ زَرَابىِ‏ُّ مَبْثُوثَة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800680" y="4429080"/>
            <a:ext cx="9144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وُجُوه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يَوْمَئذٍ نَّاعِمَة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514760" y="4429080"/>
            <a:ext cx="9144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لِّسَعْيهَِا رَاضِيَة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متصل کننده پیکان مستقیم 10"/>
          <p:cNvCxnSpPr>
            <a:stCxn id="73" idx="1"/>
            <a:endCxn id="76" idx="3"/>
          </p:cNvCxnSpPr>
          <p:nvPr/>
        </p:nvCxnSpPr>
        <p:spPr>
          <a:xfrm flipH="1" flipV="1">
            <a:off x="6714720" y="1944000"/>
            <a:ext cx="729360" cy="148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متصل کننده پیکان مستقیم 12"/>
          <p:cNvCxnSpPr>
            <a:stCxn id="73" idx="1"/>
            <a:endCxn id="78" idx="3"/>
          </p:cNvCxnSpPr>
          <p:nvPr/>
        </p:nvCxnSpPr>
        <p:spPr>
          <a:xfrm flipH="1">
            <a:off x="6714720" y="3429000"/>
            <a:ext cx="729360" cy="157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متصل کننده پیکان مستقیم 23"/>
          <p:cNvCxnSpPr>
            <a:stCxn id="76" idx="1"/>
            <a:endCxn id="74" idx="3"/>
          </p:cNvCxnSpPr>
          <p:nvPr/>
        </p:nvCxnSpPr>
        <p:spPr>
          <a:xfrm flipH="1" flipV="1">
            <a:off x="5422320" y="1928520"/>
            <a:ext cx="37836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متصل کننده پیکان مستقیم 25"/>
          <p:cNvCxnSpPr>
            <a:stCxn id="74" idx="1"/>
            <a:endCxn id="75" idx="3"/>
          </p:cNvCxnSpPr>
          <p:nvPr/>
        </p:nvCxnSpPr>
        <p:spPr>
          <a:xfrm flipH="1" flipV="1">
            <a:off x="4144680" y="1924920"/>
            <a:ext cx="3643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متصل کننده پیکان مستقیم 27"/>
          <p:cNvCxnSpPr>
            <a:stCxn id="78" idx="1"/>
            <a:endCxn id="79" idx="3"/>
          </p:cNvCxnSpPr>
          <p:nvPr/>
        </p:nvCxnSpPr>
        <p:spPr>
          <a:xfrm flipH="1" flipV="1">
            <a:off x="5428800" y="5000400"/>
            <a:ext cx="372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متصل کننده پیکان مستقیم 29"/>
          <p:cNvCxnSpPr>
            <a:stCxn id="79" idx="1"/>
            <a:endCxn id="77" idx="3"/>
          </p:cNvCxnSpPr>
          <p:nvPr/>
        </p:nvCxnSpPr>
        <p:spPr>
          <a:xfrm flipH="1" flipV="1">
            <a:off x="4144320" y="500004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متصل کننده پیکان مستقیم 61"/>
          <p:cNvCxnSpPr>
            <a:stCxn id="76" idx="2"/>
            <a:endCxn id="78" idx="0"/>
          </p:cNvCxnSpPr>
          <p:nvPr/>
        </p:nvCxnSpPr>
        <p:spPr>
          <a:xfrm flipH="1">
            <a:off x="6257160" y="2515680"/>
            <a:ext cx="2520" cy="191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7" name="متصل کننده پیکان مستقیم 65"/>
          <p:cNvCxnSpPr>
            <a:stCxn id="74" idx="2"/>
            <a:endCxn id="79" idx="0"/>
          </p:cNvCxnSpPr>
          <p:nvPr/>
        </p:nvCxnSpPr>
        <p:spPr>
          <a:xfrm>
            <a:off x="4964760" y="2500200"/>
            <a:ext cx="684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8" name="متصل کننده پیکان مستقیم 67"/>
          <p:cNvCxnSpPr>
            <a:stCxn id="75" idx="2"/>
            <a:endCxn id="77" idx="0"/>
          </p:cNvCxnSpPr>
          <p:nvPr/>
        </p:nvCxnSpPr>
        <p:spPr>
          <a:xfrm flipH="1">
            <a:off x="2464560" y="2922480"/>
            <a:ext cx="2520" cy="100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2097000" y="1658880"/>
            <a:ext cx="495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1071720" y="3429000"/>
            <a:ext cx="70722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چهره هایی خوار و زبون که از اعمالشان جز رنج، نصیبی نبرده اند و عذاب می شوند و چهره هایی خرم و شاداب که از تلاش خویش رضایت دارند و پاداش می گیر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-2892960" y="1628640"/>
            <a:ext cx="1492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قسام چهره ها در رویداد فراگیر قیام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897280" y="3936960"/>
            <a:ext cx="3349440" cy="173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7</a:t>
            </a: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5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6"/>
          <p:cNvSpPr/>
          <p:nvPr/>
        </p:nvSpPr>
        <p:spPr>
          <a:xfrm>
            <a:off x="714240" y="846000"/>
            <a:ext cx="7715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أَفَلا يَنْظُرُونَ إِلَى الإبِلِ كَيْفَ خُلِقَتْ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لَى السَّمَاءِ كَيْفَ رُفِعَتْ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لَى الْجِبَالِ كَيْفَ نُصِبَتْ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إِلَى الأرْضِ كَيْفَ سُطِحَتْ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فَذَكِّرْ إِنَّمَا أَنْتَ مُذَكِّرٌ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لَسْتَ عَلَيْهِمْ بِمُصَيْطِرٍ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إِلا مَنْ تَوَلَّى وَكَفَرَ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فَيُعَذِّبُهُ اللَّهُ الْعَذَابَ الأكْبَرَ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إِلَيْنَا إِيَابَهُمْ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إِنَّ عَلَيْنَا حِسَابَهُمْ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17-26.wav" descr=""/>
          <p:cNvPicPr/>
          <p:nvPr/>
        </p:nvPicPr>
        <p:blipFill>
          <a:blip r:embed="rId2"/>
          <a:stretch/>
        </p:blipFill>
        <p:spPr>
          <a:xfrm>
            <a:off x="107870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5365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248760" y="2921040"/>
            <a:ext cx="86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 flipV="1" rot="10800000">
            <a:off x="1357200" y="2785680"/>
            <a:ext cx="6367680" cy="173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2  Lotus"/>
              </a:rPr>
              <a:t>کفر به ربوبیّت خدای خالق و اصرار در ردّ تذکر پیامبر نسبت به آ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9" name="Rectangle 3"/>
          <p:cNvSpPr/>
          <p:nvPr/>
        </p:nvSpPr>
        <p:spPr>
          <a:xfrm>
            <a:off x="7072200" y="2428920"/>
            <a:ext cx="1351080" cy="21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أَ فَلَا يَنظُرُونَ                  إِلى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929120" y="1071720"/>
            <a:ext cx="1000080" cy="78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الْابِل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929120" y="5143680"/>
            <a:ext cx="1000080" cy="78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الْأَرْض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929120" y="3857760"/>
            <a:ext cx="1000080" cy="78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الجِْبَال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000240" y="1071720"/>
            <a:ext cx="1000440" cy="78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کی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000240" y="2500200"/>
            <a:ext cx="100044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کی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000240" y="3857760"/>
            <a:ext cx="1000440" cy="78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کی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000240" y="5143680"/>
            <a:ext cx="1000440" cy="78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کی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14280" y="2500200"/>
            <a:ext cx="100044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رُفِعَت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214280" y="3865680"/>
            <a:ext cx="1000440" cy="78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نُصِبَت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14280" y="5143680"/>
            <a:ext cx="1000440" cy="78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سُطِحَ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1224000" y="1063800"/>
            <a:ext cx="1000080" cy="78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خُلِقَت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متصل کننده پیکان مستقیم 17"/>
          <p:cNvCxnSpPr>
            <a:stCxn id="109" idx="1"/>
            <a:endCxn id="110" idx="3"/>
          </p:cNvCxnSpPr>
          <p:nvPr/>
        </p:nvCxnSpPr>
        <p:spPr>
          <a:xfrm flipH="1" flipV="1">
            <a:off x="5928480" y="1464480"/>
            <a:ext cx="114372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متصل کننده پیکان مستقیم 19"/>
          <p:cNvCxnSpPr>
            <a:stCxn id="109" idx="1"/>
            <a:endCxn id="123" idx="3"/>
          </p:cNvCxnSpPr>
          <p:nvPr/>
        </p:nvCxnSpPr>
        <p:spPr>
          <a:xfrm flipH="1" flipV="1">
            <a:off x="5928480" y="2893680"/>
            <a:ext cx="1143720" cy="60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متصل کننده پیکان مستقیم 21"/>
          <p:cNvCxnSpPr>
            <a:stCxn id="109" idx="1"/>
            <a:endCxn id="112" idx="3"/>
          </p:cNvCxnSpPr>
          <p:nvPr/>
        </p:nvCxnSpPr>
        <p:spPr>
          <a:xfrm flipH="1">
            <a:off x="5928480" y="3500280"/>
            <a:ext cx="114372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متصل کننده پیکان مستقیم 23"/>
          <p:cNvCxnSpPr>
            <a:stCxn id="109" idx="1"/>
            <a:endCxn id="111" idx="3"/>
          </p:cNvCxnSpPr>
          <p:nvPr/>
        </p:nvCxnSpPr>
        <p:spPr>
          <a:xfrm flipH="1">
            <a:off x="5928480" y="3500280"/>
            <a:ext cx="1143720" cy="203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متصل کننده پیکان مستقیم 25"/>
          <p:cNvCxnSpPr>
            <a:stCxn id="110" idx="1"/>
            <a:endCxn id="113" idx="3"/>
          </p:cNvCxnSpPr>
          <p:nvPr/>
        </p:nvCxnSpPr>
        <p:spPr>
          <a:xfrm flipH="1" flipV="1">
            <a:off x="3999960" y="1464480"/>
            <a:ext cx="92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متصل کننده پیکان مستقیم 27"/>
          <p:cNvCxnSpPr>
            <a:stCxn id="113" idx="1"/>
            <a:endCxn id="120" idx="3"/>
          </p:cNvCxnSpPr>
          <p:nvPr/>
        </p:nvCxnSpPr>
        <p:spPr>
          <a:xfrm flipH="1" flipV="1">
            <a:off x="2223720" y="1456920"/>
            <a:ext cx="7768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متصل کننده پیکان مستقیم 29"/>
          <p:cNvCxnSpPr>
            <a:stCxn id="123" idx="1"/>
            <a:endCxn id="114" idx="3"/>
          </p:cNvCxnSpPr>
          <p:nvPr/>
        </p:nvCxnSpPr>
        <p:spPr>
          <a:xfrm flipH="1" flipV="1">
            <a:off x="3999960" y="2893680"/>
            <a:ext cx="92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متصل کننده پیکان مستقیم 31"/>
          <p:cNvCxnSpPr>
            <a:stCxn id="114" idx="1"/>
            <a:endCxn id="117" idx="3"/>
          </p:cNvCxnSpPr>
          <p:nvPr/>
        </p:nvCxnSpPr>
        <p:spPr>
          <a:xfrm flipH="1" flipV="1">
            <a:off x="2214360" y="2893680"/>
            <a:ext cx="786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متصل کننده پیکان مستقیم 33"/>
          <p:cNvCxnSpPr>
            <a:stCxn id="112" idx="1"/>
            <a:endCxn id="115" idx="3"/>
          </p:cNvCxnSpPr>
          <p:nvPr/>
        </p:nvCxnSpPr>
        <p:spPr>
          <a:xfrm flipH="1" flipV="1">
            <a:off x="3999960" y="4250520"/>
            <a:ext cx="92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متصل کننده پیکان مستقیم 35"/>
          <p:cNvCxnSpPr>
            <a:stCxn id="115" idx="1"/>
            <a:endCxn id="118" idx="3"/>
          </p:cNvCxnSpPr>
          <p:nvPr/>
        </p:nvCxnSpPr>
        <p:spPr>
          <a:xfrm flipH="1">
            <a:off x="2214360" y="4251240"/>
            <a:ext cx="7862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متصل کننده پیکان مستقیم 37"/>
          <p:cNvCxnSpPr>
            <a:stCxn id="111" idx="1"/>
            <a:endCxn id="116" idx="3"/>
          </p:cNvCxnSpPr>
          <p:nvPr/>
        </p:nvCxnSpPr>
        <p:spPr>
          <a:xfrm flipH="1" flipV="1">
            <a:off x="3999960" y="5536440"/>
            <a:ext cx="92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متصل کننده پیکان مستقیم 39"/>
          <p:cNvCxnSpPr>
            <a:stCxn id="116" idx="1"/>
            <a:endCxn id="119" idx="3"/>
          </p:cNvCxnSpPr>
          <p:nvPr/>
        </p:nvCxnSpPr>
        <p:spPr>
          <a:xfrm flipH="1" flipV="1">
            <a:off x="2214360" y="5536440"/>
            <a:ext cx="786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Rectangle 4"/>
          <p:cNvSpPr/>
          <p:nvPr/>
        </p:nvSpPr>
        <p:spPr>
          <a:xfrm>
            <a:off x="4929120" y="2500200"/>
            <a:ext cx="100008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السَّمَاء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"/>
          <p:cNvSpPr/>
          <p:nvPr/>
        </p:nvSpPr>
        <p:spPr>
          <a:xfrm>
            <a:off x="6286680" y="928800"/>
            <a:ext cx="2124000" cy="4959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أَ فَلَا يَنظُرُون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إِلىَ الْابِلِ كَيْفَ خُلِقَت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 إِلىَ السَّمَاءِ كَيْفَ رُفِعَت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 إِلىَ الجِْبَالِ كَيْفَ نُصِبَت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 إِلىَ الْأَرْضِ كَيْفَ سُطِحَت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143240" y="2097000"/>
            <a:ext cx="1428840" cy="2546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فَذَكِّرْ إِنَّمَا أَنْتَ مُذَكِّرٌ * لَسْتَ عَلَيْهِمْ بِمُصَيْطِر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00240" y="2928960"/>
            <a:ext cx="60192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إِلّ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14240" y="1285920"/>
            <a:ext cx="1857600" cy="1913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مَنْ تَوَلَّى وَكَفَرَ * فَيُعَذِّبُهُ اللَّهُ الْعَذَابَ الأكْبَر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19280" y="3643200"/>
            <a:ext cx="1857240" cy="1913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إِنَّ إِلَيْنَا إِيَابَهُم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2  Badr"/>
              </a:rPr>
              <a:t> ثُمَّ إِنَّ عَلَيْنَا حِسَابَهُم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7"/>
          <p:cNvSpPr/>
          <p:nvPr/>
        </p:nvSpPr>
        <p:spPr>
          <a:xfrm>
            <a:off x="5643720" y="928800"/>
            <a:ext cx="571320" cy="4959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43920 h 4959360"/>
              <a:gd name="textAreaBottom" fmla="*/ 4915440 h 495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8"/>
                  <a:pt x="10800" y="616"/>
                </a:cubicBezTo>
                <a:lnTo>
                  <a:pt x="10800" y="10184"/>
                </a:lnTo>
                <a:cubicBezTo>
                  <a:pt x="10800" y="10492"/>
                  <a:pt x="5400" y="10800"/>
                  <a:pt x="0" y="10800"/>
                </a:cubicBezTo>
                <a:cubicBezTo>
                  <a:pt x="5400" y="10800"/>
                  <a:pt x="10800" y="11108"/>
                  <a:pt x="10800" y="11416"/>
                </a:cubicBezTo>
                <a:lnTo>
                  <a:pt x="10800" y="20984"/>
                </a:lnTo>
                <a:cubicBezTo>
                  <a:pt x="10800" y="212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متصل کننده پیکان مستقیم 9"/>
          <p:cNvCxnSpPr>
            <a:stCxn id="136" idx="1"/>
            <a:endCxn id="137" idx="3"/>
          </p:cNvCxnSpPr>
          <p:nvPr/>
        </p:nvCxnSpPr>
        <p:spPr>
          <a:xfrm flipH="1" flipV="1">
            <a:off x="3601440" y="3357000"/>
            <a:ext cx="5418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Right Brace 10"/>
          <p:cNvSpPr/>
          <p:nvPr/>
        </p:nvSpPr>
        <p:spPr>
          <a:xfrm>
            <a:off x="2643120" y="1285920"/>
            <a:ext cx="357120" cy="4286160"/>
          </a:xfrm>
          <a:custGeom>
            <a:avLst/>
            <a:gdLst>
              <a:gd name="textAreaLeft" fmla="*/ 0 w 357120"/>
              <a:gd name="textAreaRight" fmla="*/ 128880 w 357120"/>
              <a:gd name="textAreaTop" fmla="*/ 37080 h 4286160"/>
              <a:gd name="textAreaBottom" fmla="*/ 4249080 h 42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9"/>
                  <a:pt x="10800" y="598"/>
                </a:cubicBezTo>
                <a:lnTo>
                  <a:pt x="10800" y="10202"/>
                </a:lnTo>
                <a:cubicBezTo>
                  <a:pt x="10800" y="10501"/>
                  <a:pt x="16200" y="10800"/>
                  <a:pt x="21600" y="10800"/>
                </a:cubicBezTo>
                <a:cubicBezTo>
                  <a:pt x="16200" y="10800"/>
                  <a:pt x="10800" y="11099"/>
                  <a:pt x="10800" y="11398"/>
                </a:cubicBezTo>
                <a:lnTo>
                  <a:pt x="10800" y="21002"/>
                </a:lnTo>
                <a:cubicBezTo>
                  <a:pt x="10800" y="213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متصل کننده پیکان مستقیم 13"/>
          <p:cNvCxnSpPr>
            <a:stCxn id="138" idx="2"/>
            <a:endCxn id="139" idx="0"/>
          </p:cNvCxnSpPr>
          <p:nvPr/>
        </p:nvCxnSpPr>
        <p:spPr>
          <a:xfrm>
            <a:off x="1641960" y="3198960"/>
            <a:ext cx="5400" cy="44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1071720" y="3429000"/>
            <a:ext cx="692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2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کسانی که به تذکر رسول خدا</a:t>
            </a:r>
            <a:r>
              <a:rPr b="1" lang="fa-IR" sz="2800" spc="-1" strike="noStrike">
                <a:solidFill>
                  <a:srgbClr val="000000"/>
                </a:solidFill>
                <a:latin typeface="Alaem"/>
                <a:ea typeface="Alaem"/>
              </a:rPr>
              <a:t></a:t>
            </a:r>
            <a:r>
              <a:rPr b="1" lang="fa-IR" sz="2800" spc="-1" strike="noStrike">
                <a:solidFill>
                  <a:srgbClr val="000000"/>
                </a:solidFill>
                <a:latin typeface="Alaem"/>
                <a:cs typeface="Alaem"/>
              </a:rPr>
              <a:t>ص</a:t>
            </a:r>
            <a:r>
              <a:rPr b="1" lang="fa-IR" sz="2800" spc="-1" strike="noStrike">
                <a:solidFill>
                  <a:srgbClr val="000000"/>
                </a:solidFill>
                <a:latin typeface="Alaem"/>
                <a:ea typeface="Alaem"/>
              </a:rPr>
              <a:t>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برای هدایت به ربوبیت خدای خالق، پشت می کنند و کفر می ورزند، منتظر عذاب سخت خدا در روز قیامت باش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-5492880" y="1773360"/>
            <a:ext cx="2012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هدید پشت کنندگان به تذکر نبوی و کافران به توحید ربوب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49760" y="2921040"/>
            <a:ext cx="704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 flipV="1" rot="10800000">
            <a:off x="1357200" y="2785680"/>
            <a:ext cx="6367680" cy="173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2  Lotus"/>
              </a:rPr>
              <a:t>کفر به ربوبیّت خدای خالق و اصرار در ردّ تذکر پیامبر نسبت به آ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_s1240"/>
          <p:cNvSpPr/>
          <p:nvPr/>
        </p:nvSpPr>
        <p:spPr>
          <a:xfrm>
            <a:off x="4643280" y="3500280"/>
            <a:ext cx="3559320" cy="235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اقسام چهره ها در رویداد فراگیر قیام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چهره هایی خوار و زبون که از اعمالشان جز رنج، نصیبی نبرده اند و عذاب می شوند و چهره هایی خرم و شاداب که از تلاش خویش رضایت دارند و پاداش می گیر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_s1246"/>
          <p:cNvSpPr/>
          <p:nvPr/>
        </p:nvSpPr>
        <p:spPr>
          <a:xfrm>
            <a:off x="857160" y="3500280"/>
            <a:ext cx="3640320" cy="235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7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تهدید پشت کنندگان به تذکر نبوی و کافران به توحید ربوب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کسانی که به تذکر رسول خدا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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cs typeface="Alaem"/>
              </a:rPr>
              <a:t>ص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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ea typeface="2  Badr"/>
              </a:rPr>
              <a:t> برای هدایت به ربوبیت خدای خالق، پشت می کنند و کفر می ورزند، منتظر عذاب سخت خدا در روز قیامت باش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_s1252"/>
          <p:cNvSpPr/>
          <p:nvPr/>
        </p:nvSpPr>
        <p:spPr>
          <a:xfrm>
            <a:off x="1114560" y="928800"/>
            <a:ext cx="6957720" cy="2033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رویداد فراگیر قیامت، روز ظهور نتیجه رویگردانی از تذکر رسول خدا</a:t>
            </a:r>
            <a:r>
              <a:rPr b="1" lang="fa-IR" sz="1800" spc="-1" strike="noStrike">
                <a:solidFill>
                  <a:srgbClr val="000000"/>
                </a:solidFill>
                <a:latin typeface="Alaem"/>
                <a:ea typeface="Alaem"/>
              </a:rPr>
              <a:t></a:t>
            </a:r>
            <a:r>
              <a:rPr b="1" lang="fa-IR" sz="1800" spc="-1" strike="noStrike">
                <a:solidFill>
                  <a:srgbClr val="000000"/>
                </a:solidFill>
                <a:latin typeface="Alaem"/>
                <a:cs typeface="Alaem"/>
              </a:rPr>
              <a:t>ص</a:t>
            </a:r>
            <a:r>
              <a:rPr b="1" lang="fa-IR" sz="1800" spc="-1" strike="noStrike">
                <a:solidFill>
                  <a:srgbClr val="000000"/>
                </a:solidFill>
                <a:latin typeface="Alaem"/>
                <a:ea typeface="Alaem"/>
              </a:rPr>
              <a:t>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و کفر به ربوبی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در رویداد فراگیر قیامت، کسانی که به تذکر پیامبر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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cs typeface="Alaem"/>
              </a:rPr>
              <a:t>ص</a:t>
            </a:r>
            <a:r>
              <a:rPr b="1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</a:t>
            </a: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برای هدایت به ربوبیت آفریدگار پشت می کنند و کفر می ورزند، صاحب چهرههایی زبون هستند و از اعمال خود جز ملالت، بهره ای ندارند و به سختی عذاب میشوند و کسانی که تذکر آن حضرت را می پذیرند و به ربوبیت آفریدگار ایمان می آورند، صاحب چهره هایی شاداب هستند و از تلاش خود خشنودند و به پاداشی بسیار نیکو می رس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متصل کننده لولایی 6"/>
          <p:cNvCxnSpPr>
            <a:stCxn id="156" idx="0"/>
            <a:endCxn id="158" idx="2"/>
          </p:cNvCxnSpPr>
          <p:nvPr/>
        </p:nvCxnSpPr>
        <p:spPr>
          <a:xfrm flipV="1" rot="16200000">
            <a:off x="5239440" y="2316240"/>
            <a:ext cx="538560" cy="1829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متصل کننده لولایی 8"/>
          <p:cNvCxnSpPr>
            <a:stCxn id="157" idx="0"/>
            <a:endCxn id="158" idx="2"/>
          </p:cNvCxnSpPr>
          <p:nvPr/>
        </p:nvCxnSpPr>
        <p:spPr>
          <a:xfrm flipH="1" flipV="1" rot="5400000">
            <a:off x="3366000" y="2272680"/>
            <a:ext cx="538560" cy="19170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341280" y="609480"/>
            <a:ext cx="840096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6"/>
          <p:cNvSpPr/>
          <p:nvPr/>
        </p:nvSpPr>
        <p:spPr>
          <a:xfrm>
            <a:off x="714240" y="719280"/>
            <a:ext cx="77155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هَلْ أَتَاكَ حَدِيثُ الْغَاشِيَةِ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ُجُوهٌ يَوْمَئِذٍ خَاشِع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عَامِلَةٌ نَاصِب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1900" spc="-1" strike="noStrike">
                <a:solidFill>
                  <a:srgbClr val="ff0000"/>
                </a:solidFill>
                <a:latin typeface="Traditional Arabic"/>
                <a:ea typeface="QuranTaha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تَصْلَى نَارًا حَامِيَةً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٤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تُسْقَى مِنْ عَيْنٍ آنِيَةٍ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٥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لَيْسَ لَهُمْ طَعَامٌ إِلا مِنْ ضَرِيعٍ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لا يُسْمِنُ وَلا يُغْنِي مِنْ جُوعٍ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ُجُوهٌ يَوْمَئِذٍ نَاعِم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لِسَعْيِهَا رَاضِي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فِي جَنَّةٍ عَالِيَةٍ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لا تَسْمَعُ فِيهَا لاغِيَةً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فِيهَا عَيْنٌ جَارِي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فِيهَا سُرُرٌ مَرْفُوع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أَكْوَابٌ مَوْضُوع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نَمَارِقُ مَصْفُوف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زَرَابِيُّ مَبْثُوث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أَفَلا يَنْظُرُونَ إِلَى الإبِلِ كَيْفَ خُلِقَت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إِلَى السَّمَاءِ كَيْفَ رُفِعَت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إِلَى الْجِبَالِ كَيْفَ نُصِبَت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إِلَى الأرْضِ كَيْفَ سُطِحَت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فَذَكِّرْ إِنَّمَا أَنْتَ مُذَكِّر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لَسْتَ عَلَيْهِمْ بِمُصَيْطِرٍ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إِلا مَنْ تَوَلَّى وَكَفَرَ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فَيُعَذِّبُهُ اللَّهُ الْعَذَابَ الأكْبَرَ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إِلَيْنَا إِيَابَهُم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إِنَّ عَلَيْنَا حِسَابَهُم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265.MP3" descr=""/>
          <p:cNvPicPr/>
          <p:nvPr/>
        </p:nvPicPr>
        <p:blipFill>
          <a:blip r:embed="rId2"/>
          <a:stretch/>
        </p:blipFill>
        <p:spPr>
          <a:xfrm>
            <a:off x="1185876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3424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443320" y="85716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071720" y="262584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Lotus"/>
              </a:rPr>
              <a:t>براستي كه همه مظاهر خلقت تو، ربوبيت پيوسته تو را فرياد مي زنند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Lotus"/>
              </a:rPr>
              <a:t>تو پروردگار زمين و آسمان هستي، پس امر، امر توست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071720" y="42861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Lotus"/>
              </a:rPr>
              <a:t>با توفيق عمل به دستوراتت، تلاشهاي دنيايی ما را سبب آسایش آخرت ما قرار بده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714240" y="719280"/>
            <a:ext cx="77155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هَلْ أَتَاكَ حَدِيثُ الْغَاشِيَةِ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ُجُوهٌ يَوْمَئِذٍ خَاشِع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عَامِلَةٌ نَاصِب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1900" spc="-1" strike="noStrike">
                <a:solidFill>
                  <a:srgbClr val="ff0000"/>
                </a:solidFill>
                <a:latin typeface="Traditional Arabic"/>
                <a:ea typeface="QuranTaha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تَصْلَى نَارًا حَامِيَةً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٤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تُسْقَى مِنْ عَيْنٍ آنِيَةٍ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٥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لَيْسَ لَهُمْ طَعَامٌ إِلا مِنْ ضَرِيعٍ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لا يُسْمِنُ وَلا يُغْنِي مِنْ جُوعٍ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ُجُوهٌ يَوْمَئِذٍ نَاعِم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لِسَعْيِهَا رَاضِي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فِي جَنَّةٍ عَالِيَةٍ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لا تَسْمَعُ فِيهَا لاغِيَةً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فِيهَا عَيْنٌ جَارِي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فِيهَا سُرُرٌ مَرْفُوع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أَكْوَابٌ مَوْضُوع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نَمَارِقُ مَصْفُوف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زَرَابِيُّ مَبْثُوثَة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أَفَلا يَنْظُرُونَ إِلَى الإبِلِ كَيْفَ خُلِقَت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إِلَى السَّمَاءِ كَيْفَ رُفِعَت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إِلَى الْجِبَالِ كَيْفَ نُصِبَت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وَإِلَى الأرْضِ كَيْفَ سُطِحَت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فَذَكِّرْ إِنَّمَا أَنْتَ مُذَكِّرٌ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لَسْتَ عَلَيْهِمْ بِمُصَيْطِرٍ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إِلا مَنْ تَوَلَّى وَكَفَرَ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٣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فَيُعَذِّبُهُ اللَّهُ الْعَذَابَ الأكْبَرَ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٤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إِلَيْنَا إِيَابَهُم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٥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إِنَّ عَلَيْنَا حِسَابَهُمْ 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٦</a:t>
            </a:r>
            <a:r>
              <a:rPr b="1" lang="ar-SA" sz="19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265.MP3" descr=""/>
          <p:cNvPicPr/>
          <p:nvPr/>
        </p:nvPicPr>
        <p:blipFill>
          <a:blip r:embed="rId2"/>
          <a:stretch/>
        </p:blipFill>
        <p:spPr>
          <a:xfrm>
            <a:off x="1185876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3424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ound Same Side Corner Rectangle 2"/>
          <p:cNvSpPr/>
          <p:nvPr/>
        </p:nvSpPr>
        <p:spPr>
          <a:xfrm>
            <a:off x="900000" y="3403440"/>
            <a:ext cx="3167280" cy="150048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سیاق د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 آیات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17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3"/>
          <p:cNvSpPr/>
          <p:nvPr/>
        </p:nvSpPr>
        <p:spPr>
          <a:xfrm>
            <a:off x="3000240" y="1382760"/>
            <a:ext cx="3071880" cy="11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سوره مبارک غاشی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 Same Side Corner Rectangle 4"/>
          <p:cNvSpPr/>
          <p:nvPr/>
        </p:nvSpPr>
        <p:spPr>
          <a:xfrm>
            <a:off x="5094360" y="3357720"/>
            <a:ext cx="3168720" cy="149832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سیاق ا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 آیات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متصل کننده پیکان مستقیم 5"/>
          <p:cNvCxnSpPr>
            <a:stCxn id="58" idx="2"/>
            <a:endCxn id="57" idx="4"/>
          </p:cNvCxnSpPr>
          <p:nvPr/>
        </p:nvCxnSpPr>
        <p:spPr>
          <a:xfrm flipH="1">
            <a:off x="2484000" y="2571840"/>
            <a:ext cx="2052000" cy="83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متصل کننده پیکان مستقیم 6"/>
          <p:cNvCxnSpPr>
            <a:stCxn id="58" idx="2"/>
            <a:endCxn id="59" idx="4"/>
          </p:cNvCxnSpPr>
          <p:nvPr/>
        </p:nvCxnSpPr>
        <p:spPr>
          <a:xfrm>
            <a:off x="4534560" y="2571480"/>
            <a:ext cx="2143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897280" y="3936960"/>
            <a:ext cx="3349440" cy="1922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6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تصویر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1:46Z</dcterms:modified>
  <cp:revision>54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