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387A-8CB4-4521-8383-1166C1F0039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بسم الله الرحمن الرحی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DA0A-FF30-4B92-8345-1DE73EE82A4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50F-1991-4375-8115-EBB4A3F4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BE8-D0B4-4AC0-985A-3DADC0D8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A70-6274-4983-830E-9411BDC5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579-19D7-47C0-8902-585A2CE5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2F1-0468-4946-ACB0-D96631D9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E21-7014-4B83-B7FE-90FF5B83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BAC-1537-429D-A965-0B3425F6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2740-61B4-4ED8-993A-CF53DA53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D09-EE51-401E-9258-E2975CA6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362-45E3-4372-9B74-071207A8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436-D489-4517-B6ED-CE56F715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2D7-C322-482D-849F-FB22D79E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171B-E1EF-4CFC-99B6-2A99F330A049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5" descr=""/>
          <p:cNvPicPr/>
          <p:nvPr/>
        </p:nvPicPr>
        <p:blipFill>
          <a:blip r:embed="rId2"/>
          <a:stretch/>
        </p:blipFill>
        <p:spPr>
          <a:xfrm>
            <a:off x="-6480" y="5815080"/>
            <a:ext cx="915696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1" descr=""/>
          <p:cNvPicPr/>
          <p:nvPr/>
        </p:nvPicPr>
        <p:blipFill>
          <a:blip r:embed="rId3"/>
          <a:stretch/>
        </p:blipFill>
        <p:spPr>
          <a:xfrm>
            <a:off x="1596960" y="-103320"/>
            <a:ext cx="5967360" cy="1249560"/>
          </a:xfrm>
          <a:prstGeom prst="rect">
            <a:avLst/>
          </a:prstGeom>
          <a:ln w="0">
            <a:noFill/>
          </a:ln>
        </p:spPr>
      </p:pic>
      <p:pic>
        <p:nvPicPr>
          <p:cNvPr id="51" name="besm.wav" descr=""/>
          <p:cNvPicPr/>
          <p:nvPr/>
        </p:nvPicPr>
        <p:blipFill>
          <a:blip r:embed="rId4"/>
          <a:stretch/>
        </p:blipFill>
        <p:spPr>
          <a:xfrm>
            <a:off x="1100124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0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023920" y="2921040"/>
            <a:ext cx="509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1692360" y="3143160"/>
            <a:ext cx="57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Elephant"/>
                <a:cs typeface="2  Lotus"/>
              </a:rPr>
              <a:t>قیامت، حادثه‌ای کوبنده است. ملاکها و موازین سبک و ناپایدار با وقوع این حادثه کوبنده در هم می‌شکند و ملاکها و موازین سنگین و پایدار باقی می ماند. از موازین خفیف دور باشید و با موازین ثقیل زندگی کنی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tangle 4" descr=""/>
          <p:cNvPicPr/>
          <p:nvPr/>
        </p:nvPicPr>
        <p:blipFill>
          <a:blip r:embed="rId2"/>
          <a:stretch/>
        </p:blipFill>
        <p:spPr>
          <a:xfrm>
            <a:off x="1176480" y="1401840"/>
            <a:ext cx="67975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9"/>
          <p:cNvSpPr/>
          <p:nvPr/>
        </p:nvSpPr>
        <p:spPr>
          <a:xfrm>
            <a:off x="1500120" y="1278000"/>
            <a:ext cx="61437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ي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الْقَارِعَةُ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مَا الْقَارِعَةُ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مَا أَدْرَاكَ مَا الْقَارِعَةُ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يَوْمَ يَكُونُ النَّاسُ كَالْفَرَاشِ الْمَبْثُوثِ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٤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تَكُونُ الْجِبَالُ كَالْعِهْنِ الْمَنْفُوشِ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٥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أَمَّا مَنْ ثَقُلَتْ مَوَازِينُهُ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٦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هُوَ فِي عِيشَةٍ رَاضِيَةٍ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٧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أَمَّا مَنْ خَفَّتْ مَوَازِينُهُ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٨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أُمُّهُ هَاوِيَةٌ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٩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مَا أَدْرَاكَ مَاهِيَهْ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نَارٌ حَامِيَةٌ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278.MP3" descr=""/>
          <p:cNvPicPr/>
          <p:nvPr/>
        </p:nvPicPr>
        <p:blipFill>
          <a:blip r:embed="rId2"/>
          <a:stretch/>
        </p:blipFill>
        <p:spPr>
          <a:xfrm>
            <a:off x="1121580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6264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3009960" y="1357200"/>
            <a:ext cx="28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بار الها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476360" y="2571840"/>
            <a:ext cx="61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قدرت انتخاب بر اساس موازين ثقيل و دوري از موازين خفيف را به ما عنايت فرما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476360" y="3720960"/>
            <a:ext cx="619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ما را در زمره كساني قرار ده كه موازينشان پابرجاست و وقوع حادثه بسیار عظیم و کوبنده قیامت، مژده زندگی سراسر خوشبختی برای آنان اس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1407960" y="1054080"/>
            <a:ext cx="64566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1785960" y="1882800"/>
            <a:ext cx="5572080" cy="3749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(normal text)"/>
                <a:cs typeface="B Lotus"/>
              </a:rPr>
              <a:t>انسانهایی را می بینیم که وجودشان زیر</a:t>
            </a:r>
            <a:r>
              <a:rPr b="0" lang="en-US" sz="3200" spc="-1" strike="noStrike">
                <a:solidFill>
                  <a:srgbClr val="000000"/>
                </a:solidFill>
                <a:latin typeface="(normal text)"/>
                <a:ea typeface="B Lotus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(normal text)"/>
                <a:cs typeface="B Lotus"/>
              </a:rPr>
              <a:t>سلطه موازین مادی و دنیوی است و ذهن</a:t>
            </a:r>
            <a:r>
              <a:rPr b="0" lang="en-US" sz="3200" spc="-1" strike="noStrike">
                <a:solidFill>
                  <a:srgbClr val="000000"/>
                </a:solidFill>
                <a:latin typeface="(normal text)"/>
                <a:ea typeface="B Lotus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(normal text)"/>
                <a:cs typeface="B Lotus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(normal text)"/>
                <a:ea typeface="B Lotus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(normal text)"/>
                <a:cs typeface="B Lotus"/>
              </a:rPr>
              <a:t>جان و رفتارشان را بر پایه همین</a:t>
            </a:r>
            <a:r>
              <a:rPr b="0" lang="en-US" sz="3200" spc="-1" strike="noStrike">
                <a:solidFill>
                  <a:srgbClr val="000000"/>
                </a:solidFill>
                <a:latin typeface="(normal text)"/>
                <a:ea typeface="B Lotus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(normal text)"/>
                <a:cs typeface="B Lotus"/>
              </a:rPr>
              <a:t>موازین، سامان</a:t>
            </a:r>
            <a:r>
              <a:rPr b="0" lang="en-US" sz="3200" spc="-1" strike="noStrike">
                <a:solidFill>
                  <a:srgbClr val="000000"/>
                </a:solidFill>
                <a:latin typeface="(normal text)"/>
                <a:ea typeface="B Lotus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(normal text)"/>
                <a:cs typeface="B Lotus"/>
              </a:rPr>
              <a:t>می دهن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9"/>
          <p:cNvSpPr/>
          <p:nvPr/>
        </p:nvSpPr>
        <p:spPr>
          <a:xfrm>
            <a:off x="1500120" y="1278000"/>
            <a:ext cx="61437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ي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الْقَارِعَةُ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مَا الْقَارِعَةُ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مَا أَدْرَاكَ مَا الْقَارِعَةُ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يَوْمَ يَكُونُ النَّاسُ كَالْفَرَاشِ الْمَبْثُوثِ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٤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تَكُونُ الْجِبَالُ كَالْعِهْنِ الْمَنْفُوشِ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٥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أَمَّا مَنْ ثَقُلَتْ مَوَازِينُهُ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٦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هُوَ فِي عِيشَةٍ رَاضِيَةٍ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٧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أَمَّا مَنْ خَفَّتْ مَوَازِينُهُ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٨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أُمُّهُ هَاوِيَةٌ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٩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مَا أَدْرَاكَ مَاهِيَهْ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نَارٌ حَامِيَةٌ 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278.MP3" descr=""/>
          <p:cNvPicPr/>
          <p:nvPr/>
        </p:nvPicPr>
        <p:blipFill>
          <a:blip r:embed="rId2"/>
          <a:stretch/>
        </p:blipFill>
        <p:spPr>
          <a:xfrm>
            <a:off x="1121580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6264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تصویر 4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572400" cy="7286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2428920" y="1214280"/>
            <a:ext cx="4309920" cy="41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Lotus"/>
              </a:rPr>
              <a:t>توصیف قیامت به کوبندگی به قصد انذ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428920" y="1627200"/>
            <a:ext cx="4309920" cy="1373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Badr"/>
              </a:rPr>
              <a:t>الْقَارِعَة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Badr"/>
              </a:rPr>
              <a:t>مَا الْقَارِعَةُ؟! وَ مَا أَدْرَاك مَا الْقَارِعَة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Badr"/>
              </a:rPr>
              <a:t>يَوْمَ يَكُونُ النَّاس كالْفَرَاشِ الْمَبْثُوثِ وَ تَكُونُ الْجِبَالُ كالْعِهْنِ الْمَنفُوشِ ؟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000160" y="3238560"/>
            <a:ext cx="5143680" cy="404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Lotus"/>
              </a:rPr>
              <a:t>تبیین آثار موازین ثقیل و موازین خفیف در قیام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214960" y="3929040"/>
            <a:ext cx="2428920" cy="1643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Badr"/>
              </a:rPr>
              <a:t>فَأَمَّا مَن ثَقُلَت مَوَزِينُه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Badr"/>
              </a:rPr>
              <a:t>فَهُوَ فى عِيشةٍ رَّاضِيَة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428840" y="3929040"/>
            <a:ext cx="2514600" cy="1643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Badr"/>
              </a:rPr>
              <a:t>وَ أَمَّا مَنْ خَفَّت مَوَزِينُه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Badr"/>
              </a:rPr>
              <a:t>فَأُمُّهُ هَاوِيَة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Badr"/>
              </a:rPr>
              <a:t>وَ مَا أَدْرَاك مَا هِيَهْ؟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Badr"/>
              </a:rPr>
              <a:t>نَارٌ حَامِيَةُ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متصل کننده پیکان مستقیم 8"/>
          <p:cNvCxnSpPr>
            <a:stCxn id="69" idx="2"/>
            <a:endCxn id="70" idx="0"/>
          </p:cNvCxnSpPr>
          <p:nvPr/>
        </p:nvCxnSpPr>
        <p:spPr>
          <a:xfrm flipH="1">
            <a:off x="4571280" y="3000240"/>
            <a:ext cx="1332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متصل کننده پیکان مستقیم 10"/>
          <p:cNvCxnSpPr>
            <a:stCxn id="70" idx="2"/>
            <a:endCxn id="71" idx="0"/>
          </p:cNvCxnSpPr>
          <p:nvPr/>
        </p:nvCxnSpPr>
        <p:spPr>
          <a:xfrm>
            <a:off x="4570920" y="3643200"/>
            <a:ext cx="18579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متصل کننده پیکان مستقیم 12"/>
          <p:cNvCxnSpPr>
            <a:stCxn id="70" idx="2"/>
            <a:endCxn id="72" idx="0"/>
          </p:cNvCxnSpPr>
          <p:nvPr/>
        </p:nvCxnSpPr>
        <p:spPr>
          <a:xfrm flipH="1">
            <a:off x="2685240" y="3643200"/>
            <a:ext cx="18867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5:49Z</dcterms:modified>
  <cp:revision>70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