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238-9C4E-4BB8-A22A-3FA0FDBB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FB6-A682-4FF1-BC4C-CBC272E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9BB-F648-436D-AB7E-81547BC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84F-C2B6-4008-85B3-C5E369EC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43C-2F53-42C7-BB8B-C78F7279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7D2-4D26-4C70-A89F-5CA9195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C29-0C4B-470E-90BF-9948DAA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A72-5DCD-4865-989B-E1F66CB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D35-4C78-4A5D-AA2A-CBA58BD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EB4-8342-40A8-9672-E787D50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16A-C050-46DD-B607-A2BE968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DDA-004D-46F3-9112-E2C064B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3886-DC14-4F82-96B4-E3235F6E1FD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Calibri"/>
                <a:cs typeface="2  Davat"/>
              </a:rPr>
              <a:t>بسم الله الرحمن الرحی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2"/>
          <a:stretch/>
        </p:blipFill>
        <p:spPr>
          <a:xfrm>
            <a:off x="-6480" y="5254560"/>
            <a:ext cx="9156960" cy="1590840"/>
          </a:xfrm>
          <a:prstGeom prst="rect">
            <a:avLst/>
          </a:prstGeom>
          <a:ln w="0">
            <a:noFill/>
          </a:ln>
        </p:spPr>
      </p:pic>
      <p:pic>
        <p:nvPicPr>
          <p:cNvPr id="44" name="BESM.wav" descr=""/>
          <p:cNvPicPr/>
          <p:nvPr/>
        </p:nvPicPr>
        <p:blipFill>
          <a:blip r:embed="rId3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66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285920" y="2428920"/>
            <a:ext cx="6572160" cy="2652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عده ای با اعتقاد و رفتار زشت و جاهلانه خود، تمام اموالشان را در عیش دنیای خویش به کار می گیرند و به این امر افتخار می ک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1000080" y="857160"/>
            <a:ext cx="714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لا أُقْسِمُ بِهَذَا الْبَلَدِ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أَنْتَ حِلٌّ بِهَذَا الْبَلَدِ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وَوَالِدٍ وَمَا وَلَدَ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لَقَدْ خَلَقْنَا الإنْسَانَ فِي كَبَدٍ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نْ يَقْدِرَ عَلَيْهِ أَحَدٌ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أَهْلَكْتُ مَالا لُبَدًا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مْ يَرَهُ أَحَدٌ 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36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-7.wav" descr=""/>
          <p:cNvPicPr/>
          <p:nvPr/>
        </p:nvPicPr>
        <p:blipFill>
          <a:blip r:embed="rId2"/>
          <a:stretch/>
        </p:blipFill>
        <p:spPr>
          <a:xfrm>
            <a:off x="1064412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535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5"/>
          <p:cNvSpPr/>
          <p:nvPr/>
        </p:nvSpPr>
        <p:spPr>
          <a:xfrm>
            <a:off x="6205680" y="1289160"/>
            <a:ext cx="2000160" cy="1496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لَا أُقْسِمُ بِهَذَا الْبَلَد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َأَنتَ حِلٌّ بِهَذَا الْبَلَد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643200" y="2786040"/>
            <a:ext cx="2071800" cy="121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لَقَدْ خَلَقْنَا الْانسَانَ فىِ كَبَد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6215040" y="4000680"/>
            <a:ext cx="2000160" cy="157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وَ وَالِدٍ وَ مَا وَلَد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19080" y="1285920"/>
            <a:ext cx="2286000" cy="1089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أَيَحْسَبُ أَن لَّن يَقْدِرَ عَلَيْهِ أَحَد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919080" y="2860560"/>
            <a:ext cx="2286000" cy="1068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algn="ct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يَقُولُ أَهْلَكْتُ مَالًا لُّبَدً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9080" y="4503600"/>
            <a:ext cx="2286000" cy="1068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2  Badr"/>
              </a:rPr>
              <a:t>أَيَحْسَبُ أَن لَّمْ يَرَهُ أَحَد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متصل کننده پیکان مستقیم 42"/>
          <p:cNvCxnSpPr>
            <a:stCxn id="77" idx="1"/>
            <a:endCxn id="78" idx="3"/>
          </p:cNvCxnSpPr>
          <p:nvPr/>
        </p:nvCxnSpPr>
        <p:spPr>
          <a:xfrm flipH="1">
            <a:off x="5714280" y="2036880"/>
            <a:ext cx="4914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متصل کننده پیکان مستقیم 46"/>
          <p:cNvCxnSpPr>
            <a:stCxn id="79" idx="1"/>
            <a:endCxn id="78" idx="3"/>
          </p:cNvCxnSpPr>
          <p:nvPr/>
        </p:nvCxnSpPr>
        <p:spPr>
          <a:xfrm flipH="1" flipV="1">
            <a:off x="5714280" y="3393360"/>
            <a:ext cx="500760" cy="13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متصل کننده پیکان مستقیم 48"/>
          <p:cNvCxnSpPr>
            <a:stCxn id="78" idx="1"/>
            <a:endCxn id="80" idx="3"/>
          </p:cNvCxnSpPr>
          <p:nvPr/>
        </p:nvCxnSpPr>
        <p:spPr>
          <a:xfrm flipH="1" flipV="1">
            <a:off x="3204360" y="1829880"/>
            <a:ext cx="438840" cy="15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متصل کننده پیکان مستقیم 50"/>
          <p:cNvCxnSpPr>
            <a:stCxn id="78" idx="1"/>
            <a:endCxn id="82" idx="3"/>
          </p:cNvCxnSpPr>
          <p:nvPr/>
        </p:nvCxnSpPr>
        <p:spPr>
          <a:xfrm flipH="1">
            <a:off x="3204360" y="3394080"/>
            <a:ext cx="43884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متصل کننده پیکان مستقیم 52"/>
          <p:cNvCxnSpPr>
            <a:stCxn id="80" idx="2"/>
            <a:endCxn id="81" idx="0"/>
          </p:cNvCxnSpPr>
          <p:nvPr/>
        </p:nvCxnSpPr>
        <p:spPr>
          <a:xfrm flipH="1">
            <a:off x="2061360" y="2374560"/>
            <a:ext cx="252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متصل کننده پیکان مستقیم 56"/>
          <p:cNvCxnSpPr>
            <a:stCxn id="82" idx="0"/>
            <a:endCxn id="81" idx="2"/>
          </p:cNvCxnSpPr>
          <p:nvPr/>
        </p:nvCxnSpPr>
        <p:spPr>
          <a:xfrm flipV="1">
            <a:off x="2061000" y="393012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1500120" y="266544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357200" y="3484440"/>
            <a:ext cx="64296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خدا انسان را در رنج آفریده است و این نشانه</a:t>
            </a:r>
            <a:r>
              <a:rPr b="1" lang="en-US" sz="28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ای روشن بر مقهور و مغلوب بودن انسان است؛ پس جایی برای افتخار به صرف بیهوده مال و ثروت نی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-4633200" y="1643040"/>
            <a:ext cx="1841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ازداری انسان از افتخار به صرف بیهوده مال و ثر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682720" y="3936960"/>
            <a:ext cx="381816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8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85920" y="3143160"/>
            <a:ext cx="6572160" cy="947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هرگز به فکر دستگیری از یتیمان نیست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8"/>
          <p:cNvSpPr/>
          <p:nvPr/>
        </p:nvSpPr>
        <p:spPr>
          <a:xfrm>
            <a:off x="928800" y="1081080"/>
            <a:ext cx="7286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نَجْعَلْ لَهُ عَيْنَيْن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لِسَانًا وَشَفَتَيْن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هَدَيْنَاهُ النَّجْدَيْن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لا اقْتَحَمَ الْعَقَبَةَ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ْعَقَبَةُ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فَكُّ رَقَبَةٍ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وْ إِطْعَامٌ فِي يَوْمٍ ذِي مَسْغَبَةٍ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يَتِيمًا ذَا مَقْرَبَةٍ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َوْ مِسْكِينًا ذَا مَتْرَبَةٍ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8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كَانَ مِنَ الَّذِينَ آمَنُوا وَتَوَاصَوْا بِالصَّبْرِ وَتَوَاصَوْا بِالْمَرْحَمَة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أُولَئِكَ أَصْحَابُ الْمَيْمَنَة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وَالَّذِينَ كَفَرُوا بِآيَاتِنَا هُمْ أَصْحَابُ الْمَشْأَمَةِ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QuranTaha"/>
              </a:rPr>
              <a:t>عَلَيْهِمْ نَارٌ مُؤْصَدَةٌ 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8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8-20.wav" descr=""/>
          <p:cNvPicPr/>
          <p:nvPr/>
        </p:nvPicPr>
        <p:blipFill>
          <a:blip r:embed="rId2"/>
          <a:stretch/>
        </p:blipFill>
        <p:spPr>
          <a:xfrm>
            <a:off x="1057284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7385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6"/>
          <p:cNvSpPr/>
          <p:nvPr/>
        </p:nvSpPr>
        <p:spPr>
          <a:xfrm>
            <a:off x="6429240" y="3571920"/>
            <a:ext cx="1774800" cy="549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 هَدَيْنَاهُ النَّجْدَيْن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429240" y="2714760"/>
            <a:ext cx="1774800" cy="549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َلَمْ نَجْعَل لَّهُ عَيْنَيْنِ </a:t>
            </a: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لِسَانًا وَشَفَتَيْن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 rot="10800000">
            <a:off x="6161040" y="2768400"/>
            <a:ext cx="208080" cy="1306440"/>
          </a:xfrm>
          <a:custGeom>
            <a:avLst/>
            <a:gdLst>
              <a:gd name="textAreaLeft" fmla="*/ 0 w 208080"/>
              <a:gd name="textAreaRight" fmla="*/ 75240 w 208080"/>
              <a:gd name="textAreaTop" fmla="*/ 57240 h 1306440"/>
              <a:gd name="textAreaBottom" fmla="*/ 124920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5"/>
                  <a:pt x="10800" y="3029"/>
                </a:cubicBezTo>
                <a:lnTo>
                  <a:pt x="10800" y="7760"/>
                </a:lnTo>
                <a:cubicBezTo>
                  <a:pt x="10800" y="9275"/>
                  <a:pt x="16200" y="10789"/>
                  <a:pt x="21600" y="10789"/>
                </a:cubicBezTo>
                <a:cubicBezTo>
                  <a:pt x="16200" y="10789"/>
                  <a:pt x="10800" y="12304"/>
                  <a:pt x="10800" y="13818"/>
                </a:cubicBezTo>
                <a:lnTo>
                  <a:pt x="10800" y="18571"/>
                </a:lnTo>
                <a:cubicBezTo>
                  <a:pt x="10800" y="20086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7135920" y="3286080"/>
            <a:ext cx="38412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3"/>
          <p:cNvCxnSpPr/>
          <p:nvPr/>
        </p:nvCxnSpPr>
        <p:spPr>
          <a:xfrm rot="10800000">
            <a:off x="5912640" y="1850400"/>
            <a:ext cx="250200" cy="1572120"/>
          </a:xfrm>
          <a:prstGeom prst="bentConnector3">
            <a:avLst>
              <a:gd name="adj1" fmla="val 502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2"/>
          <p:cNvCxnSpPr/>
          <p:nvPr/>
        </p:nvCxnSpPr>
        <p:spPr>
          <a:xfrm flipV="1" rot="10800000">
            <a:off x="5912640" y="3421440"/>
            <a:ext cx="250200" cy="1608840"/>
          </a:xfrm>
          <a:prstGeom prst="bentConnector3">
            <a:avLst>
              <a:gd name="adj1" fmla="val 502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Rectangle 14"/>
          <p:cNvSpPr/>
          <p:nvPr/>
        </p:nvSpPr>
        <p:spPr>
          <a:xfrm>
            <a:off x="4357800" y="1214280"/>
            <a:ext cx="1496880" cy="1268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َلَا اقْتَحَمَ الْعَقَبَة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357800" y="4429080"/>
            <a:ext cx="1496880" cy="12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ثُمَّ كَانَ مِنَ الَّذِينَ آمَنُوا وَتَوَاصَوْا بِالصَّبْرِ وَتَوَاصَوْا بِالْمَرْحَمَة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876400" y="1571760"/>
            <a:ext cx="1247760" cy="547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 مَا أَدْرَئكَ مَا الْعَقَبَة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857680" y="4759200"/>
            <a:ext cx="1266480" cy="598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ُوْلَئِكَ أَصْحَابُ الْمَيْمَنَة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928800" y="2786040"/>
            <a:ext cx="154944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َتِيمًا ذَا مَقْرَبَة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َوْ مِسْكِينًا ذَا مَترْبَة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928800" y="2098800"/>
            <a:ext cx="1549440" cy="547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َوْ إِطْعَامٌ فىِ يَوْ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ذِى مَسْغَبَ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933480" y="4233960"/>
            <a:ext cx="1525680" cy="1481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َالَّذِينَ كَفَرُوا بِآيَاتِنَا هُمْ أَصْحَابُ الْمَشْأَمَة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عَلَيْهِمْ نَارٌ مُّؤْصَدَة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928800" y="1011240"/>
            <a:ext cx="1549440" cy="547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َكُّ رَقَبَة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تصل کننده مستقیم 47"/>
          <p:cNvSpPr/>
          <p:nvPr/>
        </p:nvSpPr>
        <p:spPr>
          <a:xfrm flipV="1">
            <a:off x="1703520" y="26463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متصل کننده پیکان مستقیم 49"/>
          <p:cNvCxnSpPr>
            <a:stCxn id="117" idx="1"/>
            <a:endCxn id="122" idx="3"/>
          </p:cNvCxnSpPr>
          <p:nvPr/>
        </p:nvCxnSpPr>
        <p:spPr>
          <a:xfrm flipH="1" flipV="1">
            <a:off x="2477880" y="1285920"/>
            <a:ext cx="39888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متصل کننده پیکان مستقیم 51"/>
          <p:cNvCxnSpPr>
            <a:stCxn id="117" idx="1"/>
            <a:endCxn id="120" idx="3"/>
          </p:cNvCxnSpPr>
          <p:nvPr/>
        </p:nvCxnSpPr>
        <p:spPr>
          <a:xfrm flipH="1">
            <a:off x="2477880" y="1843560"/>
            <a:ext cx="3988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متصل کننده پیکان مستقیم 53"/>
          <p:cNvCxnSpPr>
            <a:stCxn id="118" idx="1"/>
          </p:cNvCxnSpPr>
          <p:nvPr/>
        </p:nvCxnSpPr>
        <p:spPr>
          <a:xfrm flipH="1">
            <a:off x="2428200" y="5058360"/>
            <a:ext cx="429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متصل کننده پیکان مستقیم 62"/>
          <p:cNvCxnSpPr>
            <a:stCxn id="115" idx="1"/>
            <a:endCxn id="117" idx="3"/>
          </p:cNvCxnSpPr>
          <p:nvPr/>
        </p:nvCxnSpPr>
        <p:spPr>
          <a:xfrm flipH="1" flipV="1">
            <a:off x="4123440" y="1843920"/>
            <a:ext cx="2343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متصل کننده پیکان مستقیم 64"/>
          <p:cNvCxnSpPr>
            <a:stCxn id="116" idx="1"/>
            <a:endCxn id="118" idx="3"/>
          </p:cNvCxnSpPr>
          <p:nvPr/>
        </p:nvCxnSpPr>
        <p:spPr>
          <a:xfrm flipH="1" flipV="1">
            <a:off x="4123440" y="5058720"/>
            <a:ext cx="2343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متصل کننده پیکان مستقیم 69"/>
          <p:cNvCxnSpPr>
            <a:stCxn id="115" idx="2"/>
            <a:endCxn id="116" idx="0"/>
          </p:cNvCxnSpPr>
          <p:nvPr/>
        </p:nvCxnSpPr>
        <p:spPr>
          <a:xfrm flipH="1">
            <a:off x="5105160" y="2484000"/>
            <a:ext cx="2160" cy="194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1214280" y="3162240"/>
            <a:ext cx="6786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انسان باید بداند که افتاده</a:t>
            </a:r>
            <a:r>
              <a:rPr b="1" lang="en-US" sz="28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ای بیش نبود و خدا بلندش کرد. او باید بر گردنه انفاق و دست</a:t>
            </a:r>
            <a:r>
              <a:rPr b="1" lang="en-US" sz="28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گیری از افتادگان گام بگذارد و در جرگه مؤمنانی درآید که یکدیگر را به ص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و مرحمت سفارش می</a:t>
            </a:r>
            <a:r>
              <a:rPr b="1" lang="en-US" sz="2800" spc="-1" strike="noStrike">
                <a:solidFill>
                  <a:srgbClr val="000000"/>
                </a:solidFill>
                <a:latin typeface="Elephant"/>
                <a:ea typeface="2 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Elephant"/>
                <a:cs typeface="2  Lotus"/>
              </a:rPr>
              <a:t>ک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-5121720" y="1700280"/>
            <a:ext cx="1938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دعوت هشدارآمیز انسان به گام نهادن بر گردنه انفاق و ایما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_s1032"/>
          <p:cNvSpPr/>
          <p:nvPr/>
        </p:nvSpPr>
        <p:spPr>
          <a:xfrm>
            <a:off x="4805280" y="3286080"/>
            <a:ext cx="3079800" cy="264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بازداری انسان از افتخار به صرف بیهوده مال و ثرو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خدا انسان را در رنج آفریده است و این نشانهای روشن بر مقهور و مغلوب بودن انسان است؛ پس جایی برای افتخار به صرف بیهوده مال و ثروت نی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_s1038"/>
          <p:cNvSpPr/>
          <p:nvPr/>
        </p:nvSpPr>
        <p:spPr>
          <a:xfrm>
            <a:off x="1187280" y="3286080"/>
            <a:ext cx="3151440" cy="264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20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دعوت هشدارآمیز انسان به گام نهادن بر گردنه انفاق و ایم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انسان باید بداند که افتاد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ای بیش نبود و خدا بلندش کرد. او باید بر گردنه انفاق و دس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گیری از افتادگان گام بگذارد و در جرگه مؤمنانی درآید که یکدیگر را به صبر و مرحمت سفارش م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2  Lotus"/>
              </a:rPr>
              <a:t>کن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44"/>
          <p:cNvSpPr/>
          <p:nvPr/>
        </p:nvSpPr>
        <p:spPr>
          <a:xfrm>
            <a:off x="1285920" y="1052640"/>
            <a:ext cx="6572160" cy="1733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2  Lotus"/>
              </a:rPr>
              <a:t>دعوت هشدارآمیز انسان به صرف مال برای عبور از گردنه انفاق و رسیدن به سعادت جاودان آخر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2  Lotus"/>
              </a:rPr>
              <a:t>انسان غافل از خدا و قیامت، مال خویش را هدر م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2  Lotus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2  Lotus"/>
              </a:rPr>
              <a:t>دهد و به آن افتخار میکند. مال دنیا سرمایه او برای عبور از گردنه انفاق و رسیدن به سعادت جاویدان آخرت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متصل کننده پیکان مستقیم 8"/>
          <p:cNvCxnSpPr>
            <a:stCxn id="138" idx="0"/>
            <a:endCxn id="140" idx="2"/>
          </p:cNvCxnSpPr>
          <p:nvPr/>
        </p:nvCxnSpPr>
        <p:spPr>
          <a:xfrm flipH="1" flipV="1">
            <a:off x="4571640" y="2785320"/>
            <a:ext cx="177408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متصل کننده پیکان مستقیم 11"/>
          <p:cNvCxnSpPr>
            <a:stCxn id="139" idx="0"/>
            <a:endCxn id="140" idx="2"/>
          </p:cNvCxnSpPr>
          <p:nvPr/>
        </p:nvCxnSpPr>
        <p:spPr>
          <a:xfrm flipV="1">
            <a:off x="2762640" y="2785320"/>
            <a:ext cx="180900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285920" y="2428920"/>
            <a:ext cx="6572160" cy="329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افتخار آنها به صرف بیهوده مال در حالی است که آن را فقط در عیش دنیای خویش به کار گرفته اند و هرگز به فکر دستگیری از نیازمندان نبوده ا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590400" y="646200"/>
            <a:ext cx="7864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8"/>
          <p:cNvSpPr/>
          <p:nvPr/>
        </p:nvSpPr>
        <p:spPr>
          <a:xfrm>
            <a:off x="1000080" y="857160"/>
            <a:ext cx="7143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لا أُقْسِمُ بِهَذَا الْبَلَد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أَنْتَ حِلٌّ بِهَذَا الْبَلَد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وَالِدٍ وَمَا وَلَدَ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لَقَدْ خَلَقْنَا الإنْسَانَ فِي كَبَد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نْ يَقْدِرَ عَلَيْهِ أَحَد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أَهْلَكْتُ مَالا لُبَدًا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مْ يَرَهُ أَحَد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نَجْعَلْ لَهُ عَيْن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لِسَانًا وَشَفَت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هَدَيْنَاهُ النَّجْد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فَلا اقْتَحَمَ الْعَقَبَةَ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ْعَقَبَةُ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فَكُّ رَق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وْ إِطْعَامٌ فِي يَوْمٍ ذِي مَسْغ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تِيمًا ذَا مَقْر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وْ مِسْكِينًا ذَا مَتْرَبَةٍ</a:t>
            </a:r>
            <a:r>
              <a:rPr b="0" lang="ar-SA" sz="2200" spc="-1" strike="noStrike">
                <a:solidFill>
                  <a:srgbClr val="00602b"/>
                </a:solidFill>
                <a:latin typeface="Arial"/>
                <a:ea typeface="QuranTaha"/>
              </a:rPr>
              <a:t>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كَانَ مِنَ الَّذِينَ آمَنُوا وَتَوَاصَوْا بِالصَّبْرِ وَتَوَاصَوْا بِالْمَرْحَم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ُولَئِكَ أَصْحَابُ الْمَيْمَن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الَّذِينَ كَفَرُوا بِآيَاتِنَا هُمْ أَصْحَابُ الْمَشْأَم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لَيْهِمْ نَارٌ مُؤْصَدَة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267.MP3" descr=""/>
          <p:cNvPicPr/>
          <p:nvPr/>
        </p:nvPicPr>
        <p:blipFill>
          <a:blip r:embed="rId2"/>
          <a:stretch/>
        </p:blipFill>
        <p:spPr>
          <a:xfrm>
            <a:off x="105012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12011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3228120" y="928800"/>
            <a:ext cx="2463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428840" y="3003480"/>
            <a:ext cx="6286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توفيق استفاده درست از مال دنيا را به ما عنایت ک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71720" y="4025880"/>
            <a:ext cx="698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و ما را از توجه به نيازمندان و يتيمان غافل مسا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643040" y="4929120"/>
            <a:ext cx="5786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2  Lotus"/>
              </a:rPr>
              <a:t>تا از جمله خجستگان در سراي آخرت باش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8"/>
          <p:cNvSpPr/>
          <p:nvPr/>
        </p:nvSpPr>
        <p:spPr>
          <a:xfrm>
            <a:off x="1000080" y="857160"/>
            <a:ext cx="7143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لا أُقْسِمُ بِهَذَا الْبَلَد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أَنْتَ حِلٌّ بِهَذَا الْبَلَد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وَالِدٍ وَمَا وَلَدَ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٣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لَقَدْ خَلَقْنَا الإنْسَانَ فِي كَبَد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٤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نْ يَقْدِرَ عَلَيْهِ أَحَد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٥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قُولُ أَهْلَكْتُ مَالا لُبَدًا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٦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يَحْسَبُ أَنْ لَمْ يَرَهُ أَحَد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٧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لَمْ نَجْعَلْ لَهُ عَيْن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٨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لِسَانًا وَشَفَت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٩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هَدَيْنَاهُ النَّجْدَيْن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فَلا اقْتَحَمَ الْعَقَبَةَ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مَا أَدْرَاكَ مَا الْعَقَبَةُ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فَكُّ رَق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وْ إِطْعَامٌ فِي يَوْمٍ ذِي مَسْغ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يَتِيمًا ذَا مَقْرَبَةٍ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َوْ مِسْكِينًا ذَا مَتْرَبَةٍ</a:t>
            </a:r>
            <a:r>
              <a:rPr b="0" lang="ar-SA" sz="2200" spc="-1" strike="noStrike">
                <a:solidFill>
                  <a:srgbClr val="00602b"/>
                </a:solidFill>
                <a:latin typeface="Arial"/>
                <a:ea typeface="QuranTaha"/>
              </a:rPr>
              <a:t>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ثُمَّ كَانَ مِنَ الَّذِينَ آمَنُوا وَتَوَاصَوْا بِالصَّبْرِ وَتَوَاصَوْا بِالْمَرْحَم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أُولَئِكَ أَصْحَابُ الْمَيْمَن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وَالَّذِينَ كَفَرُوا بِآيَاتِنَا هُمْ أَصْحَابُ الْمَشْأَمَةِ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QuranTaha"/>
              </a:rPr>
              <a:t>عَلَيْهِمْ نَارٌ مُؤْصَدَةٌ 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200" spc="-1" strike="noStrike">
                <a:solidFill>
                  <a:srgbClr val="00602b"/>
                </a:solidFill>
                <a:latin typeface="Traditional Arabic"/>
                <a:cs typeface="Traditional Arabic"/>
              </a:rPr>
              <a:t>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67.MP3" descr=""/>
          <p:cNvPicPr/>
          <p:nvPr/>
        </p:nvPicPr>
        <p:blipFill>
          <a:blip r:embed="rId2"/>
          <a:stretch/>
        </p:blipFill>
        <p:spPr>
          <a:xfrm>
            <a:off x="105012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01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 Same Side Corner Rectangle 2"/>
          <p:cNvSpPr/>
          <p:nvPr/>
        </p:nvSpPr>
        <p:spPr>
          <a:xfrm>
            <a:off x="857160" y="3500280"/>
            <a:ext cx="3167280" cy="17146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یاق د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8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3143160" y="1571760"/>
            <a:ext cx="285768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2  Badr"/>
              </a:rPr>
              <a:t>سوره مبارک ب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 Same Side Corner Rectangle 5"/>
          <p:cNvSpPr/>
          <p:nvPr/>
        </p:nvSpPr>
        <p:spPr>
          <a:xfrm>
            <a:off x="5051520" y="3454560"/>
            <a:ext cx="3168720" cy="17110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2  Badr"/>
              </a:rPr>
              <a:t>سیاق ا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2  Badr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متصل کننده پیکان مستقیم 6"/>
          <p:cNvCxnSpPr>
            <a:stCxn id="58" idx="2"/>
            <a:endCxn id="57" idx="4"/>
          </p:cNvCxnSpPr>
          <p:nvPr/>
        </p:nvCxnSpPr>
        <p:spPr>
          <a:xfrm flipH="1">
            <a:off x="2440080" y="2760840"/>
            <a:ext cx="2132280" cy="74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متصل کننده پیکان مستقیم 7"/>
          <p:cNvCxnSpPr>
            <a:stCxn id="58" idx="2"/>
            <a:endCxn id="59" idx="4"/>
          </p:cNvCxnSpPr>
          <p:nvPr/>
        </p:nvCxnSpPr>
        <p:spPr>
          <a:xfrm>
            <a:off x="4570920" y="2760480"/>
            <a:ext cx="206460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897280" y="3936960"/>
            <a:ext cx="334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262440" y="29894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2:12Z</dcterms:modified>
  <cp:revision>83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