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B747-C542-452D-AC4C-1A09CE7E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براستی این دروغ انگاران کیستند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نگهدارنده مکان شماره اسلاید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74BC-5D89-457A-AC2E-7A1CAF4D5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CC2-F383-4876-B48A-12FA789F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FE3-1E4F-4C5E-8909-006592C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5FF-47CF-4282-B5DF-687459F3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D1D-B2F9-477E-9D8C-A5C221DF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2DF-E148-4515-814F-6BF74808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075-565F-4A9D-B58F-44EDACDC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892-E683-4279-9D7B-87761DDE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665-E18C-4838-8E49-6810C5B0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945-C8FA-4032-959D-4E7FC69F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A06-DD70-4F0D-BF65-37CF8C1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9E4-E6E0-46E8-800E-59D73A4C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368-4E9D-4A85-AC2F-E4CB66C7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B9B9-0CB2-4A21-AB0F-87916A0B6F5C}" type="slidenum">
              <a:rPr b="0" lang="fa-I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68360" y="4076640"/>
            <a:ext cx="331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Calibri"/>
                <a:cs typeface="DecoType Naskh Variants"/>
              </a:rPr>
              <a:t>تدبر د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Calibri"/>
                <a:cs typeface="DecoType Naskh Variants"/>
              </a:rPr>
              <a:t>سوره مبارک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Calibri"/>
                <a:cs typeface="DecoType Naskh Variants"/>
              </a:rPr>
              <a:t>ماعو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besm.wav" descr=""/>
          <p:cNvPicPr/>
          <p:nvPr/>
        </p:nvPicPr>
        <p:blipFill>
          <a:blip r:embed="rId2"/>
          <a:stretch/>
        </p:blipFill>
        <p:spPr>
          <a:xfrm>
            <a:off x="10644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0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6606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1928880" y="2665440"/>
            <a:ext cx="5286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-534600" y="714240"/>
            <a:ext cx="983052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هدید نمازگزاران مکذّب دی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928800" y="2571840"/>
            <a:ext cx="7675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از خود راندن یتیمان و بی تفاوتی نسبت به طعام مسکینان، از نشانه های تکذیب دین اس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928800" y="4143240"/>
            <a:ext cx="7675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وای بر نمازگزارانی که با غفلت از حقیقت نماز و جمع بین ریاکاری و منع کمک مالی به نیازمندان، زمینه فعلیت یافتن این اوصاف را فراهم می سازند و در عمل، دین را تکذیب می کن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458440" y="1000080"/>
            <a:ext cx="426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202640" y="2016000"/>
            <a:ext cx="483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أَرَأَيْتَ الَّذِي يُكَذِّبُ بِالدِّينِ</a:t>
            </a:r>
            <a:r>
              <a:rPr b="0" lang="en-US" sz="32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59560" y="2023920"/>
            <a:ext cx="431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فَذَلِكَ الَّذِي يَدُعُّ الْيَتِيمَ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422160" y="3071880"/>
            <a:ext cx="56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وَلا يَحُضُّ عَلَى طَعَامِ الْمِسْكِينِ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59880" y="3071880"/>
            <a:ext cx="334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فَوَيْلٌ لِلْمُصَلِّينَ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455640" y="4087800"/>
            <a:ext cx="575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الَّذِينَ هُمْ عَنْ صَلاتِهِمْ سَاهُونَ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37040" y="4087800"/>
            <a:ext cx="373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الَّذِينَ هُمْ يُرَاءُونَ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661480" y="5087880"/>
            <a:ext cx="38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وَيَمْنَعُونَ الْمَاعُونَ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  <p:pic>
        <p:nvPicPr>
          <p:cNvPr id="112" name="284.MP3" descr=""/>
          <p:cNvPicPr/>
          <p:nvPr/>
        </p:nvPicPr>
        <p:blipFill>
          <a:blip r:embed="rId2"/>
          <a:stretch/>
        </p:blipFill>
        <p:spPr>
          <a:xfrm>
            <a:off x="10715760" y="338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5768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3613320" y="-285840"/>
            <a:ext cx="18097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ار الها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357200" y="1571760"/>
            <a:ext cx="635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(normal text)"/>
                <a:cs typeface="2  Lotus"/>
              </a:rPr>
              <a:t>نماز ما را نماز حقیقی و عاری از ریا قرار د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40160" y="2714760"/>
            <a:ext cx="23461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785880" y="4545000"/>
            <a:ext cx="761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(normal text)"/>
                <a:cs typeface="2  Lotus"/>
              </a:rPr>
              <a:t>ما را از انفاق و توجه به یتیمان و مسکینان غافل مساز   تا در زمره مكذبان دين قرار نگيري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نگهدارنده مکان محتوا 6" descr=""/>
          <p:cNvPicPr/>
          <p:nvPr/>
        </p:nvPicPr>
        <p:blipFill>
          <a:blip r:embed="rId1"/>
          <a:stretch/>
        </p:blipFill>
        <p:spPr>
          <a:xfrm>
            <a:off x="762120" y="-146160"/>
            <a:ext cx="7753320" cy="5821560"/>
          </a:xfrm>
          <a:prstGeom prst="rect">
            <a:avLst/>
          </a:prstGeom>
          <a:ln w="0">
            <a:noFill/>
          </a:ln>
        </p:spPr>
      </p:pic>
      <p:pic>
        <p:nvPicPr>
          <p:cNvPr id="54" name="تصویر 4" descr=""/>
          <p:cNvPicPr/>
          <p:nvPr/>
        </p:nvPicPr>
        <p:blipFill>
          <a:blip r:embed="rId2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3"/>
          <p:cNvSpPr/>
          <p:nvPr/>
        </p:nvSpPr>
        <p:spPr>
          <a:xfrm>
            <a:off x="857160" y="94464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2  Lotus"/>
              </a:rPr>
              <a:t>یتیم را به شدت و ستم از خود م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2  Lotus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2  Lotus"/>
              </a:rPr>
              <a:t>ران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1714680" y="250344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2  Lotus"/>
              </a:rPr>
              <a:t>   بر اطعام بینوا ترغیب نمی ک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143000" y="388476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2  Lotus"/>
              </a:rPr>
              <a:t>   و در عین حال به ظاهر از نمازگزاران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458440" y="1000080"/>
            <a:ext cx="426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202640" y="2016000"/>
            <a:ext cx="483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أَرَأَيْتَ الَّذِي يُكَذِّبُ بِالدِّينِ</a:t>
            </a:r>
            <a:r>
              <a:rPr b="0" lang="en-US" sz="3200" spc="-1" strike="noStrike">
                <a:solidFill>
                  <a:srgbClr val="000000"/>
                </a:solidFill>
                <a:latin typeface="Neirizi"/>
                <a:ea typeface="QuranTaha"/>
              </a:rPr>
              <a:t>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59560" y="2023920"/>
            <a:ext cx="431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فَذَلِكَ الَّذِي يَدُعُّ الْيَتِيمَ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422160" y="3071880"/>
            <a:ext cx="56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وَلا يَحُضُّ عَلَى طَعَامِ الْمِسْكِينِ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659880" y="3071880"/>
            <a:ext cx="334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فَوَيْلٌ لِلْمُصَلِّينَ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455640" y="4087800"/>
            <a:ext cx="575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الَّذِينَ هُمْ عَنْ صَلاتِهِمْ سَاهُونَ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37040" y="4087800"/>
            <a:ext cx="373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الَّذِينَ هُمْ يُرَاءُونَ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2661480" y="5087880"/>
            <a:ext cx="38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Neirizi"/>
                <a:cs typeface="QuranTaha"/>
              </a:rPr>
              <a:t>وَيَمْنَعُونَ الْمَاعُونَ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  <p:pic>
        <p:nvPicPr>
          <p:cNvPr id="72" name="284.MP3" descr=""/>
          <p:cNvPicPr/>
          <p:nvPr/>
        </p:nvPicPr>
        <p:blipFill>
          <a:blip r:embed="rId2"/>
          <a:stretch/>
        </p:blipFill>
        <p:spPr>
          <a:xfrm>
            <a:off x="10715760" y="338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76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229520" y="946080"/>
            <a:ext cx="1428840" cy="1982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Calibri"/>
                <a:ea typeface="2  Badr"/>
              </a:rPr>
              <a:t> أَرَأَیتَ  الَّذِى يُكَذِّب بِالدِّين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215120" y="3429000"/>
            <a:ext cx="1428840" cy="212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Calibri"/>
                <a:cs typeface="2  Badr"/>
              </a:rPr>
              <a:t>فَوَيْلٌ لِّلْمُصلِّين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108400" y="1214280"/>
            <a:ext cx="1035360" cy="1443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Calibri"/>
                <a:cs typeface="2  Badr"/>
              </a:rPr>
              <a:t>فَذَلِك الَّذِ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108400" y="3259080"/>
            <a:ext cx="1035360" cy="844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Calibri"/>
                <a:cs typeface="2  Badr"/>
              </a:rPr>
              <a:t>الَّذِينَ هُم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108400" y="4941720"/>
            <a:ext cx="1035360" cy="844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Calibri"/>
                <a:cs typeface="2  Badr"/>
              </a:rPr>
              <a:t>الَّذِينَ هُم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1143000" y="1944720"/>
            <a:ext cx="2928960" cy="91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cs typeface="2  Badr"/>
              </a:rPr>
              <a:t>وَ لا يحُض عَلى طعَامِ الْمِسكِين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1143000" y="928800"/>
            <a:ext cx="2928960" cy="952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يَدُعُّ الْيَتِيم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143000" y="5500800"/>
            <a:ext cx="2928960" cy="954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وَ يَمْنَعُونَ الْمَاعُون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143000" y="4500720"/>
            <a:ext cx="2928960" cy="928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يُرَاءُون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143000" y="3214800"/>
            <a:ext cx="2928960" cy="947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عَن صَلاتِهِم ساهُو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متصل کننده پیکان مستقیم 36"/>
          <p:cNvCxnSpPr>
            <a:stCxn id="75" idx="1"/>
            <a:endCxn id="77" idx="3"/>
          </p:cNvCxnSpPr>
          <p:nvPr/>
        </p:nvCxnSpPr>
        <p:spPr>
          <a:xfrm flipH="1" flipV="1">
            <a:off x="6143400" y="1934280"/>
            <a:ext cx="1086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متصل کننده پیکان مستقیم 38"/>
          <p:cNvCxnSpPr>
            <a:stCxn id="77" idx="1"/>
            <a:endCxn id="81" idx="3"/>
          </p:cNvCxnSpPr>
          <p:nvPr/>
        </p:nvCxnSpPr>
        <p:spPr>
          <a:xfrm flipH="1" flipV="1">
            <a:off x="4071240" y="1404720"/>
            <a:ext cx="1037160" cy="53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متصل کننده پیکان مستقیم 40"/>
          <p:cNvCxnSpPr>
            <a:stCxn id="77" idx="1"/>
            <a:endCxn id="80" idx="3"/>
          </p:cNvCxnSpPr>
          <p:nvPr/>
        </p:nvCxnSpPr>
        <p:spPr>
          <a:xfrm flipH="1">
            <a:off x="4071240" y="1933920"/>
            <a:ext cx="1037160" cy="46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متصل کننده پیکان مستقیم 42"/>
          <p:cNvCxnSpPr>
            <a:stCxn id="75" idx="2"/>
            <a:endCxn id="76" idx="0"/>
          </p:cNvCxnSpPr>
          <p:nvPr/>
        </p:nvCxnSpPr>
        <p:spPr>
          <a:xfrm flipH="1">
            <a:off x="7929000" y="2928600"/>
            <a:ext cx="147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متصل کننده پیکان مستقیم 44"/>
          <p:cNvCxnSpPr>
            <a:stCxn id="76" idx="1"/>
            <a:endCxn id="78" idx="3"/>
          </p:cNvCxnSpPr>
          <p:nvPr/>
        </p:nvCxnSpPr>
        <p:spPr>
          <a:xfrm flipH="1" flipV="1">
            <a:off x="6143400" y="3681000"/>
            <a:ext cx="1072080" cy="81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متصل کننده پیکان مستقیم 46"/>
          <p:cNvCxnSpPr>
            <a:stCxn id="76" idx="1"/>
            <a:endCxn id="79" idx="3"/>
          </p:cNvCxnSpPr>
          <p:nvPr/>
        </p:nvCxnSpPr>
        <p:spPr>
          <a:xfrm flipH="1">
            <a:off x="6143400" y="4492800"/>
            <a:ext cx="1072080" cy="87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متصل کننده پیکان مستقیم 48"/>
          <p:cNvCxnSpPr>
            <a:stCxn id="78" idx="1"/>
            <a:endCxn id="84" idx="3"/>
          </p:cNvCxnSpPr>
          <p:nvPr/>
        </p:nvCxnSpPr>
        <p:spPr>
          <a:xfrm flipH="1">
            <a:off x="4071240" y="3681360"/>
            <a:ext cx="103716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متصل کننده پیکان مستقیم 50"/>
          <p:cNvCxnSpPr>
            <a:stCxn id="79" idx="1"/>
            <a:endCxn id="83" idx="3"/>
          </p:cNvCxnSpPr>
          <p:nvPr/>
        </p:nvCxnSpPr>
        <p:spPr>
          <a:xfrm flipH="1" flipV="1">
            <a:off x="4071240" y="4965480"/>
            <a:ext cx="10371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متصل کننده پیکان مستقیم 52"/>
          <p:cNvCxnSpPr>
            <a:stCxn id="79" idx="1"/>
            <a:endCxn id="82" idx="3"/>
          </p:cNvCxnSpPr>
          <p:nvPr/>
        </p:nvCxnSpPr>
        <p:spPr>
          <a:xfrm flipH="1">
            <a:off x="4071240" y="5362920"/>
            <a:ext cx="10371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4" name="تصویر 4" descr=""/>
          <p:cNvPicPr/>
          <p:nvPr/>
        </p:nvPicPr>
        <p:blipFill>
          <a:blip r:embed="rId1"/>
          <a:stretch/>
        </p:blipFill>
        <p:spPr>
          <a:xfrm>
            <a:off x="0" y="3143160"/>
            <a:ext cx="714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4:16Z</dcterms:modified>
  <cp:revision>55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