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0B1-4E32-44B8-A2A8-58112781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205-1A8A-44BA-9380-08A8A46C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3F9-7E90-429E-A19D-C33AE99B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039-588E-4533-8100-8A18FB6A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C84-C74A-46C9-A59D-445EF83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F16-5165-4AF0-B343-3F7D98A0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045-E6BA-410D-B870-BDC8942E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13A-FB43-4289-A46F-B57ECC90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73A-8B84-4BD1-B753-2764CA65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C5C-1BF4-4D4B-8DCF-8390229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E3B-A4CE-4E6D-B4F7-117631BF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495-3D58-49FF-BED7-D29E155B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DFB-FD64-49A7-8E10-F2051FC8721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-231840" y="5254560"/>
            <a:ext cx="9661680" cy="1590840"/>
          </a:xfrm>
          <a:prstGeom prst="rect">
            <a:avLst/>
          </a:prstGeom>
          <a:ln w="0">
            <a:noFill/>
          </a:ln>
        </p:spPr>
      </p:pic>
      <p:pic>
        <p:nvPicPr>
          <p:cNvPr id="43" name="besm.wav" descr=""/>
          <p:cNvPicPr/>
          <p:nvPr/>
        </p:nvPicPr>
        <p:blipFill>
          <a:blip r:embed="rId3"/>
          <a:stretch/>
        </p:blipFill>
        <p:spPr>
          <a:xfrm>
            <a:off x="107870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0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6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00080" y="857160"/>
            <a:ext cx="7143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ذَاتِ الْبُرُوجِ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الْيَوْمِ الْمَوْعُودِ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شَاهِدٍ وَمَشْهُودٍ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قُتِلَ أَصْحَابُ الأخْدُودِ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النَّارِ ذَاتِ الْوَقُودِ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ذْ هُمْ عَلَيْهَا قُعُودٌ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</a:t>
            </a:r>
            <a:r>
              <a:rPr b="0" lang="ar-SA" sz="2400" spc="-1" strike="noStrike">
                <a:solidFill>
                  <a:srgbClr val="008000"/>
                </a:solidFill>
                <a:latin typeface="Arial"/>
                <a:ea typeface="QuranTah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هُمْ عَلَى مَا يَفْعَلُونَ بِالْمُؤْمِنِينَ شُهُودٌ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نَقَمُوا مِنْهُمْ إِلا أَنْ يُؤْمِنُوا بِاللَّهِ الْعَزِيزِ الْحَمِيدِ</a:t>
            </a:r>
            <a:r>
              <a:rPr b="0" lang="ar-SA" sz="2400" spc="-1" strike="noStrike">
                <a:solidFill>
                  <a:srgbClr val="008000"/>
                </a:solidFill>
                <a:latin typeface="Arial"/>
                <a:ea typeface="QuranTaha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 لَهُ مُلْكُ السَّمَاوَاتِ وَالأرْضِ وَاللَّهُ عَلَى كُلِّ شَيْءٍ شَهِيدٌ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٩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فَتَنُوا الْمُؤْمِنِينَ وَالْمُؤْمِنَاتِ ثُمَّ لَمْ يَتُوبُوا فَلَهُمْ عَذَابُ جَهَنَّمَ وَلَهُمْ عَذَابُ الْحَرِيقِ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آمَنُوا وَعَمِلُوا الصَّالِحَاتِ لَهُمْ جَنَّاتٌ تَجْرِي مِنْ تَحْتِهَا الأنْهَارُ ذَلِكَ الْفَوْزُ الْكَبِيرُ 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4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1-11.wav" descr=""/>
          <p:cNvPicPr/>
          <p:nvPr/>
        </p:nvPicPr>
        <p:blipFill>
          <a:blip r:embed="rId2"/>
          <a:stretch/>
        </p:blipFill>
        <p:spPr>
          <a:xfrm>
            <a:off x="1050120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2600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262440" y="2921040"/>
            <a:ext cx="86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285920" y="2071800"/>
            <a:ext cx="6572160" cy="3932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مؤمنان به خدا و رسول او، به جرم ایمان، از سوی کافران فتنه گر گرفتار شکنجه و عذاب اند، فتنه کافران آنان را دربرگرفته و راه را برای ادامه مسیر ایمان سخت کرده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05280" y="2921040"/>
            <a:ext cx="85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417760" y="958680"/>
            <a:ext cx="4335480" cy="447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Badr"/>
              </a:rPr>
              <a:t>وَالسَّمَاءِ ذَاتِ الْبُرُوجِ * وَالْيَوْمِ الْمَوْعُودِ * وَشَاهِدٍ وَمَشْهُود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57760" y="1565280"/>
            <a:ext cx="1460520" cy="447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Badr"/>
              </a:rPr>
              <a:t>قُتِلَ أَصْحَابُ الأخْدُودِ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428920" y="1565280"/>
            <a:ext cx="1143000" cy="447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Badr"/>
              </a:rPr>
              <a:t>النَّارِ ذَاتِ الْوَقُود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417760" y="2179800"/>
            <a:ext cx="4335480" cy="449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Badr"/>
              </a:rPr>
              <a:t>إِذْ هُمْ عَلَيْهَا قُعُود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417760" y="2719440"/>
            <a:ext cx="4335480" cy="449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Badr"/>
              </a:rPr>
              <a:t>وَهُمْ عَلَى مَا يَفْعَلُونَ بِالْمُؤْمِنِينَ شُهُودٌ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2  Bad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417760" y="3460680"/>
            <a:ext cx="4335480" cy="447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Badr"/>
              </a:rPr>
              <a:t>وَمَا نَقَمُوا مِنْهُمْ إِلا أَنْ يُؤْمِنُوا بِاللَّهِ الْعَزِيزِ الْحَمِيد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417760" y="4000680"/>
            <a:ext cx="4335480" cy="448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Badr"/>
              </a:rPr>
              <a:t>الَّذِي لَهُ مُلْكُ السَّمَاوَاتِ وَالأرْضِ وَاللَّهُ عَلَى كُلِّ شَيْءٍ شَهِيد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236600" y="5072040"/>
            <a:ext cx="3049560" cy="760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الَّذِينَ آمَنُوا وَعَمِلُوا الصَّالِحَاتِ لَهُمْ جَنَّاتٌ تَجْرِي مِنْ تَحْتِهَا الأنْهَارُ ذَلِكَ الْفَوْزُ الْكَبِير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857840" y="5072040"/>
            <a:ext cx="3049560" cy="760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2  Badr"/>
              </a:rPr>
              <a:t>إِنَّ الَّذِينَ فَتَنُوا الْمُؤْمِنِينَ وَالْمُؤْمِنَاتِ ثُمَّ لَمْ يَتُوبُوا فَلَهُمْ عَذَابُ جَهَنَّمَ وَلَهُمْ عَذَابُ الْحَرِيق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12"/>
          <p:cNvCxnSpPr>
            <a:stCxn id="76" idx="2"/>
            <a:endCxn id="77" idx="0"/>
          </p:cNvCxnSpPr>
          <p:nvPr/>
        </p:nvCxnSpPr>
        <p:spPr>
          <a:xfrm>
            <a:off x="4583520" y="1406160"/>
            <a:ext cx="39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3"/>
          <p:cNvCxnSpPr>
            <a:stCxn id="77" idx="1"/>
            <a:endCxn id="78" idx="3"/>
          </p:cNvCxnSpPr>
          <p:nvPr/>
        </p:nvCxnSpPr>
        <p:spPr>
          <a:xfrm flipH="1" flipV="1">
            <a:off x="3571560" y="178884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4"/>
          <p:cNvCxnSpPr>
            <a:stCxn id="77" idx="2"/>
            <a:endCxn id="79" idx="0"/>
          </p:cNvCxnSpPr>
          <p:nvPr/>
        </p:nvCxnSpPr>
        <p:spPr>
          <a:xfrm flipH="1">
            <a:off x="4583880" y="2012760"/>
            <a:ext cx="39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15"/>
          <p:cNvCxnSpPr>
            <a:stCxn id="80" idx="2"/>
            <a:endCxn id="81" idx="0"/>
          </p:cNvCxnSpPr>
          <p:nvPr/>
        </p:nvCxnSpPr>
        <p:spPr>
          <a:xfrm flipH="1">
            <a:off x="4583880" y="3170160"/>
            <a:ext cx="252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6"/>
          <p:cNvCxnSpPr>
            <a:stCxn id="90" idx="1"/>
            <a:endCxn id="83" idx="0"/>
          </p:cNvCxnSpPr>
          <p:nvPr/>
        </p:nvCxnSpPr>
        <p:spPr>
          <a:xfrm flipH="1">
            <a:off x="2760120" y="4786200"/>
            <a:ext cx="18118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17"/>
          <p:cNvCxnSpPr>
            <a:stCxn id="90" idx="1"/>
            <a:endCxn id="84" idx="0"/>
          </p:cNvCxnSpPr>
          <p:nvPr/>
        </p:nvCxnSpPr>
        <p:spPr>
          <a:xfrm>
            <a:off x="4570920" y="4786200"/>
            <a:ext cx="18118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ight Brace 37"/>
          <p:cNvSpPr/>
          <p:nvPr/>
        </p:nvSpPr>
        <p:spPr>
          <a:xfrm rot="5400000">
            <a:off x="4429080" y="2500200"/>
            <a:ext cx="285480" cy="4286160"/>
          </a:xfrm>
          <a:custGeom>
            <a:avLst/>
            <a:gdLst>
              <a:gd name="textAreaLeft" fmla="*/ 0 w 285480"/>
              <a:gd name="textAreaRight" fmla="*/ 102960 w 285480"/>
              <a:gd name="textAreaTop" fmla="*/ 37440 h 4286160"/>
              <a:gd name="textAreaBottom" fmla="*/ 4248720 h 42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4"/>
                  <a:pt x="10800" y="607"/>
                </a:cubicBezTo>
                <a:lnTo>
                  <a:pt x="10800" y="10193"/>
                </a:lnTo>
                <a:cubicBezTo>
                  <a:pt x="10800" y="10497"/>
                  <a:pt x="16200" y="10800"/>
                  <a:pt x="21600" y="10800"/>
                </a:cubicBezTo>
                <a:cubicBezTo>
                  <a:pt x="16200" y="10800"/>
                  <a:pt x="10800" y="11104"/>
                  <a:pt x="10800" y="11407"/>
                </a:cubicBezTo>
                <a:lnTo>
                  <a:pt x="10800" y="20993"/>
                </a:lnTo>
                <a:cubicBezTo>
                  <a:pt x="10800" y="2129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تصل کننده مستقیم 43"/>
          <p:cNvSpPr/>
          <p:nvPr/>
        </p:nvSpPr>
        <p:spPr>
          <a:xfrm flipV="1">
            <a:off x="4584600" y="2628720"/>
            <a:ext cx="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تصل کننده مستقیم 44"/>
          <p:cNvSpPr/>
          <p:nvPr/>
        </p:nvSpPr>
        <p:spPr>
          <a:xfrm flipV="1">
            <a:off x="4584600" y="39085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1619280" y="3468600"/>
            <a:ext cx="5905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آنان که مؤمنان را در معرض انتخاب بین ترک ایمان یا شکنجه و عذاب قرار می دهند، ناکام می مانند و مانند اصحاب اخدود عذاب می شو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-4915080" y="1285920"/>
            <a:ext cx="1902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هدید کسانی که مؤمنان را دچار فتنه می کنن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2437200" y="192564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357280" y="3936960"/>
            <a:ext cx="442944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2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1011600" y="2874960"/>
            <a:ext cx="712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د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00080" y="1181160"/>
            <a:ext cx="71438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بَطْشَ رَبِّكَ لَشَدِيدٌ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هُوَ يُبْدِئُ وَيُعِيدُ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هُوَ الْغَفُورُ الْوَدُودُ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ذُو الْعَرْشِ الْمَجِيدُ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َعَّالٌ لِمَا يُرِيدُ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هَلْ أَتَاكَ حَدِيثُ الْجُنُودِ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ِرْعَوْنَ وَثَمُودَ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بَلِ الَّذِينَ كَفَرُوا فِي تَكْذِيبٍ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هُ مِنْ وَرَائِهِمْ مُحِيطٌ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بَلْ هُوَ قُرْآنٌ مَجِيدٌ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QuranTaha"/>
              </a:rPr>
              <a:t>فِي لَوْحٍ مَحْفُوظٍ 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32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12-22.wav" descr=""/>
          <p:cNvPicPr/>
          <p:nvPr/>
        </p:nvPicPr>
        <p:blipFill>
          <a:blip r:embed="rId2"/>
          <a:stretch/>
        </p:blipFill>
        <p:spPr>
          <a:xfrm>
            <a:off x="1057284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7110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248760" y="2921040"/>
            <a:ext cx="86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285920" y="2739960"/>
            <a:ext cx="6500880" cy="2013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Lotus"/>
              </a:rPr>
              <a:t>کافران سخن قرآن را تکذیب میکنند تا آن را بی اثر نمایند و حقیقت تهدیدات الهی را زیر سؤال ببر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291600" y="292104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793960" y="4000680"/>
            <a:ext cx="363528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بَلِ الَّذِينَ كَفَرُواْ فىِ تَكْذِيب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 اللَّهُ مِن وَرَائهِِم محُِّيط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46200" y="2120760"/>
            <a:ext cx="3240000" cy="451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B Badr"/>
              </a:rPr>
              <a:t>هَلْ أَتَاكَ حَدِيثُ الجُْنُودِ  فِرْعَوْنَ وَ ثَمُود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6240" y="1095480"/>
            <a:ext cx="2357640" cy="450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ngsana New"/>
                <a:cs typeface="B Badr"/>
              </a:rPr>
              <a:t>إِنَّ بَطْشَ رَبِّكَ لَشَدِيد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86240" y="1857240"/>
            <a:ext cx="2357640" cy="1714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إِنَّهُ هُوَ يُبْدِئُ وَ يُعِيد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وَ هُوَ الْغَفُورُ الْوَدُود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ذُو الْعَرْشِ المَْجِيد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فَعَّالٌ لِّمَا يُرِيد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857840" y="1071720"/>
            <a:ext cx="357120" cy="2500200"/>
          </a:xfrm>
          <a:custGeom>
            <a:avLst/>
            <a:gdLst>
              <a:gd name="textAreaLeft" fmla="*/ 228240 w 357120"/>
              <a:gd name="textAreaRight" fmla="*/ 357480 w 357120"/>
              <a:gd name="textAreaTop" fmla="*/ 47520 h 2500200"/>
              <a:gd name="textAreaBottom" fmla="*/ 2452680 h 25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0"/>
                  <a:pt x="10800" y="1320"/>
                </a:cubicBezTo>
                <a:lnTo>
                  <a:pt x="10800" y="9480"/>
                </a:lnTo>
                <a:cubicBezTo>
                  <a:pt x="10800" y="10140"/>
                  <a:pt x="5400" y="10800"/>
                  <a:pt x="0" y="10800"/>
                </a:cubicBezTo>
                <a:cubicBezTo>
                  <a:pt x="5400" y="10800"/>
                  <a:pt x="10800" y="11460"/>
                  <a:pt x="10800" y="12120"/>
                </a:cubicBezTo>
                <a:lnTo>
                  <a:pt x="10800" y="20280"/>
                </a:lnTo>
                <a:cubicBezTo>
                  <a:pt x="10800" y="209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8"/>
          <p:cNvCxnSpPr>
            <a:stCxn id="116" idx="2"/>
            <a:endCxn id="117" idx="0"/>
          </p:cNvCxnSpPr>
          <p:nvPr/>
        </p:nvCxnSpPr>
        <p:spPr>
          <a:xfrm flipH="1">
            <a:off x="6463440" y="1545840"/>
            <a:ext cx="252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9"/>
          <p:cNvSpPr/>
          <p:nvPr/>
        </p:nvSpPr>
        <p:spPr>
          <a:xfrm rot="16200000">
            <a:off x="4429080" y="642960"/>
            <a:ext cx="357120" cy="6215040"/>
          </a:xfrm>
          <a:custGeom>
            <a:avLst/>
            <a:gdLst>
              <a:gd name="textAreaLeft" fmla="*/ 228240 w 357120"/>
              <a:gd name="textAreaRight" fmla="*/ 357480 w 357120"/>
              <a:gd name="textAreaTop" fmla="*/ 79560 h 6215040"/>
              <a:gd name="textAreaBottom" fmla="*/ 6135480 h 621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4"/>
                </a:cubicBezTo>
                <a:lnTo>
                  <a:pt x="10800" y="9916"/>
                </a:lnTo>
                <a:cubicBezTo>
                  <a:pt x="10800" y="10358"/>
                  <a:pt x="5400" y="10800"/>
                  <a:pt x="0" y="10800"/>
                </a:cubicBezTo>
                <a:cubicBezTo>
                  <a:pt x="5400" y="10800"/>
                  <a:pt x="10800" y="11242"/>
                  <a:pt x="10800" y="11684"/>
                </a:cubicBezTo>
                <a:lnTo>
                  <a:pt x="10800" y="20716"/>
                </a:lnTo>
                <a:cubicBezTo>
                  <a:pt x="10800" y="2115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793960" y="5167440"/>
            <a:ext cx="3635280" cy="61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B Badr"/>
              </a:rPr>
              <a:t>بَلْ هُوَ قُرْءَانٌ مجَِّيدٌ فىِ لَوْحٍ محَّْفُوظِ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11"/>
          <p:cNvCxnSpPr>
            <a:stCxn id="114" idx="2"/>
            <a:endCxn id="121" idx="0"/>
          </p:cNvCxnSpPr>
          <p:nvPr/>
        </p:nvCxnSpPr>
        <p:spPr>
          <a:xfrm flipH="1">
            <a:off x="4609800" y="4916160"/>
            <a:ext cx="21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1511280" y="269064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یاق دو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1619280" y="3619440"/>
            <a:ext cx="5905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کافران قرآن را تکذیب می کنند تا حتمیت تهدیدات الهی را زیر سؤال ببرند. عذاب خدا شدید است و تحقق اراده او حتم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-2332800" y="1700280"/>
            <a:ext cx="138096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ثبیت قلب پیامبر</a:t>
            </a:r>
            <a:r>
              <a:rPr b="0" lang="fa-IR" sz="32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6600" spc="-1" strike="noStrike">
                <a:solidFill>
                  <a:srgbClr val="000000"/>
                </a:solidFill>
                <a:latin typeface="Arial"/>
                <a:ea typeface="IranNastaliq"/>
              </a:rPr>
              <a:t> </a:t>
            </a:r>
            <a:r>
              <a:rPr b="0" lang="fa-IR" sz="6600" spc="-1" strike="noStrike">
                <a:solidFill>
                  <a:srgbClr val="000000"/>
                </a:solidFill>
                <a:latin typeface="IranNastaliq"/>
                <a:cs typeface="IranNastaliq"/>
              </a:rPr>
              <a:t>و تشدید تهدید کافرا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049760" y="2921040"/>
            <a:ext cx="704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1285920" y="1714680"/>
            <a:ext cx="6429240" cy="4483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Lotus"/>
              </a:rPr>
              <a:t>مؤمنان به خدا و رسول او، به جرم ایمان، از سوی کافران فتنه گر گرفتار شکنجه و عذاب اند، فتنه کافران آنان را دربرگرفته و راه را برای ادامه مسیر ایمان سخت کرده است. </a:t>
            </a:r>
            <a:r>
              <a:rPr b="1" lang="fa-IR" sz="2400" spc="-1" strike="noStrike">
                <a:solidFill>
                  <a:srgbClr val="ff0000"/>
                </a:solidFill>
                <a:latin typeface="Calibri"/>
                <a:cs typeface="2  Lotus"/>
              </a:rPr>
              <a:t>قرآن کافران فتنه گر را به عذاب تهدید میکند.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2  Lotus"/>
              </a:rPr>
              <a:t>کافران سخن قرآن را تکذیب میکنند، تا آن را بی اثر نمایند و حقیقت تهدیدات الهی را زیر سؤال ببر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2097000" y="292104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_s1032"/>
          <p:cNvSpPr/>
          <p:nvPr/>
        </p:nvSpPr>
        <p:spPr>
          <a:xfrm>
            <a:off x="4716360" y="3573360"/>
            <a:ext cx="3498840" cy="2232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تهدید کسانی که مؤمنان را دچار فتنه می کن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آنان که مؤمنان را در معرض انتخاب بین ترک ایمان یا شکنجه و عذاب قرار می دهند، ناکام می مانند و مانند اصحاب اخدود عذاب می شو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_s1038"/>
          <p:cNvSpPr/>
          <p:nvPr/>
        </p:nvSpPr>
        <p:spPr>
          <a:xfrm>
            <a:off x="928800" y="3573360"/>
            <a:ext cx="3351240" cy="2232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آیه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12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 - 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ea typeface="2  Badr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تثبیت قلب پیامبر</a:t>
            </a:r>
            <a:r>
              <a:rPr b="1" lang="fa-IR" sz="18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1" lang="fa-IR" sz="18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1" lang="fa-IR" sz="1800" spc="-1" strike="noStrike">
                <a:solidFill>
                  <a:srgbClr val="000000"/>
                </a:solidFill>
                <a:latin typeface="Alaem"/>
                <a:ea typeface="Alaem"/>
              </a:rPr>
              <a:t>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و تشدید تهدید کافر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کافران قرآن را تکذیب می کنند تا حتمیت تهدیدات الهی را زیر سؤال ببرند. عذاب خدا شدید است و تحقق اراده او حتم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_s1044"/>
          <p:cNvSpPr/>
          <p:nvPr/>
        </p:nvSpPr>
        <p:spPr>
          <a:xfrm>
            <a:off x="1660680" y="1228680"/>
            <a:ext cx="5676840" cy="1747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2  Badr"/>
              </a:rPr>
              <a:t>مقابله شدید با کافران فتنه گ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برخی از راه تهدید به شکنجه و قتل، مؤمنان را در معرض ترک ایمان قرار می دهند و چون وحی الهی تهدیدشان می کند، تکذیبش می کنند تا رسول خدا</a:t>
            </a:r>
            <a:r>
              <a:rPr b="0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</a:t>
            </a:r>
            <a:r>
              <a:rPr b="0" lang="fa-IR" sz="1600" spc="-1" strike="noStrike">
                <a:solidFill>
                  <a:srgbClr val="000000"/>
                </a:solidFill>
                <a:latin typeface="Alaem"/>
                <a:cs typeface="Alaem"/>
              </a:rPr>
              <a:t>ص</a:t>
            </a:r>
            <a:r>
              <a:rPr b="0" lang="fa-IR" sz="1600" spc="-1" strike="noStrike">
                <a:solidFill>
                  <a:srgbClr val="000000"/>
                </a:solidFill>
                <a:latin typeface="Alaem"/>
                <a:ea typeface="Alaem"/>
              </a:rPr>
              <a:t></a:t>
            </a: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را به موضع انفعال بکشانند و رفتار فتنه جویانه خویش را ادامه دهند. ایشان منتظر عذاب شدید و حتمی پروردگار باش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متصل کننده لولایی 8"/>
          <p:cNvCxnSpPr>
            <a:stCxn id="135" idx="0"/>
            <a:endCxn id="137" idx="2"/>
          </p:cNvCxnSpPr>
          <p:nvPr/>
        </p:nvCxnSpPr>
        <p:spPr>
          <a:xfrm flipV="1" rot="16200000">
            <a:off x="5183640" y="2290680"/>
            <a:ext cx="597600" cy="196776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متصل کننده لولایی 10"/>
          <p:cNvCxnSpPr>
            <a:stCxn id="136" idx="0"/>
            <a:endCxn id="137" idx="2"/>
          </p:cNvCxnSpPr>
          <p:nvPr/>
        </p:nvCxnSpPr>
        <p:spPr>
          <a:xfrm flipH="1" flipV="1" rot="5400000">
            <a:off x="3251520" y="2326680"/>
            <a:ext cx="597600" cy="18961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652320" y="774720"/>
            <a:ext cx="774252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1000080" y="857160"/>
            <a:ext cx="71438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ذَاتِ الْبُرُوج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الْيَوْمِ الْمَوْعُو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شَاهِدٍ وَمَشْهُودٍ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قُتِلَ أَصْحَابُ الأخْدُو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النَّارِ ذَاتِ الْوَقُو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ذْ هُمْ عَلَيْهَا قُعُو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</a:t>
            </a:r>
            <a:r>
              <a:rPr b="0" lang="ar-SA" sz="2000" spc="-1" strike="noStrike">
                <a:solidFill>
                  <a:srgbClr val="008000"/>
                </a:solidFill>
                <a:latin typeface="Arial"/>
                <a:ea typeface="QuranTah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هُمْ عَلَى مَا يَفْعَلُونَ بِالْمُؤْمِنِينَ شُهُو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نَقَمُوا مِنْهُمْ إِلا أَنْ يُؤْمِنُوا بِاللَّهِ الْعَزِيزِ الْحَمِي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 لَهُ مُلْكُ السَّمَاوَاتِ وَالأرْضِ وَاللَّهُ عَلَى كُلِّ شَيْءٍ شَهِي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٩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فَتَنُوا الْمُؤْمِنِينَ وَالْمُؤْمِنَاتِ ثُمَّ لَمْ يَتُوبُوا فَلَهُمْ عَذَابُ جَهَنَّمَ وَلَهُمْ عَذَابُ الْحَرِيق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آمَنُوا وَعَمِلُوا الصَّالِحَاتِ لَهُمْ جَنَّاتٌ تَجْرِي مِنْ تَحْتِهَا الأنْهَارُ ذَلِكَ الْفَوْزُ الْكَبِير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بَطْشَ رَبِّكَ لَشَدِي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هُوَ يُبْدِئُ وَيُعِيد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هُوَ الْغَفُورُ الْوَدُود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ذُو الْعَرْشِ الْمَجِيد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َعَّالٌ لِمَا يُرِيد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هَلْ أَتَاكَ حَدِيثُ الْجُنُو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ِرْعَوْنَ وَثَمُودَ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َلِ الَّذِينَ كَفَرُوا فِي تَكْذِيبٍ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هُ مِنْ وَرَائِهِمْ مُحِيط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َلْ هُوَ قُرْآنٌ مَجِي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ِي لَوْحٍ مَحْفُوظٍ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262.MP3" descr=""/>
          <p:cNvPicPr/>
          <p:nvPr/>
        </p:nvPicPr>
        <p:blipFill>
          <a:blip r:embed="rId2"/>
          <a:stretch/>
        </p:blipFill>
        <p:spPr>
          <a:xfrm>
            <a:off x="1035828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19827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3472560" y="1071720"/>
            <a:ext cx="22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يا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769480" y="3699000"/>
            <a:ext cx="360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پروردگارا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43000" y="2214720"/>
            <a:ext cx="68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به مومنان و مجاهدان راه خودت توان استقامت در مسير ايمان و مجاهدت عنايت بفر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357200" y="464328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Lotus"/>
              </a:rPr>
              <a:t>شر مستكبران و ظالمان را از سر مظلمومان و مستضعفان كوتاه بد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1891800" y="287496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000080" y="857160"/>
            <a:ext cx="71438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ِسْمِ اللَّهِ الرَّحْمَنِ الرَّحِ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السَّمَاءِ ذَاتِ الْبُرُوج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الْيَوْمِ الْمَوْعُو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شَاهِدٍ وَمَشْهُودٍ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٣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قُتِلَ أَصْحَابُ الأخْدُو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٤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النَّارِ ذَاتِ الْوَقُو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٥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ذْ هُمْ عَلَيْهَا قُعُو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٦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</a:t>
            </a:r>
            <a:r>
              <a:rPr b="0" lang="ar-SA" sz="2000" spc="-1" strike="noStrike">
                <a:solidFill>
                  <a:srgbClr val="008000"/>
                </a:solidFill>
                <a:latin typeface="Arial"/>
                <a:ea typeface="QuranTah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هُمْ عَلَى مَا يَفْعَلُونَ بِالْمُؤْمِنِينَ شُهُو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٧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مَا نَقَمُوا مِنْهُمْ إِلا أَنْ يُؤْمِنُوا بِاللَّهِ الْعَزِيزِ الْحَمِي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٨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الَّذِي لَهُ مُلْكُ السَّمَاوَاتِ وَالأرْضِ وَاللَّهُ عَلَى كُلِّ شَيْءٍ شَهِي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٩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فَتَنُوا الْمُؤْمِنِينَ وَالْمُؤْمِنَاتِ ثُمَّ لَمْ يَتُوبُوا فَلَهُمْ عَذَابُ جَهَنَّمَ وَلَهُمْ عَذَابُ الْحَرِيق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٠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الَّذِينَ آمَنُوا وَعَمِلُوا الصَّالِحَاتِ لَهُمْ جَنَّاتٌ تَجْرِي مِنْ تَحْتِهَا الأنْهَارُ ذَلِكَ الْفَوْزُ الْكَبِير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١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 بَطْشَ رَبِّكَ لَشَدِي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٢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إِنَّهُ هُوَ يُبْدِئُ وَيُعِيد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٣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هُوَ الْغَفُورُ الْوَدُود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٤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ذُو الْعَرْشِ الْمَجِيد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٥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َعَّالٌ لِمَا يُرِيدُ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٦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هَلْ أَتَاكَ حَدِيثُ الْجُنُودِ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٧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ِرْعَوْنَ وَثَمُودَ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٨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َلِ الَّذِينَ كَفَرُوا فِي تَكْذِيبٍ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١٩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وَاللَّهُ مِنْ وَرَائِهِمْ مُحِيط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٠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بَلْ هُوَ قُرْآنٌ مَجِيدٌ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١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QuranTaha"/>
              </a:rPr>
              <a:t>فِي لَوْحٍ مَحْفُوظٍ 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﴿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٢٢</a:t>
            </a:r>
            <a:r>
              <a:rPr b="1" lang="ar-SA" sz="2000" spc="-1" strike="noStrike">
                <a:solidFill>
                  <a:srgbClr val="008000"/>
                </a:solidFill>
                <a:latin typeface="Traditional Arabic"/>
                <a:cs typeface="Traditional Arabic"/>
              </a:rPr>
              <a:t>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62.MP3" descr=""/>
          <p:cNvPicPr/>
          <p:nvPr/>
        </p:nvPicPr>
        <p:blipFill>
          <a:blip r:embed="rId2"/>
          <a:stretch/>
        </p:blipFill>
        <p:spPr>
          <a:xfrm>
            <a:off x="1035828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9827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1980720" y="2921040"/>
            <a:ext cx="51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اختار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ound Same Side Corner Rectangle 2"/>
          <p:cNvSpPr/>
          <p:nvPr/>
        </p:nvSpPr>
        <p:spPr>
          <a:xfrm>
            <a:off x="976320" y="3732120"/>
            <a:ext cx="3166920" cy="14115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سیاق د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آیات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12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تا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3313080" y="1571760"/>
            <a:ext cx="2473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2  Badr"/>
              </a:rPr>
              <a:t>سوره مبارک برو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 Same Side Corner Rectangle 4"/>
          <p:cNvSpPr/>
          <p:nvPr/>
        </p:nvSpPr>
        <p:spPr>
          <a:xfrm>
            <a:off x="5000760" y="3686040"/>
            <a:ext cx="3168360" cy="1409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2  Badr"/>
              </a:rPr>
              <a:t>سیاق ا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آیات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 تا 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2  Badr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متصل کننده پیکان مستقیم 5"/>
          <p:cNvCxnSpPr>
            <a:stCxn id="57" idx="2"/>
            <a:endCxn id="56" idx="4"/>
          </p:cNvCxnSpPr>
          <p:nvPr/>
        </p:nvCxnSpPr>
        <p:spPr>
          <a:xfrm flipH="1">
            <a:off x="2558520" y="2928600"/>
            <a:ext cx="199152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متصل کننده پیکان مستقیم 6"/>
          <p:cNvCxnSpPr>
            <a:stCxn id="57" idx="2"/>
            <a:endCxn id="58" idx="4"/>
          </p:cNvCxnSpPr>
          <p:nvPr/>
        </p:nvCxnSpPr>
        <p:spPr>
          <a:xfrm>
            <a:off x="4549680" y="2928600"/>
            <a:ext cx="2036160" cy="75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451600" y="192564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500200" y="3952800"/>
            <a:ext cx="4143600" cy="210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آیات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ا </a:t>
            </a:r>
            <a:r>
              <a:rPr b="1" lang="fa-IR" sz="6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تصویر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1026000" y="2874960"/>
            <a:ext cx="70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یاق او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1:41:04Z</dcterms:created>
  <dc:creator>YAALI</dc:creator>
  <dc:description/>
  <dc:language>en-US</dc:language>
  <cp:lastModifiedBy>ALI</cp:lastModifiedBy>
  <dcterms:modified xsi:type="dcterms:W3CDTF">2011-11-16T21:21:09Z</dcterms:modified>
  <cp:revision>51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