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68F8-599B-4C52-ADB3-9C1BF9173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نگهدارنده مکان شماره اسلاید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8197-22E1-4E2C-900B-3B2B9401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722-7685-4B18-9A36-75311A88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8F1-820E-489F-A4AE-0506DB0B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651-8600-4D69-A19B-6F319DB8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CA7-A779-4F39-9977-51FB7653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360-D0E2-412E-BBE3-698240A1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57F-8291-416D-82F7-DCB5DF6E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D62-674D-409E-B274-EFC1552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20C-893C-46F8-9FE2-1C41EBFD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4EF-A157-4640-87CF-2E04C66C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BB3-53A3-47D8-8199-44B09714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D91-98DE-40E7-A6DC-5E65CEB4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39C-C345-4418-A771-788E1836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892D-6B10-4625-86FD-6E5F8DEEE73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4" descr=""/>
          <p:cNvPicPr/>
          <p:nvPr/>
        </p:nvPicPr>
        <p:blipFill>
          <a:blip r:embed="rId2"/>
          <a:stretch/>
        </p:blipFill>
        <p:spPr>
          <a:xfrm>
            <a:off x="-6480" y="4248000"/>
            <a:ext cx="3286080" cy="2597400"/>
          </a:xfrm>
          <a:prstGeom prst="rect">
            <a:avLst/>
          </a:prstGeom>
          <a:ln w="0">
            <a:noFill/>
          </a:ln>
        </p:spPr>
      </p:pic>
      <p:pic>
        <p:nvPicPr>
          <p:cNvPr id="52" name="besm.wav" descr=""/>
          <p:cNvPicPr/>
          <p:nvPr/>
        </p:nvPicPr>
        <p:blipFill>
          <a:blip r:embed="rId3"/>
          <a:stretch/>
        </p:blipFill>
        <p:spPr>
          <a:xfrm>
            <a:off x="104299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6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2286000" y="24591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584360" y="1916280"/>
            <a:ext cx="59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هشدار و انذار درباره عیب جویی و بدگویی برخاسته از دنیاگرای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214280" y="3789360"/>
            <a:ext cx="6715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وای بر هر عیب جوی بدگویی که مالی گرد آورده و گم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می کند که مالش جاودانش کرده است.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منتظر عذ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شکننده و سوزان خدا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2928960" y="5516640"/>
            <a:ext cx="33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فِي عَمَدٍ مُمَدَّدَةٍ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٩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570040" y="10717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بِسْمِ اللَّهِ الرَّحْمَنِ الرَّحِ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411080" y="192888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يْلٌ لِكُلِّ هُمَزَةٍ لُمَزَةٍ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733320" y="192888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لَّذِي جَمَعَ مَالا وَعَدَّدَهُ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73480" y="2824200"/>
            <a:ext cx="41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َ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حْسَبُ أَنَّ مَالَهُ أَخْلَدَهُ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74200" y="2844720"/>
            <a:ext cx="41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كَلا لَيُنْبَذَنَّ فِي الْحُطَمَةِ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63760" y="37018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مَا أَدْرَاكَ مَا الْحُطَمَةُ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156200" y="4643280"/>
            <a:ext cx="41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لَّتِي تَطَّلِعُ عَلَى الأفْئِدَةِ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921960" y="4643280"/>
            <a:ext cx="35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إِنَّهَا عَلَيْهِمْ مُؤْصَدَةٌ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٨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1301760" y="3701880"/>
            <a:ext cx="32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QuranTaha"/>
              </a:rPr>
              <a:t>نَارُ اللَّهِ الْمُوقَدَةُ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281.MP3" descr=""/>
          <p:cNvPicPr/>
          <p:nvPr/>
        </p:nvPicPr>
        <p:blipFill>
          <a:blip r:embed="rId2"/>
          <a:stretch/>
        </p:blipFill>
        <p:spPr>
          <a:xfrm>
            <a:off x="1107288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5812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2000160" y="5559480"/>
            <a:ext cx="51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(normal text)"/>
                <a:cs typeface="2  Badr"/>
              </a:rPr>
              <a:t>هرگونه خودبرتربيني را در ما نابود گرد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213000" y="714240"/>
            <a:ext cx="26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55640" y="2171880"/>
            <a:ext cx="58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(normal text)"/>
                <a:cs typeface="2  Badr"/>
              </a:rPr>
              <a:t>ما را از آتش سوزان جهنم كه بر دل و جان دنياپرستان چيره خواهد شد، رهايي بخ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400480" y="403056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212760" y="774720"/>
            <a:ext cx="86137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1214280" y="5143680"/>
            <a:ext cx="6626520" cy="246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Lotus"/>
              </a:rPr>
              <a:t>از همین رو به راحتی از دیگران عیب جویی کرده و درباره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Lotus"/>
              </a:rPr>
              <a:t>آنان، به طور آشکار و پنهان بدگویی می کنند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58920" y="1994040"/>
            <a:ext cx="6626160" cy="246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Lotus"/>
              </a:rPr>
              <a:t>عده ای مال دنیا را جمع کرده و پی درپی آن را می شمرند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Lotus"/>
              </a:rPr>
              <a:t>گمان می کنند که مالشان، جاودانه شان کرده است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4280" y="3571920"/>
            <a:ext cx="6643800" cy="246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Lotus"/>
              </a:rPr>
              <a:t>در نگاه آنها، مال مایه جاودانگی است، پس هر کسی که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Lotus"/>
              </a:rPr>
              <a:t>دستش از مال دنیا تهی باشد، محکوم به نابودی اس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2928960" y="5516640"/>
            <a:ext cx="33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فِي عَمَدٍ مُمَدَّدَةٍ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٩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70040" y="10717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بِسْمِ اللَّهِ الرَّحْمَنِ الرَّحِ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411080" y="192888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يْلٌ لِكُلِّ هُمَزَةٍ لُمَزَةٍ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33320" y="192888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لَّذِي جَمَعَ مَالا وَعَدَّدَهُ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242600" y="2824200"/>
            <a:ext cx="40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حْسَبُ أَنَّ مَالَهُ أَخْلَدَهُ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74200" y="2844720"/>
            <a:ext cx="41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كَلا لَيُنْبَذَنَّ فِي الْحُطَمَةِ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163760" y="37018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مَا أَدْرَاكَ مَا الْحُطَمَةُ</a:t>
            </a: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156200" y="4643280"/>
            <a:ext cx="41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لَّتِي تَطَّلِعُ عَلَى الأفْئِدَةِ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921960" y="4643280"/>
            <a:ext cx="35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إِنَّهَا عَلَيْهِمْ مُؤْصَدَةٌ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٨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1301760" y="3701880"/>
            <a:ext cx="32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QuranTaha"/>
              </a:rPr>
              <a:t>نَارُ اللَّهِ الْمُوقَدَةُ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281.MP3" descr=""/>
          <p:cNvPicPr/>
          <p:nvPr/>
        </p:nvPicPr>
        <p:blipFill>
          <a:blip r:embed="rId2"/>
          <a:stretch/>
        </p:blipFill>
        <p:spPr>
          <a:xfrm>
            <a:off x="1107288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812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تصویر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3751200" y="642960"/>
            <a:ext cx="1589040" cy="1235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Badr"/>
              </a:rPr>
              <a:t>وَيْلٌ لِّكُلّ‏ِ هُمَزَةٍ لُّمَزَة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288040" y="2000160"/>
            <a:ext cx="2108160" cy="1332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Lotus"/>
              </a:rPr>
              <a:t>شرح و ریشه یاب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Badr"/>
              </a:rPr>
              <a:t>هُمَزَةٍ لُّمَزَة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994040" y="2000160"/>
            <a:ext cx="1865160" cy="1332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Lotus"/>
              </a:rPr>
              <a:t>تفصیل عذ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Badr"/>
              </a:rPr>
              <a:t>ویل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418440" y="3594240"/>
            <a:ext cx="1582560" cy="1395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Badr"/>
              </a:rPr>
              <a:t>الَّذِى جَمَعَ مَالاً وَ عَدَّدَه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699080" y="3594240"/>
            <a:ext cx="1584360" cy="1395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Badr"/>
              </a:rPr>
              <a:t>يحْسب أَنَّ مَالَهُ أَخْلَدَه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611360" y="3579840"/>
            <a:ext cx="2604960" cy="1395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Badr"/>
              </a:rPr>
              <a:t>كلاََّ  لَيُنبَذَنَّ فىِ الحُْطَمَة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Badr"/>
              </a:rPr>
              <a:t>وَ مَا أَدْرَئكَ مَا الحُْطَمَ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162240" y="5357880"/>
            <a:ext cx="2124000" cy="12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Badr"/>
              </a:rPr>
              <a:t>نَارُ اللَّهِ الْمُوقَدَةُ الَّتى تَطّلِعُ عَلى الأَفْئِدَة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71680" y="5357880"/>
            <a:ext cx="2108160" cy="12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B Badr"/>
              </a:rPr>
              <a:t>إِنهَا عَلَيهِم مُّؤْصدَةٌ فى عَمَدٍ مُّمَدَّدَة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متصل کننده پیکان مستقیم 11"/>
          <p:cNvCxnSpPr>
            <a:stCxn id="80" idx="1"/>
            <a:endCxn id="82" idx="0"/>
          </p:cNvCxnSpPr>
          <p:nvPr/>
        </p:nvCxnSpPr>
        <p:spPr>
          <a:xfrm flipH="1">
            <a:off x="2925000" y="1259280"/>
            <a:ext cx="82620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متصل کننده پیکان مستقیم 15"/>
          <p:cNvCxnSpPr>
            <a:stCxn id="80" idx="3"/>
            <a:endCxn id="81" idx="0"/>
          </p:cNvCxnSpPr>
          <p:nvPr/>
        </p:nvCxnSpPr>
        <p:spPr>
          <a:xfrm>
            <a:off x="5339880" y="1260000"/>
            <a:ext cx="100260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متصل کننده پیکان مستقیم 17"/>
          <p:cNvCxnSpPr>
            <a:stCxn id="82" idx="2"/>
            <a:endCxn id="85" idx="0"/>
          </p:cNvCxnSpPr>
          <p:nvPr/>
        </p:nvCxnSpPr>
        <p:spPr>
          <a:xfrm flipH="1">
            <a:off x="2913840" y="3332160"/>
            <a:ext cx="1188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متصل کننده پیکان مستقیم 19"/>
          <p:cNvCxnSpPr>
            <a:stCxn id="81" idx="2"/>
            <a:endCxn id="84" idx="0"/>
          </p:cNvCxnSpPr>
          <p:nvPr/>
        </p:nvCxnSpPr>
        <p:spPr>
          <a:xfrm flipH="1">
            <a:off x="5490720" y="3332160"/>
            <a:ext cx="8517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متصل کننده پیکان مستقیم 21"/>
          <p:cNvCxnSpPr>
            <a:stCxn id="81" idx="2"/>
            <a:endCxn id="83" idx="0"/>
          </p:cNvCxnSpPr>
          <p:nvPr/>
        </p:nvCxnSpPr>
        <p:spPr>
          <a:xfrm>
            <a:off x="6342120" y="3332160"/>
            <a:ext cx="86760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متصل کننده پیکان مستقیم 23"/>
          <p:cNvCxnSpPr>
            <a:stCxn id="85" idx="2"/>
            <a:endCxn id="87" idx="0"/>
          </p:cNvCxnSpPr>
          <p:nvPr/>
        </p:nvCxnSpPr>
        <p:spPr>
          <a:xfrm flipH="1">
            <a:off x="1625400" y="4974840"/>
            <a:ext cx="128952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متصل کننده پیکان مستقیم 25"/>
          <p:cNvCxnSpPr>
            <a:stCxn id="85" idx="2"/>
            <a:endCxn id="86" idx="0"/>
          </p:cNvCxnSpPr>
          <p:nvPr/>
        </p:nvCxnSpPr>
        <p:spPr>
          <a:xfrm>
            <a:off x="2913120" y="4974840"/>
            <a:ext cx="131148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4:50Z</dcterms:modified>
  <cp:revision>41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