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D4B-C5F4-48D9-88CB-8B4FD71A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A59-2813-472C-B4C4-05E786EA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EE2-375A-4C58-84E5-2A0904E7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DC3-ABAF-471F-8E38-7E6955DD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013-4A4F-4BBE-8057-EA58A0EB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E99-2B39-47C0-8547-5254F724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0F2-C8CB-4A76-9DA7-B4CD00E9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40F-62B6-4405-BF48-BCC2A488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A92-7A44-4B81-81F0-B8FE00C9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691-4819-412E-90CC-92510C5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3D4-A51A-49D7-BF68-FD56952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B7F-832D-41B3-85D3-87EB7EBB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BDC3-73DF-4533-A653-0826D8989A0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besm.wav" descr=""/>
          <p:cNvPicPr/>
          <p:nvPr/>
        </p:nvPicPr>
        <p:blipFill>
          <a:blip r:embed="rId2"/>
          <a:stretch/>
        </p:blipFill>
        <p:spPr>
          <a:xfrm>
            <a:off x="1107288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4" descr=""/>
          <p:cNvPicPr/>
          <p:nvPr/>
        </p:nvPicPr>
        <p:blipFill>
          <a:blip r:embed="rId3"/>
          <a:stretch/>
        </p:blipFill>
        <p:spPr>
          <a:xfrm>
            <a:off x="-274680" y="5224320"/>
            <a:ext cx="9564840" cy="162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IranNastaliq"/>
                <a:cs typeface="IranNastaliq"/>
              </a:rPr>
              <a:t>بسم اللّه الرّحمن الرّحی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5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857160" y="1157400"/>
            <a:ext cx="742968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وَالطَّارِقِ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الطَّارِقُ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0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النَّجْمُ الثَّاقِبُ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إِنْ كُلُّ نَفْسٍ لَمَّا عَلَيْهَا حَافِظٌ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0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لْيَنْظُرِ الإنْسَانُ مِمَّ خُلِقَ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خُلِقَ مِنْ مَاءٍ دَافِقٍ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0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يَخْرُجُ مِنْ بَيْنِ الصُّلْبِ وَالتَّرَائِبِ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عَلَى رَجْعِهِ لَقَادِرٌ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0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تُبْلَى السَّرَائِرُ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QuranTaha"/>
              </a:rPr>
              <a:t>فَمَا لَهُ مِنْ قُوَّةٍ وَلا نَاصِرٍ 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30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1-10.wav" descr=""/>
          <p:cNvPicPr/>
          <p:nvPr/>
        </p:nvPicPr>
        <p:blipFill>
          <a:blip r:embed="rId2"/>
          <a:stretch/>
        </p:blipFill>
        <p:spPr>
          <a:xfrm>
            <a:off x="1100124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6795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262440" y="2921040"/>
            <a:ext cx="86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1928880" y="2643120"/>
            <a:ext cx="5213160" cy="1556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تردید در چگونگی حفظ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2  Lotus"/>
              </a:rPr>
              <a:t>و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Lotus"/>
              </a:rPr>
              <a:t>بازگردانده شدن انس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7" name="Rectangle 3"/>
          <p:cNvSpPr/>
          <p:nvPr/>
        </p:nvSpPr>
        <p:spPr>
          <a:xfrm>
            <a:off x="4643280" y="1428840"/>
            <a:ext cx="34452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وَ السَّمَاءِ وَ الطَّارِقِ * و مَا أَدْرَئكَ مَاالطَّارِ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النَّجْمُ الثَّاقِب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643720" y="3071880"/>
            <a:ext cx="1428480" cy="971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إِن كلُ‏ُّ نَفْسٍ لمََّّا عَلَيهَْا حَافِظ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143000" y="4429080"/>
            <a:ext cx="307188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يَوْمَ تُبْلىَ السَّرَائر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فَمَا لَهُ مِن قُوَّةٍ وَ لَا نَاصِر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000080" y="1428840"/>
            <a:ext cx="335772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فَلْيَنظُرِ الْانسَانُ  مِمَّ خُلِقَ * خُلِقَ مِنْ مَاء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ea typeface="2  Badr"/>
              </a:rPr>
              <a:t> دَافِقٍ * يَخْرُجُ مِنْ بَيْنِ الصُّلْبِ وَالتَّرَائِب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785960" y="3071880"/>
            <a:ext cx="1785960" cy="97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2  Badr"/>
              </a:rPr>
              <a:t>إِنَّهُ عَلىَ‏ رَجْعِهِ لَقَادِر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8"/>
          <p:cNvCxnSpPr>
            <a:stCxn id="80" idx="2"/>
            <a:endCxn id="81" idx="0"/>
          </p:cNvCxnSpPr>
          <p:nvPr/>
        </p:nvCxnSpPr>
        <p:spPr>
          <a:xfrm flipH="1">
            <a:off x="2677320" y="257148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9"/>
          <p:cNvCxnSpPr>
            <a:stCxn id="78" idx="1"/>
            <a:endCxn id="81" idx="3"/>
          </p:cNvCxnSpPr>
          <p:nvPr/>
        </p:nvCxnSpPr>
        <p:spPr>
          <a:xfrm flipH="1">
            <a:off x="3571200" y="355644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10"/>
          <p:cNvCxnSpPr>
            <a:stCxn id="81" idx="2"/>
            <a:endCxn id="79" idx="0"/>
          </p:cNvCxnSpPr>
          <p:nvPr/>
        </p:nvCxnSpPr>
        <p:spPr>
          <a:xfrm>
            <a:off x="2676960" y="4044600"/>
            <a:ext cx="252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11"/>
          <p:cNvCxnSpPr>
            <a:stCxn id="77" idx="2"/>
            <a:endCxn id="78" idx="0"/>
          </p:cNvCxnSpPr>
          <p:nvPr/>
        </p:nvCxnSpPr>
        <p:spPr>
          <a:xfrm flipH="1">
            <a:off x="6357600" y="2571480"/>
            <a:ext cx="864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Rectangle 1"/>
          <p:cNvSpPr/>
          <p:nvPr/>
        </p:nvSpPr>
        <p:spPr>
          <a:xfrm>
            <a:off x="9858240" y="848520"/>
            <a:ext cx="7358040" cy="521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  <a:cs typeface="QuranTaha"/>
              </a:rPr>
              <a:t>إِنَّا زَینَّا السَّمَاءَ الدُّنْیا بِزِینَةٍ الْكَوَاكِبِ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«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6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»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QuranTaha"/>
              </a:rPr>
              <a:t> 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  <a:cs typeface="QuranTaha"/>
              </a:rPr>
              <a:t>وَحِفْظًا مِنْ كُلِّ شَیطَانٍ مَارِدٍ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«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7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»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QuranTaha"/>
              </a:rPr>
              <a:t> 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  <a:cs typeface="QuranTaha"/>
              </a:rPr>
              <a:t>لَا یسَّمَّعُونَ إِلَى الْمَلَإِ الْأَعْلَى وَیقْذَفُونَ مِنْ كُلِّ جَانِبٍ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«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8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»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QuranTaha"/>
              </a:rPr>
              <a:t> 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  <a:cs typeface="QuranTaha"/>
              </a:rPr>
              <a:t>دُحُورًا وَلَهُمْ عَذَابٌ وَاصِبٌ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«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9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»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  <a:ea typeface="QuranTaha"/>
              </a:rPr>
              <a:t> إِلَّا مَنْ خَطِفَ الْخَطْفَةَ فَأَتْبَعَهُ شِهَابٌ ثَاقِبٌ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«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10</a:t>
            </a:r>
            <a:r>
              <a:rPr b="0" lang="fa-IR" sz="3400" spc="-1" strike="noStrike">
                <a:solidFill>
                  <a:srgbClr val="007635"/>
                </a:solidFill>
                <a:latin typeface="Calibri"/>
                <a:ea typeface="QuranTaha"/>
              </a:rPr>
              <a:t>»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QuranTaha"/>
              </a:rPr>
              <a:t> </a:t>
            </a:r>
            <a:r>
              <a:rPr b="0" lang="fa-IR" sz="2000" spc="-1" strike="noStrike">
                <a:solidFill>
                  <a:srgbClr val="ff0000"/>
                </a:solidFill>
                <a:latin typeface="Calibri"/>
                <a:ea typeface="QuranTaha"/>
              </a:rPr>
              <a:t>(سوره صافّات، آیات </a:t>
            </a:r>
            <a:r>
              <a:rPr b="0" lang="fa-IR" sz="2000" spc="-1" strike="noStrike">
                <a:solidFill>
                  <a:srgbClr val="ff0000"/>
                </a:solidFill>
                <a:latin typeface="Calibri"/>
                <a:ea typeface="QuranTaha"/>
              </a:rPr>
              <a:t>6</a:t>
            </a:r>
            <a:r>
              <a:rPr b="0" lang="fa-IR" sz="2000" spc="-1" strike="noStrike">
                <a:solidFill>
                  <a:srgbClr val="ff0000"/>
                </a:solidFill>
                <a:latin typeface="Calibri"/>
                <a:ea typeface="QuranTaha"/>
              </a:rPr>
              <a:t> تا </a:t>
            </a:r>
            <a:r>
              <a:rPr b="0" lang="fa-IR" sz="2000" spc="-1" strike="noStrike">
                <a:solidFill>
                  <a:srgbClr val="ff0000"/>
                </a:solidFill>
                <a:latin typeface="Calibri"/>
                <a:ea typeface="QuranTaha"/>
              </a:rPr>
              <a:t>10</a:t>
            </a:r>
            <a:r>
              <a:rPr b="0" lang="fa-IR" sz="2000" spc="-1" strike="noStrike">
                <a:solidFill>
                  <a:srgbClr val="ff0000"/>
                </a:solidFill>
                <a:latin typeface="Calibri"/>
                <a:ea typeface="QuranTah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7341E-007 L -0.98038 -0.00347 E">
                                      <p:cBhvr>
                                        <p:cTn id="16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1490760" y="3645000"/>
            <a:ext cx="6224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خدا بر نفس هر انسانی نگهبانی گماشته است تا او را حفظ کند و قدرت بازگرداندن انسان را دا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-3802680" y="1916280"/>
            <a:ext cx="1674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قدرت خدا بر حفظ و بازگرداندن انسان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286000" y="3936960"/>
            <a:ext cx="453852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785880" y="357192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إِنَّهُمْ يَكِيدُونَ كَيْدًا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٥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أَكِيدُ كَيْدًا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٦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14240" y="250020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إِنَّهُ لَقَوْلٌ فَصْلٌ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٣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مَا هُوَ بِالْهَزْلِ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٤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642960" y="135720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السَّمَاءِ ذَاتِ الرَّجْعِ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١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وَالأرْضِ ذَاتِ الصَّدْعِ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٢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785880" y="465948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QuranTaha"/>
              </a:rPr>
              <a:t>فَمَهِّلِ الْكَافِرِينَ أَمْهِلْهُمْ رُوَيْدًا 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١٧</a:t>
            </a:r>
            <a:r>
              <a:rPr b="1" lang="ar-SA" sz="3200" spc="-1" strike="noStrike">
                <a:solidFill>
                  <a:srgbClr val="007635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-17.wav" descr=""/>
          <p:cNvPicPr/>
          <p:nvPr/>
        </p:nvPicPr>
        <p:blipFill>
          <a:blip r:embed="rId2"/>
          <a:stretch/>
        </p:blipFill>
        <p:spPr>
          <a:xfrm>
            <a:off x="1085868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3086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48760" y="2921040"/>
            <a:ext cx="86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357200" y="2108160"/>
            <a:ext cx="6357960" cy="4572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بیان رسا و گویا و برهان قاطع قرآن در قدرت خدا بر حفظ و بازگرداندن انسان، کافران کوته فکر را به فکر مقابله با این سخن واداشته و از سر نیرنگ جدّیت و اتقان سخن خدا را زیر سؤال می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بر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4979880" y="1214280"/>
            <a:ext cx="2735280" cy="517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السَّمَاءِ ذَاتِ الرَّجْع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5"/>
          <p:cNvCxnSpPr>
            <a:stCxn id="112" idx="1"/>
            <a:endCxn id="113" idx="3"/>
          </p:cNvCxnSpPr>
          <p:nvPr/>
        </p:nvCxnSpPr>
        <p:spPr>
          <a:xfrm flipH="1">
            <a:off x="4233240" y="1962720"/>
            <a:ext cx="338760" cy="51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"/>
          <p:cNvSpPr/>
          <p:nvPr/>
        </p:nvSpPr>
        <p:spPr>
          <a:xfrm>
            <a:off x="4979880" y="2214720"/>
            <a:ext cx="2735280" cy="517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2  Badr"/>
              </a:rPr>
              <a:t>وَالأرْضِ ذَاتِ الصَّدْع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4572000" y="1214280"/>
            <a:ext cx="285840" cy="1500480"/>
          </a:xfrm>
          <a:custGeom>
            <a:avLst/>
            <a:gdLst>
              <a:gd name="textAreaLeft" fmla="*/ 182520 w 285840"/>
              <a:gd name="textAreaRight" fmla="*/ 286200 w 285840"/>
              <a:gd name="textAreaTop" fmla="*/ 47520 h 1500480"/>
              <a:gd name="textAreaBottom" fmla="*/ 1452960 h 150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0"/>
                  <a:pt x="10800" y="2200"/>
                </a:cubicBezTo>
                <a:lnTo>
                  <a:pt x="10800" y="8600"/>
                </a:lnTo>
                <a:cubicBezTo>
                  <a:pt x="10800" y="9700"/>
                  <a:pt x="5400" y="10800"/>
                  <a:pt x="0" y="10800"/>
                </a:cubicBezTo>
                <a:cubicBezTo>
                  <a:pt x="5400" y="10800"/>
                  <a:pt x="10800" y="11900"/>
                  <a:pt x="10800" y="13000"/>
                </a:cubicBezTo>
                <a:lnTo>
                  <a:pt x="10800" y="19400"/>
                </a:lnTo>
                <a:cubicBezTo>
                  <a:pt x="10800" y="20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500120" y="2214720"/>
            <a:ext cx="2733840" cy="517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مَا هُوَ بِالهَْزْل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500120" y="1214280"/>
            <a:ext cx="2733840" cy="517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إِنَّهُ لَقَوْلٌ فَصْل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rot="5400000">
            <a:off x="4468680" y="-182520"/>
            <a:ext cx="277920" cy="6215040"/>
          </a:xfrm>
          <a:custGeom>
            <a:avLst/>
            <a:gdLst>
              <a:gd name="textAreaLeft" fmla="*/ 0 w 277920"/>
              <a:gd name="textAreaRight" fmla="*/ 100440 w 277920"/>
              <a:gd name="textAreaTop" fmla="*/ 80280 h 6215040"/>
              <a:gd name="textAreaBottom" fmla="*/ 6134760 h 621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7"/>
                  <a:pt x="10800" y="893"/>
                </a:cubicBezTo>
                <a:lnTo>
                  <a:pt x="10800" y="9907"/>
                </a:lnTo>
                <a:cubicBezTo>
                  <a:pt x="10800" y="10354"/>
                  <a:pt x="16200" y="10800"/>
                  <a:pt x="21600" y="10800"/>
                </a:cubicBezTo>
                <a:cubicBezTo>
                  <a:pt x="16200" y="10800"/>
                  <a:pt x="10800" y="11247"/>
                  <a:pt x="10800" y="11693"/>
                </a:cubicBezTo>
                <a:lnTo>
                  <a:pt x="10800" y="20707"/>
                </a:lnTo>
                <a:cubicBezTo>
                  <a:pt x="10800" y="2115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0120" y="3143160"/>
            <a:ext cx="6286680" cy="590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إِنهَُّمْ  (متّهم کنندگان سخن قرآن به هزل) يَكِيدُونَ كَيْد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500120" y="4143240"/>
            <a:ext cx="6286680" cy="571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وَ أَكِيدُ كَيْد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500120" y="5072040"/>
            <a:ext cx="6286680" cy="571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فَمَهِّلِ الْكَافِرِينَ أَمْهِلْهُمْ رُوَيْدَ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AutoShape 14"/>
          <p:cNvCxnSpPr>
            <a:stCxn id="118" idx="0"/>
            <a:endCxn id="117" idx="2"/>
          </p:cNvCxnSpPr>
          <p:nvPr/>
        </p:nvCxnSpPr>
        <p:spPr>
          <a:xfrm flipV="1">
            <a:off x="4642200" y="3734640"/>
            <a:ext cx="2520" cy="4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AutoShape 15"/>
          <p:cNvCxnSpPr>
            <a:stCxn id="118" idx="2"/>
            <a:endCxn id="119" idx="0"/>
          </p:cNvCxnSpPr>
          <p:nvPr/>
        </p:nvCxnSpPr>
        <p:spPr>
          <a:xfrm flipH="1">
            <a:off x="4642560" y="4716360"/>
            <a:ext cx="252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5"/>
          <p:cNvCxnSpPr>
            <a:stCxn id="112" idx="1"/>
            <a:endCxn id="115" idx="3"/>
          </p:cNvCxnSpPr>
          <p:nvPr/>
        </p:nvCxnSpPr>
        <p:spPr>
          <a:xfrm flipH="1" flipV="1">
            <a:off x="4233240" y="1472400"/>
            <a:ext cx="33876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6"/>
          <p:cNvCxnSpPr>
            <a:stCxn id="110" idx="2"/>
            <a:endCxn id="114" idx="0"/>
          </p:cNvCxnSpPr>
          <p:nvPr/>
        </p:nvCxnSpPr>
        <p:spPr>
          <a:xfrm flipH="1">
            <a:off x="6346440" y="1731600"/>
            <a:ext cx="216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928800" y="2622600"/>
            <a:ext cx="72151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Calibri"/>
                <a:cs typeface="2  Badr"/>
              </a:rPr>
              <a:t>کافران که منکر حفظ انسان و قدرت خدا بر بازگرداندن او هستند، در فضایی آمیخته با نیرنگ، انکار خود را ادامه میدهند و سخنان خدا را جدّی نمیدانند. بدانند که سخنان قرآن، حق را از باطل جدا میکند و شوخی نیست و فرصتِ داده شده به ایشان، فرصتی اندک و از باب مکر خدا دربرابر مکر آنان است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-4039560" y="1371600"/>
            <a:ext cx="1722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اسخ نیرنگ منکرانِ حفظ و بازگرداندن انس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1000080" y="3846600"/>
            <a:ext cx="7143840" cy="17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Lotus"/>
              </a:rPr>
              <a:t>مقابله با برهان خدا در قدرت بر حفظ و بازگرداندن انسان، از طریق زیر سؤال بردن جدّیت و اتقان سخن خد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003320" y="2185920"/>
            <a:ext cx="71341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 تردید در چگونگی حفظ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و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Lotus"/>
              </a:rPr>
              <a:t>بازگردانده شدن انسا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_s1053"/>
          <p:cNvSpPr/>
          <p:nvPr/>
        </p:nvSpPr>
        <p:spPr>
          <a:xfrm>
            <a:off x="4643280" y="3429000"/>
            <a:ext cx="3714840" cy="221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قدرت خدا بر حفظ و بازگرداندن انس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خدا بر نفس هر انسانی نگهبانی گماشته است تا او را حفظ کند و قدرت بازگرداندن انسان را دار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_s1059"/>
          <p:cNvSpPr/>
          <p:nvPr/>
        </p:nvSpPr>
        <p:spPr>
          <a:xfrm>
            <a:off x="785880" y="3429000"/>
            <a:ext cx="3714840" cy="221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1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–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پاسخ نیرنگ منکرانِ حفظ و بازگرداندن انس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کافران که منکر حفظ انسان و قدرت خدا بر بازگرداندن او هستند، در فضایی آمیخته با نیرنگ، انکار خود را ادامه میدهند و سخنان خدا را جدّی نمی دانند. بدانند که سخنان قرآن، حق را از باطل جدا می کند و شوخی نیست و فرصتِ داده شده به ایشان، فرصتی اندک و از باب مکر خدا دربرابر مکر آنان است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_s1065"/>
          <p:cNvSpPr/>
          <p:nvPr/>
        </p:nvSpPr>
        <p:spPr>
          <a:xfrm>
            <a:off x="785880" y="1143000"/>
            <a:ext cx="7572240" cy="1785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تأکید بر قدرت خدا برای حفظ و بازگرداندن انسان و هشدار به منکران مکّ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بی تردید خدا بر هر نفسی حافظی گماشته است که او را حفظ می کند و قدرت بازگرداندن انسان را نیز دار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منکران این حقیقت بدانند که این سخن، جدّی است و فرصتِ داده شده به ایشان، از باب مکر خدا دربرابر مکر آنان اس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متصل کننده پیکان مستقیم 12"/>
          <p:cNvCxnSpPr>
            <a:stCxn id="137" idx="0"/>
            <a:endCxn id="139" idx="2"/>
          </p:cNvCxnSpPr>
          <p:nvPr/>
        </p:nvCxnSpPr>
        <p:spPr>
          <a:xfrm flipH="1" flipV="1">
            <a:off x="4571640" y="2928240"/>
            <a:ext cx="192960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متصل کننده پیکان مستقیم 14"/>
          <p:cNvCxnSpPr>
            <a:stCxn id="138" idx="0"/>
            <a:endCxn id="139" idx="2"/>
          </p:cNvCxnSpPr>
          <p:nvPr/>
        </p:nvCxnSpPr>
        <p:spPr>
          <a:xfrm flipV="1">
            <a:off x="2643120" y="2928240"/>
            <a:ext cx="192960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536400" y="933480"/>
            <a:ext cx="7974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857160" y="1165320"/>
            <a:ext cx="7429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وَالطَّارِق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الطَّارِقُ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النَّجْمُ الثَّاقِبُ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ْ كُلُّ نَفْسٍ لَمَّا عَلَيْهَا حَافِظٌ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لْيَنْظُرِ الإنْسَانُ مِمَّ خُلِق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خُلِقَ مِنْ مَاءٍ دَافِقٍ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يَخْرُجُ مِنْ بَيْنِ الصُّلْبِ وَالتَّرَائِب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عَلَى رَجْعِهِ لَقَادِرٌ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تُبْلَى السَّرَائِرُ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مَا لَهُ مِنْ قُوَّةٍ وَلا نَاصِرٍ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ذَاتِ الرَّجْع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أرْضِ ذَاتِ الصَّدْع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لَقَوْلٌ فَصْلٌ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هُوَ بِالْهَزْل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مْ يَكِيدُونَ كَيْدً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أَكِيدُ كَيْدً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مَهِّلِ الْكَافِرِينَ أَمْهِلْهُمْ رُوَيْدً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63.MP3" descr=""/>
          <p:cNvPicPr/>
          <p:nvPr/>
        </p:nvPicPr>
        <p:blipFill>
          <a:blip r:embed="rId2"/>
          <a:stretch/>
        </p:blipFill>
        <p:spPr>
          <a:xfrm>
            <a:off x="1092996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0034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3897360" y="3178080"/>
            <a:ext cx="1020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326680" y="1106640"/>
            <a:ext cx="395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28800" y="2143080"/>
            <a:ext cx="72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2  Lotus"/>
              </a:rPr>
              <a:t>پرده لجاجت و عناد را از قلبهای ما برگیر تا سخن حق تو را شنیده و با دل و جان آن را بپذیریم</a:t>
            </a:r>
            <a:r>
              <a:rPr b="1" lang="fa-IR" sz="2400" spc="-1" strike="noStrike">
                <a:solidFill>
                  <a:srgbClr val="000000"/>
                </a:solidFill>
                <a:latin typeface="(normal text)"/>
                <a:ea typeface="2  Lot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28800" y="437184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2  Lotus"/>
              </a:rPr>
              <a:t>توفیق انس با قرآن، این کلام استوار متقن را به ما ارزانی دار، تا همواره ایمان خود را با آن کامل کنیم و  راه را بر نفوذ غفلت  ببندی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857160" y="1165320"/>
            <a:ext cx="7429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وَالطَّارِق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الطَّارِقُ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٢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النَّجْمُ الثَّاقِبُ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٣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ْ كُلُّ نَفْسٍ لَمَّا عَلَيْهَا حَافِظٌ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٤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لْيَنْظُرِ الإنْسَانُ مِمَّ خُلِقَ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٥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خُلِقَ مِنْ مَاءٍ دَافِقٍ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٦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يَخْرُجُ مِنْ بَيْنِ الصُّلْبِ وَالتَّرَائِب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٧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عَلَى رَجْعِهِ لَقَادِرٌ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٨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يَوْمَ تُبْلَى السَّرَائِرُ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٩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مَا لَهُ مِنْ قُوَّةٍ وَلا نَاصِرٍ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ذَاتِ الرَّجْع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أرْضِ ذَاتِ الصَّدْع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لَقَوْلٌ فَصْلٌ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هُوَ بِالْهَزْلِ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مْ يَكِيدُونَ كَيْدً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أَكِيدُ كَيْدً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فَمَهِّلِ الْكَافِرِينَ أَمْهِلْهُمْ رُوَيْدًا 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400" spc="-1" strike="noStrike">
                <a:solidFill>
                  <a:srgbClr val="007635"/>
                </a:solidFill>
                <a:latin typeface="Traditional Arabic"/>
                <a:cs typeface="Traditional Arabic"/>
              </a:rPr>
              <a:t>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263.MP3" descr=""/>
          <p:cNvPicPr/>
          <p:nvPr/>
        </p:nvPicPr>
        <p:blipFill>
          <a:blip r:embed="rId2"/>
          <a:stretch/>
        </p:blipFill>
        <p:spPr>
          <a:xfrm>
            <a:off x="1092996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003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ound Same Side Corner Rectangle 2"/>
          <p:cNvSpPr/>
          <p:nvPr/>
        </p:nvSpPr>
        <p:spPr>
          <a:xfrm>
            <a:off x="900000" y="3732120"/>
            <a:ext cx="3167280" cy="13874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د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3143160" y="1571760"/>
            <a:ext cx="2857680" cy="11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وره مبارکه طار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 Same Side Corner Rectangle 4"/>
          <p:cNvSpPr/>
          <p:nvPr/>
        </p:nvSpPr>
        <p:spPr>
          <a:xfrm>
            <a:off x="5094360" y="3686040"/>
            <a:ext cx="3168720" cy="13860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ا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متصل کننده پیکان مستقیم 5"/>
          <p:cNvCxnSpPr>
            <a:stCxn id="58" idx="2"/>
            <a:endCxn id="57" idx="4"/>
          </p:cNvCxnSpPr>
          <p:nvPr/>
        </p:nvCxnSpPr>
        <p:spPr>
          <a:xfrm flipH="1">
            <a:off x="2483640" y="2760840"/>
            <a:ext cx="2088360" cy="9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متصل کننده پیکان مستقیم 6"/>
          <p:cNvCxnSpPr>
            <a:stCxn id="58" idx="2"/>
            <a:endCxn id="59" idx="4"/>
          </p:cNvCxnSpPr>
          <p:nvPr/>
        </p:nvCxnSpPr>
        <p:spPr>
          <a:xfrm>
            <a:off x="4572000" y="2760840"/>
            <a:ext cx="2107440" cy="9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571840" y="3936960"/>
            <a:ext cx="398772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1:21Z</dcterms:modified>
  <cp:revision>94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