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875E-B60C-4878-ACD3-DE760D487E9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تدبر در سوره مبارکه نص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ED7A-DD4F-45B2-BC4D-4ABC3AA2E21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743B-0C78-4C88-8436-FB4D690D0EA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AF03-F167-4596-BAE5-3EA678545369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426-83CB-40EA-B9FE-4CEBF75AEB1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2EA-2352-4914-A052-EB47ABB3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C8B-9D3A-40A0-A3A0-F3F43F63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552-81FC-4DEC-BFEC-17027A96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CB8-26A0-427C-AD8F-7B14DF2E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476-05B9-42C4-9F7E-5C943CCE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CD1-BB03-406D-AF31-87B3FA57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BC9-F97C-4258-84AC-4F491999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CCE-E274-4CB4-8886-014AFB09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C41-6A08-4D67-9CC1-828D092B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528-4EFC-45D8-AFDB-FEDCF602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874-A9A7-411E-95CB-784A129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395-1875-4F51-9FF9-4B276E4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15D7-091C-4E46-8335-07051B2DB71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عکس 4" descr="besm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5" descr=""/>
          <p:cNvPicPr/>
          <p:nvPr/>
        </p:nvPicPr>
        <p:blipFill>
          <a:blip r:embed="rId2"/>
          <a:stretch/>
        </p:blipFill>
        <p:spPr>
          <a:xfrm>
            <a:off x="762120" y="5626080"/>
            <a:ext cx="7596000" cy="1390680"/>
          </a:xfrm>
          <a:prstGeom prst="rect">
            <a:avLst/>
          </a:prstGeom>
          <a:ln w="0">
            <a:noFill/>
          </a:ln>
        </p:spPr>
      </p:pic>
      <p:pic>
        <p:nvPicPr>
          <p:cNvPr id="50" name="besm.wav" descr=""/>
          <p:cNvPicPr/>
          <p:nvPr/>
        </p:nvPicPr>
        <p:blipFill>
          <a:blip r:embed="rId3"/>
          <a:stretch/>
        </p:blipFill>
        <p:spPr>
          <a:xfrm>
            <a:off x="1092996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0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573.00003051758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1989000" y="2921040"/>
            <a:ext cx="516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2286000" y="1268280"/>
            <a:ext cx="457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IranNastaliq"/>
                <a:cs typeface="IranNastaliq"/>
              </a:rPr>
              <a:t>وظایف مهم رهبر جامعه اسلامی (و پیروان او) در شرایط یاری الهی و پیروز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476360" y="31989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Elephant"/>
                <a:ea typeface="2  Badr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Elephant"/>
                <a:ea typeface="2  Badr"/>
              </a:rPr>
              <a:t>. تسبیح همراه با حمد پروردگار (اقرار به جلال و جمال خدا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51720" y="391644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Elephant"/>
                <a:ea typeface="2  Badr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Elephant"/>
                <a:ea typeface="2  Badr"/>
              </a:rPr>
              <a:t>. استغفار (اعتراف به نقص و عجز خوی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000000"/>
              </a:solidFill>
              <a:latin typeface="Neirizi"/>
              <a:ea typeface="Neiriz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898989"/>
              </a:solidFill>
              <a:latin typeface="Neirizi"/>
              <a:ea typeface="Neirizi"/>
            </a:endParaRPr>
          </a:p>
        </p:txBody>
      </p:sp>
      <p:pic>
        <p:nvPicPr>
          <p:cNvPr id="11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1285920" y="445608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سَبِّحْ بِحَمْدِ رَبِّكَ وَاسْتَغْفِرْهُ إِنَّهُ كَانَ تَوَّابًا</a:t>
            </a:r>
            <a:r>
              <a:rPr b="0" lang="ar-SA" sz="3200" spc="-1" strike="noStrike">
                <a:solidFill>
                  <a:srgbClr val="ff0000"/>
                </a:solidFill>
                <a:latin typeface="Traditional Arabic"/>
                <a:ea typeface="QuranTaha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214280" y="3195720"/>
            <a:ext cx="671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رَأَیتَ النَّاسَ یدْخُلُونَ فِی دِینِ اللَّهِ أَفْوَاجًا</a:t>
            </a:r>
            <a:r>
              <a:rPr b="0" lang="ar-SA" sz="3200" spc="-1" strike="noStrike">
                <a:solidFill>
                  <a:srgbClr val="ff0000"/>
                </a:solidFill>
                <a:latin typeface="Traditional Arabic"/>
                <a:ea typeface="QuranTaha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r>
              <a:rPr b="1" lang="fa-IR" sz="32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714760" y="785880"/>
            <a:ext cx="371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یم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428920" y="1967040"/>
            <a:ext cx="428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ذَا جَاءَ نَصْرُ اللَّهِ وَالْفَتْحُ</a:t>
            </a:r>
            <a:r>
              <a:rPr b="0" lang="ar-SA" sz="3200" spc="-1" strike="noStrike">
                <a:solidFill>
                  <a:srgbClr val="ff0000"/>
                </a:solidFill>
                <a:latin typeface="Traditional Arabic"/>
                <a:ea typeface="QuranTaha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r>
              <a:rPr b="1" lang="fa-IR" sz="32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87.MP3" descr=""/>
          <p:cNvPicPr/>
          <p:nvPr/>
        </p:nvPicPr>
        <p:blipFill>
          <a:blip r:embed="rId2"/>
          <a:stretch/>
        </p:blipFill>
        <p:spPr>
          <a:xfrm>
            <a:off x="1085868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3503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1357200" y="642960"/>
            <a:ext cx="6357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همه مي</a:t>
            </a:r>
            <a:r>
              <a:rPr b="1" lang="en-US" sz="2400" spc="-1" strike="noStrike">
                <a:solidFill>
                  <a:srgbClr val="000000"/>
                </a:solidFill>
                <a:latin typeface="(normal text)"/>
                <a:ea typeface="2  Badr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دانيم كه یاری و پيروزي به دست توست. با لطف و عنايت  بي</a:t>
            </a:r>
            <a:r>
              <a:rPr b="1" lang="en-US" sz="2400" spc="-1" strike="noStrike">
                <a:solidFill>
                  <a:srgbClr val="000000"/>
                </a:solidFill>
                <a:latin typeface="(normal text)"/>
                <a:ea typeface="2  Badr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كرانت، ما را در پيروزی بر دشمنان اسلام یاری فر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071720" y="2928960"/>
            <a:ext cx="70005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به هنگام پيروزي ما را از ياد خودت غافل نگردان تا بتوانيم به وظيفه خود در تسبيح و حمد و استغفار عمل كن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311040" y="585720"/>
            <a:ext cx="85219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873080" y="135720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جبهه اسلام در آستانه نصر الهی و فتح عظیم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981000" y="2173320"/>
            <a:ext cx="710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اینک بیش از هر زمانی باید از راه درستِ مواجهه با شرایط جدید آگاه بود تا یاری خدا و پیروزی بزرگ، موجب نزدیک تر شدن پیروزمندان به خدای متعالی گردد و به حجابی بین پیروزمندان و خدا بدل نشو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82800" y="4175280"/>
            <a:ext cx="710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رسول الله</a:t>
            </a:r>
            <a:r>
              <a:rPr b="1" lang="en-US" sz="2400" spc="-1" strike="noStrike">
                <a:solidFill>
                  <a:srgbClr val="000000"/>
                </a:solidFill>
                <a:latin typeface="(normal text)"/>
                <a:ea typeface="2  Badr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ar-SA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رهبر و پیشوای مسلمانان است و رفتارش در شرای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پیش رو، از همگان مهم</a:t>
            </a:r>
            <a:r>
              <a:rPr b="1" lang="fa-IR" sz="2400" spc="-1" strike="noStrike">
                <a:solidFill>
                  <a:srgbClr val="000000"/>
                </a:solidFill>
                <a:latin typeface="(normal text)"/>
                <a:ea typeface="2  Badr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تر</a:t>
            </a:r>
            <a:r>
              <a:rPr b="1" lang="en-US" sz="2400" spc="-1" strike="noStrike">
                <a:solidFill>
                  <a:srgbClr val="000000"/>
                </a:solidFill>
                <a:latin typeface="(normal text)"/>
                <a:ea typeface="2  Badr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است؛ از همین روخدا ایشان ر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مخاطب قرار داده است</a:t>
            </a:r>
            <a:r>
              <a:rPr b="1" lang="ar-SA" sz="2400" spc="-1" strike="noStrike">
                <a:solidFill>
                  <a:srgbClr val="000000"/>
                </a:solidFill>
                <a:latin typeface="(normal text)"/>
                <a:ea typeface="2  Bad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000000"/>
              </a:solidFill>
              <a:latin typeface="Neirizi"/>
              <a:ea typeface="Neiriz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898989"/>
              </a:solidFill>
              <a:latin typeface="Neirizi"/>
              <a:ea typeface="Neirizi"/>
            </a:endParaRPr>
          </a:p>
        </p:txBody>
      </p:sp>
      <p:pic>
        <p:nvPicPr>
          <p:cNvPr id="7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285920" y="445608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سَبِّحْ بِحَمْدِ رَبِّكَ وَاسْتَغْفِرْهُ إِنَّهُ كَانَ تَوَّابًا</a:t>
            </a:r>
            <a:r>
              <a:rPr b="0" lang="ar-SA" sz="3200" spc="-1" strike="noStrike">
                <a:solidFill>
                  <a:srgbClr val="ff0000"/>
                </a:solidFill>
                <a:latin typeface="Traditional Arabic"/>
                <a:ea typeface="QuranTaha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214280" y="3195720"/>
            <a:ext cx="671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رَأَیتَ النَّاسَ یدْخُلُونَ فِی دِینِ اللَّهِ أَفْوَاجًا</a:t>
            </a:r>
            <a:r>
              <a:rPr b="0" lang="ar-SA" sz="3200" spc="-1" strike="noStrike">
                <a:solidFill>
                  <a:srgbClr val="ff0000"/>
                </a:solidFill>
                <a:latin typeface="Traditional Arabic"/>
                <a:ea typeface="QuranTaha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r>
              <a:rPr b="1" lang="fa-IR" sz="32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714760" y="785880"/>
            <a:ext cx="371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یم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428920" y="1967040"/>
            <a:ext cx="428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ذَا جَاءَ نَصْرُ اللَّهِ وَالْفَتْحُ</a:t>
            </a:r>
            <a:r>
              <a:rPr b="0" lang="ar-SA" sz="3200" spc="-1" strike="noStrike">
                <a:solidFill>
                  <a:srgbClr val="ff0000"/>
                </a:solidFill>
                <a:latin typeface="Traditional Arabic"/>
                <a:ea typeface="QuranTaha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r>
              <a:rPr b="1" lang="fa-IR" sz="32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287.MP3" descr=""/>
          <p:cNvPicPr/>
          <p:nvPr/>
        </p:nvPicPr>
        <p:blipFill>
          <a:blip r:embed="rId2"/>
          <a:stretch/>
        </p:blipFill>
        <p:spPr>
          <a:xfrm>
            <a:off x="1085868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503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5940360" y="1773360"/>
            <a:ext cx="1662120" cy="62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إِذَا جَاءَ نَصرُ اللَّهِ وَ الْفَتْح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940360" y="2565360"/>
            <a:ext cx="1662120" cy="62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22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وَ رَأَيْت النَّاس يَدْخُلُونَ فى دِينِ اللَّهِ أَفْوَاجا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940360" y="3645000"/>
            <a:ext cx="1662120" cy="62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فَسبِّحْ بحَمْدِ رَبِّ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940360" y="4437000"/>
            <a:ext cx="1662120" cy="62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3498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وَ استَغْفِرْهُ  إِنَّهُ كانَ تَوَّابَ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635280" y="1773360"/>
            <a:ext cx="1919520" cy="14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0000"/>
                </a:solidFill>
                <a:latin typeface="Calibri"/>
                <a:cs typeface="2  Badr"/>
              </a:rPr>
              <a:t>شرط: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فرارسیدن یاری الهی و پیروزی و مشاهده توسعه و سرعت یافتن استقبال مردم از دین خد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652920" y="3648240"/>
            <a:ext cx="1919160" cy="1417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ff0000"/>
                </a:solidFill>
                <a:latin typeface="Calibri"/>
                <a:cs typeface="2  Badr"/>
              </a:rPr>
              <a:t>جزاء: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فرمان تسبیح به همراه حمد و استغف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547640" y="3643200"/>
            <a:ext cx="1660680" cy="1428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تبیین وظایف پیامبر</a:t>
            </a:r>
            <a:r>
              <a:rPr b="0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  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و پیروان او در شرایط فرارسیدن یاری الهی و پیروز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متصل کننده پیکان مستقیم 12"/>
          <p:cNvCxnSpPr>
            <a:stCxn id="88" idx="1"/>
            <a:endCxn id="92" idx="3"/>
          </p:cNvCxnSpPr>
          <p:nvPr/>
        </p:nvCxnSpPr>
        <p:spPr>
          <a:xfrm flipH="1">
            <a:off x="5554080" y="2087640"/>
            <a:ext cx="38628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متصل کننده پیکان مستقیم 14"/>
          <p:cNvCxnSpPr>
            <a:stCxn id="89" idx="1"/>
            <a:endCxn id="92" idx="3"/>
          </p:cNvCxnSpPr>
          <p:nvPr/>
        </p:nvCxnSpPr>
        <p:spPr>
          <a:xfrm flipH="1" flipV="1">
            <a:off x="5554080" y="2484000"/>
            <a:ext cx="38628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متصل کننده پیکان مستقیم 16"/>
          <p:cNvCxnSpPr>
            <a:stCxn id="90" idx="1"/>
            <a:endCxn id="93" idx="3"/>
          </p:cNvCxnSpPr>
          <p:nvPr/>
        </p:nvCxnSpPr>
        <p:spPr>
          <a:xfrm flipH="1">
            <a:off x="5571360" y="3959280"/>
            <a:ext cx="369000" cy="39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متصل کننده پیکان مستقیم 18"/>
          <p:cNvCxnSpPr>
            <a:stCxn id="91" idx="1"/>
            <a:endCxn id="93" idx="3"/>
          </p:cNvCxnSpPr>
          <p:nvPr/>
        </p:nvCxnSpPr>
        <p:spPr>
          <a:xfrm flipH="1" flipV="1">
            <a:off x="5571360" y="4357080"/>
            <a:ext cx="36900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متصل کننده پیکان مستقیم 22"/>
          <p:cNvCxnSpPr>
            <a:stCxn id="93" idx="1"/>
            <a:endCxn id="94" idx="3"/>
          </p:cNvCxnSpPr>
          <p:nvPr/>
        </p:nvCxnSpPr>
        <p:spPr>
          <a:xfrm flipH="1">
            <a:off x="3207600" y="4356720"/>
            <a:ext cx="445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متصل کننده پیکان مستقیم 24"/>
          <p:cNvCxnSpPr>
            <a:stCxn id="92" idx="2"/>
            <a:endCxn id="93" idx="0"/>
          </p:cNvCxnSpPr>
          <p:nvPr/>
        </p:nvCxnSpPr>
        <p:spPr>
          <a:xfrm>
            <a:off x="4594680" y="3193920"/>
            <a:ext cx="18360" cy="4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4:15:13Z</dcterms:created>
  <dc:creator>YAALI</dc:creator>
  <dc:description/>
  <dc:language>en-US</dc:language>
  <cp:lastModifiedBy>ALI</cp:lastModifiedBy>
  <dcterms:modified xsi:type="dcterms:W3CDTF">2011-11-16T21:23:42Z</dcterms:modified>
  <cp:revision>62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