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817F-15D1-4BA8-8B65-32A8BB63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تکذیب دین اسلام که از جانب خدا آورده شده اس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نگهدارنده مکان شماره اسلاید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D9B2-6225-4277-A077-BB02E66A4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DD1-8F5B-4B38-BB98-BAF6CEB4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4C7-11E8-4A48-900B-24A6541D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E7D-FBAB-4B85-84B4-52690D21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596-3675-4BFA-80A8-63C8F918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ECF-52F7-4782-AB18-85CA9A2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D30-AB78-4D4F-88BC-61E68278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D63-8095-4795-ABE7-D44F2A83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724-AD1A-4EE7-A1F1-97B14901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ED8-43E0-41DA-B294-4D08AF4D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BB7-4AF7-40E5-AD2B-A8FB5D1B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99E-3997-4FD4-85E6-6FA5000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91C-2911-4D69-AF60-05634EF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D63C-8CC2-424F-9787-F336E21E1D0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-249120" y="5267160"/>
            <a:ext cx="4503600" cy="1597320"/>
          </a:xfrm>
          <a:prstGeom prst="rect">
            <a:avLst/>
          </a:prstGeom>
          <a:ln w="0">
            <a:noFill/>
          </a:ln>
        </p:spPr>
      </p:pic>
      <p:pic>
        <p:nvPicPr>
          <p:cNvPr id="50" name="BESM.wav" descr=""/>
          <p:cNvPicPr/>
          <p:nvPr/>
        </p:nvPicPr>
        <p:blipFill>
          <a:blip r:embed="rId3"/>
          <a:stretch/>
        </p:blipFill>
        <p:spPr>
          <a:xfrm>
            <a:off x="1114416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4"/>
          <a:stretch/>
        </p:blipFill>
        <p:spPr>
          <a:xfrm>
            <a:off x="4816440" y="-268200"/>
            <a:ext cx="4834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0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1285920" y="1000080"/>
            <a:ext cx="200016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فَمَا يُكَذِّبُك بَعْدُ بِالدِّين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285920" y="4071960"/>
            <a:ext cx="2000160" cy="181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أَ لَيْس اللَّهُ بِأَحْكمِ الحَْ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كِمِي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753000" y="1000080"/>
            <a:ext cx="200160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لَقَدْ خَلَقْنَا الانسنَ فى أَحْسنِ تَقْوِيمٍ ثُمَّ رَدَدْنَهُ أَسفَلَ سافِلِي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229440" y="1000080"/>
            <a:ext cx="170172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وَ التِّينِ وَ الزَّيْتُونِ وَ طورِ سِينِينَ وَ هَذَا الْبَلَدِ الأَمِين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753000" y="4098960"/>
            <a:ext cx="2001600" cy="181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إلّا الَّذِينَ ءَامَنُوا وَ عَمِلُوا الص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لِحَ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Badr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Badr"/>
              </a:rPr>
              <a:t>تِ فَلَهُمْ أَجْرٌ غَيرُ ممْنُون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7"/>
          <p:cNvCxnSpPr>
            <a:stCxn id="82" idx="1"/>
            <a:endCxn id="80" idx="3"/>
          </p:cNvCxnSpPr>
          <p:nvPr/>
        </p:nvCxnSpPr>
        <p:spPr>
          <a:xfrm flipH="1" flipV="1">
            <a:off x="3285360" y="2142360"/>
            <a:ext cx="467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7"/>
          <p:cNvCxnSpPr>
            <a:stCxn id="82" idx="2"/>
            <a:endCxn id="84" idx="0"/>
          </p:cNvCxnSpPr>
          <p:nvPr/>
        </p:nvCxnSpPr>
        <p:spPr>
          <a:xfrm flipH="1">
            <a:off x="4752720" y="3286080"/>
            <a:ext cx="216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7"/>
          <p:cNvCxnSpPr>
            <a:stCxn id="80" idx="2"/>
            <a:endCxn id="81" idx="0"/>
          </p:cNvCxnSpPr>
          <p:nvPr/>
        </p:nvCxnSpPr>
        <p:spPr>
          <a:xfrm flipH="1">
            <a:off x="2284200" y="3285720"/>
            <a:ext cx="360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7"/>
          <p:cNvCxnSpPr>
            <a:stCxn id="83" idx="1"/>
            <a:endCxn id="82" idx="3"/>
          </p:cNvCxnSpPr>
          <p:nvPr/>
        </p:nvCxnSpPr>
        <p:spPr>
          <a:xfrm flipH="1" flipV="1">
            <a:off x="5753880" y="2142360"/>
            <a:ext cx="47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1214280" y="3286080"/>
            <a:ext cx="6786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آنان که پیامبر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ar-SA" sz="28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را به سبب دین تکذیب می کنند، ا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نیکوترین قوام آفرینش الهی به پایین ترین درکات فرومایگ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سقوط می کنند. این حکمِ برترینِ حکم کنندگان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1922040" y="1285920"/>
            <a:ext cx="1298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کذیب پیامبر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ar-SA" sz="8800" spc="-1" strike="noStrike">
                <a:solidFill>
                  <a:srgbClr val="000000"/>
                </a:solidFill>
                <a:latin typeface="IranNastaliq"/>
                <a:ea typeface="IranNastaliq"/>
              </a:rPr>
              <a:t> </a:t>
            </a:r>
            <a:r>
              <a:rPr b="0" lang="fa-IR" sz="8800" spc="-1" strike="noStrike">
                <a:solidFill>
                  <a:srgbClr val="000000"/>
                </a:solidFill>
                <a:latin typeface="IranNastaliq"/>
                <a:cs typeface="IranNastaliq"/>
              </a:rPr>
              <a:t>موجب سقو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"/>
          <p:cNvSpPr/>
          <p:nvPr/>
        </p:nvSpPr>
        <p:spPr>
          <a:xfrm>
            <a:off x="1285920" y="657360"/>
            <a:ext cx="6500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التِّينِ وَالزَّيْتُون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طُورِ سِينِينَ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هَذَا الْبَلَدِ الأمِين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لَقَدْ خَلَقْنَا الإنْسَانَ فِي أَحْسَنِ تَقْوِيم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رَدَدْنَاهُ أَسْفَلَ سَافِلِينَ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لا الَّذِينَ آمَنُوا وَعَمِلُوا الصَّالِحَاتِ فَلَهُمْ أَجْرٌ غَيْرُ مَمْنُون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مَا يُكَذِّبُكَ بَعْدُ بِالدِّين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لَيْسَ اللَّهُ بِأَحْكَمِ الْحَاكِمِينَ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272.MP3" descr=""/>
          <p:cNvPicPr/>
          <p:nvPr/>
        </p:nvPicPr>
        <p:blipFill>
          <a:blip r:embed="rId2"/>
          <a:stretch/>
        </p:blipFill>
        <p:spPr>
          <a:xfrm>
            <a:off x="1078704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6502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3857760" y="1319040"/>
            <a:ext cx="1433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ر الها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357200" y="3000240"/>
            <a:ext cx="64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(normal text)"/>
                <a:cs typeface="2  Lotus"/>
              </a:rPr>
              <a:t>بين قلب ما و قرآن كه گنجينه سعادت بشر است، پيوندي عميق برقرار كن و ما را بر دين پيامبرت محمد</a:t>
            </a:r>
            <a:r>
              <a:rPr b="0" lang="fa-IR" sz="2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2  Lotus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(normal text)"/>
                <a:cs typeface="2  Lotus"/>
              </a:rPr>
              <a:t>استوار بد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pic>
        <p:nvPicPr>
          <p:cNvPr id="55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933480" y="706320"/>
            <a:ext cx="74185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785960" y="2786040"/>
            <a:ext cx="5643720" cy="13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تکذیب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پیامبر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به سبب دینی که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از جانب خدا آورده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0"/>
          <p:cNvSpPr/>
          <p:nvPr/>
        </p:nvSpPr>
        <p:spPr>
          <a:xfrm>
            <a:off x="1285920" y="657360"/>
            <a:ext cx="6500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التِّينِ وَالزَّيْتُون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طُورِ سِينِينَ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٢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هَذَا الْبَلَدِ الأمِين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٣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لَقَدْ خَلَقْنَا الإنْسَانَ فِي أَحْسَنِ تَقْوِيم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٤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رَدَدْنَاهُ أَسْفَلَ سَافِلِينَ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٥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لا الَّذِينَ آمَنُوا وَعَمِلُوا الصَّالِحَاتِ فَلَهُمْ أَجْرٌ غَيْرُ مَمْنُونٍ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٦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مَا يُكَذِّبُكَ بَعْدُ بِالدِّينِ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٧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أَلَيْسَ اللَّهُ بِأَحْكَمِ الْحَاكِمِينَ 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٨</a:t>
            </a:r>
            <a:r>
              <a:rPr b="1" lang="ar-SA" sz="3200" spc="-1" strike="noStrike">
                <a:solidFill>
                  <a:srgbClr val="00b05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72.MP3" descr=""/>
          <p:cNvPicPr/>
          <p:nvPr/>
        </p:nvPicPr>
        <p:blipFill>
          <a:blip r:embed="rId2"/>
          <a:stretch/>
        </p:blipFill>
        <p:spPr>
          <a:xfrm>
            <a:off x="1078704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6502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2" descr=""/>
          <p:cNvPicPr/>
          <p:nvPr/>
        </p:nvPicPr>
        <p:blipFill>
          <a:blip r:embed="rId1"/>
          <a:stretch/>
        </p:blipFill>
        <p:spPr>
          <a:xfrm>
            <a:off x="-214200" y="-214200"/>
            <a:ext cx="9644040" cy="7286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357280" y="763560"/>
            <a:ext cx="4357800" cy="10224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500" spc="-1" strike="noStrike">
                <a:solidFill>
                  <a:srgbClr val="000000"/>
                </a:solidFill>
                <a:latin typeface="Elephant"/>
                <a:cs typeface="2  Lotus"/>
              </a:rPr>
              <a:t>اجر بی</a:t>
            </a:r>
            <a:r>
              <a:rPr b="1" lang="en-US" sz="2500" spc="-1" strike="noStrike">
                <a:solidFill>
                  <a:srgbClr val="000000"/>
                </a:solidFill>
                <a:latin typeface="Elephant"/>
                <a:ea typeface="2  Lotus"/>
              </a:rPr>
              <a:t> </a:t>
            </a:r>
            <a:r>
              <a:rPr b="1" lang="fa-IR" sz="2500" spc="-1" strike="noStrike">
                <a:solidFill>
                  <a:srgbClr val="000000"/>
                </a:solidFill>
                <a:latin typeface="Elephant"/>
                <a:cs typeface="2  Lotus"/>
              </a:rPr>
              <a:t>پایان الهی ضمن حفظ قوام نیکوی انسان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val 9"/>
          <p:cNvGrpSpPr/>
          <p:nvPr/>
        </p:nvGrpSpPr>
        <p:grpSpPr>
          <a:xfrm>
            <a:off x="2627280" y="2036880"/>
            <a:ext cx="3846600" cy="2693880"/>
            <a:chOff x="2627280" y="2036880"/>
            <a:chExt cx="3846600" cy="2693880"/>
          </a:xfrm>
        </p:grpSpPr>
        <p:pic>
          <p:nvPicPr>
            <p:cNvPr id="70" name="Oval 9" descr=""/>
            <p:cNvPicPr/>
            <p:nvPr/>
          </p:nvPicPr>
          <p:blipFill>
            <a:blip r:embed="rId2"/>
            <a:stretch/>
          </p:blipFill>
          <p:spPr>
            <a:xfrm>
              <a:off x="2627280" y="2036880"/>
              <a:ext cx="38466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201840" y="2446200"/>
              <a:ext cx="269568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500" spc="-1" strike="noStrike">
                  <a:solidFill>
                    <a:srgbClr val="ffffff"/>
                  </a:solidFill>
                  <a:latin typeface="Elephant"/>
                  <a:ea typeface="2  Lotus"/>
                </a:rPr>
                <a:t>                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500" spc="-1" strike="noStrike">
                  <a:solidFill>
                    <a:srgbClr val="ffffff"/>
                  </a:solidFill>
                  <a:latin typeface="Elephant"/>
                  <a:ea typeface="2  Lotus"/>
                </a:rPr>
                <a:t>               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500" spc="-1" strike="noStrike">
                  <a:solidFill>
                    <a:srgbClr val="0d0d0d"/>
                  </a:solidFill>
                  <a:latin typeface="Calibri"/>
                  <a:cs typeface="2  Lotus"/>
                </a:rPr>
                <a:t>آفرینش انسان </a:t>
              </a:r>
              <a:r>
                <a:rPr b="1" lang="ar-SA" sz="2500" spc="-1" strike="noStrike">
                  <a:solidFill>
                    <a:srgbClr val="0d0d0d"/>
                  </a:solidFill>
                  <a:latin typeface="Calibri"/>
                  <a:cs typeface="2  Lotus"/>
                </a:rPr>
                <a:t>در بهترین و نیکوترین قوا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" name="AutoShape 5"/>
          <p:cNvCxnSpPr>
            <a:stCxn id="73" idx="0"/>
            <a:endCxn id="68" idx="2"/>
          </p:cNvCxnSpPr>
          <p:nvPr/>
        </p:nvCxnSpPr>
        <p:spPr>
          <a:xfrm flipH="1" flipV="1">
            <a:off x="4536720" y="1785240"/>
            <a:ext cx="8640" cy="41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Oval 8"/>
          <p:cNvSpPr/>
          <p:nvPr/>
        </p:nvSpPr>
        <p:spPr>
          <a:xfrm>
            <a:off x="3660840" y="2201760"/>
            <a:ext cx="1768320" cy="1227240"/>
          </a:xfrm>
          <a:prstGeom prst="ellipse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500" spc="-1" strike="noStrike">
                <a:solidFill>
                  <a:srgbClr val="000000"/>
                </a:solidFill>
                <a:latin typeface="Elephant"/>
                <a:cs typeface="2  Lotus"/>
              </a:rPr>
              <a:t>مومنان به پیامبر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357720" y="4749840"/>
            <a:ext cx="2357280" cy="82224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Lotus"/>
              </a:rPr>
              <a:t>بر اساس حکم قطعی آفریدگ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5929200" y="4286160"/>
            <a:ext cx="0" cy="150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214800" y="4357800"/>
            <a:ext cx="0" cy="142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70240" y="5572080"/>
            <a:ext cx="4357440" cy="568440"/>
          </a:xfrm>
          <a:prstGeom prst="rect">
            <a:avLst/>
          </a:prstGeom>
          <a:solidFill>
            <a:srgbClr val="4f62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ffff"/>
                </a:solidFill>
                <a:latin typeface="Elephant"/>
                <a:cs typeface="2  Badr"/>
              </a:rPr>
              <a:t>پائین</a:t>
            </a:r>
            <a:r>
              <a:rPr b="1" lang="en-US" sz="3000" spc="-1" strike="noStrike">
                <a:solidFill>
                  <a:srgbClr val="ffffff"/>
                </a:solidFill>
                <a:latin typeface="Elephant"/>
                <a:ea typeface="2  Badr"/>
              </a:rPr>
              <a:t> </a:t>
            </a:r>
            <a:r>
              <a:rPr b="1" lang="fa-IR" sz="3000" spc="-1" strike="noStrike">
                <a:solidFill>
                  <a:srgbClr val="ffffff"/>
                </a:solidFill>
                <a:latin typeface="Elephant"/>
                <a:cs typeface="2  Badr"/>
              </a:rPr>
              <a:t>ترین درجات- اسفل السافلی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نگهدارنده مکان شماره اسلاید 19"/>
          <p:cNvSpPr/>
          <p:nvPr/>
        </p:nvSpPr>
        <p:spPr>
          <a:xfrm>
            <a:off x="826920" y="6281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3078-C58E-44B5-94C2-CB050B48DE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6:56Z</dcterms:modified>
  <cp:revision>55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