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1C9-C6D7-49F1-9840-7797D149C4E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623E-C0DE-4B39-9548-7496698E258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459A-7681-47DD-8609-40DB70937B2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C42-8EC0-427F-9181-7E3AE57C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80F-CA2B-4E67-B8F5-96851F65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E48-C06F-4816-99F4-447889FC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BB1-5ADD-4843-BA4C-CD56F165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19D-FB2A-485A-B2A0-BB469897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CD8-3434-42A4-A519-19F08570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304-0993-45FD-A441-FE6FB004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21B-E39E-491D-978D-BC48CC11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CCB-3F01-47E1-829B-A9EAC4C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D3B-7BCB-489A-86AF-A732F5A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638-FAC1-42C4-9694-E3ADCF4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752-FA7E-421E-B5D3-7C08A07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C89-2DF3-4516-BEB9-AF4AD5E6A38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344160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Calibri"/>
                <a:cs typeface="DecoType Naskh Variants"/>
              </a:rPr>
              <a:t>تدبر در سوره مبارکه قد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BESM.wav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5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-3448800" y="1214280"/>
            <a:ext cx="159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یان عظمت و اهمیت شب قدر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000080" y="3571920"/>
            <a:ext cx="70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Elephant"/>
                <a:cs typeface="2  Badr"/>
              </a:rPr>
              <a:t>شب نزول قرآن، شبی برتر از هزار ماه، شب تنزل فرشتگان و شب سلامت و گشایش درهای رحم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2246400" y="5000760"/>
            <a:ext cx="468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سَلامٌ هِيَ حَتَّى مَطْلَعِ الْفَج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458440" y="85716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107440" y="171468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ا أَنْزَلْنَاهُ فِي لَيْلَةِ الْقَد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171520" y="2643120"/>
            <a:ext cx="476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 لَيْلَةُ الْقَد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49240" y="3429000"/>
            <a:ext cx="561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يْلَةُ الْقَدْرِ خَيْرٌ مِنْ أَلْفِ شَهْر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57160" y="421488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تَنَزَّلُ الْمَلائِكَةُ وَالرُّوحُ فِيهَا بِإِذْنِ رَبِّهِمْ مِنْ كُلِّ أَمْر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74.MP3" descr=""/>
          <p:cNvPicPr/>
          <p:nvPr/>
        </p:nvPicPr>
        <p:blipFill>
          <a:blip r:embed="rId2"/>
          <a:stretch/>
        </p:blipFill>
        <p:spPr>
          <a:xfrm>
            <a:off x="1114416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4525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642960" y="84600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خدای رئوف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42960" y="292896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14240" y="1905120"/>
            <a:ext cx="7715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توفیق درک عظمت شب قدر را به ما عنایت ک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57160" y="4071960"/>
            <a:ext cx="7429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از تو ميخواهيم هرسال در آن شب عزيز كه شب تقدير امور بندگان است، بهترين تقدير را براي ما رقم بزني، تقدیری که ما را مشمول رضاي تو گردا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603360" y="633240"/>
            <a:ext cx="81388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857160" y="3016080"/>
            <a:ext cx="7429680" cy="1556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ضرورت شناخت و اهتمام نسبت به شب قد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246400" y="5000760"/>
            <a:ext cx="468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سَلامٌ هِيَ حَتَّى مَطْلَعِ الْفَج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58440" y="857160"/>
            <a:ext cx="42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107440" y="171468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ا أَنْزَلْنَاهُ فِي لَيْلَةِ الْقَد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171520" y="2643120"/>
            <a:ext cx="476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 لَيْلَةُ الْقَدْر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749240" y="3429000"/>
            <a:ext cx="561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يْلَةُ الْقَدْرِ خَيْرٌ مِنْ أَلْفِ شَهْر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57160" y="421488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تَنَزَّلُ الْمَلائِكَةُ وَالرُّوحُ فِيهَا بِإِذْنِ رَبِّهِمْ مِنْ كُلِّ أَمْر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274.MP3" descr=""/>
          <p:cNvPicPr/>
          <p:nvPr/>
        </p:nvPicPr>
        <p:blipFill>
          <a:blip r:embed="rId2"/>
          <a:stretch/>
        </p:blipFill>
        <p:spPr>
          <a:xfrm>
            <a:off x="1114416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525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Text Box 3"/>
          <p:cNvSpPr/>
          <p:nvPr/>
        </p:nvSpPr>
        <p:spPr>
          <a:xfrm>
            <a:off x="3214800" y="857160"/>
            <a:ext cx="2722320" cy="88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إِنَّا أَنْزَلْنَاهُ فِي لَيْلَةِ الْقَدْ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71840" y="2114640"/>
            <a:ext cx="4000320" cy="9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مَا أَدْرَاكَ مَا لَيْلَةُ الْقَدْر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71840" y="3071880"/>
            <a:ext cx="4000320" cy="88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لَيْلَةُ الْقَدْرِ خَيرٌْ مِّنْ أَلْفِ شهَْر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143000" y="4429080"/>
            <a:ext cx="321480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سَلَامٌ هِىَ حَتىَ‏ مَطْلَعِ الْفَجْ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442908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تَنزََّلُ الْمَلَ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ئ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ِ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كَةُ وَ الرُّوحُ فِيهَا بِإِذْنِ رَبهِِّم مِّن كل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ِّ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2  Badr"/>
              </a:rPr>
              <a:t> أَمْر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متصل کننده پیکان مستقیم 8"/>
          <p:cNvCxnSpPr>
            <a:stCxn id="72" idx="2"/>
            <a:endCxn id="73" idx="0"/>
          </p:cNvCxnSpPr>
          <p:nvPr/>
        </p:nvCxnSpPr>
        <p:spPr>
          <a:xfrm flipH="1">
            <a:off x="4571280" y="1739520"/>
            <a:ext cx="540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متصل کننده پیکان مستقیم 11"/>
          <p:cNvCxnSpPr>
            <a:stCxn id="74" idx="2"/>
            <a:endCxn id="76" idx="0"/>
          </p:cNvCxnSpPr>
          <p:nvPr/>
        </p:nvCxnSpPr>
        <p:spPr>
          <a:xfrm>
            <a:off x="4572000" y="3954600"/>
            <a:ext cx="175032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متصل کننده پیکان مستقیم 13"/>
          <p:cNvCxnSpPr>
            <a:stCxn id="74" idx="2"/>
            <a:endCxn id="75" idx="0"/>
          </p:cNvCxnSpPr>
          <p:nvPr/>
        </p:nvCxnSpPr>
        <p:spPr>
          <a:xfrm flipH="1">
            <a:off x="2749320" y="3954600"/>
            <a:ext cx="182304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37Z</dcterms:modified>
  <cp:revision>43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