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6E9-E8F8-4BE5-A1A3-18149123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BEC-B95D-400B-ADB4-D3A7B440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2BD-C523-40E1-ADAB-E4D4955A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B04-5268-423D-B3A2-169FCFA2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30B-9A13-4848-B92D-F6B5EDE9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B90-C8D2-4306-B41C-5F672361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1B1-7E83-4E89-9BB9-5F7DBC2C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23C-1272-42CC-9B48-27B1E312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280-224D-4240-9A3A-DA8FB8C7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A6C-0E3D-4408-B4E2-F4906F23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846-67E9-41D6-8689-BCDA8FC8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AB0-DE27-4496-B97F-F0A115AA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9A85-07C0-46EB-A8EB-671D6B896ABF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2" descr=""/>
          <p:cNvPicPr/>
          <p:nvPr/>
        </p:nvPicPr>
        <p:blipFill>
          <a:blip r:embed="rId2"/>
          <a:stretch/>
        </p:blipFill>
        <p:spPr>
          <a:xfrm>
            <a:off x="-414360" y="5267160"/>
            <a:ext cx="4827600" cy="1597320"/>
          </a:xfrm>
          <a:prstGeom prst="rect">
            <a:avLst/>
          </a:prstGeom>
          <a:ln w="0">
            <a:noFill/>
          </a:ln>
        </p:spPr>
      </p:pic>
      <p:pic>
        <p:nvPicPr>
          <p:cNvPr id="43" name="BESM.wav" descr=""/>
          <p:cNvPicPr/>
          <p:nvPr/>
        </p:nvPicPr>
        <p:blipFill>
          <a:blip r:embed="rId3"/>
          <a:stretch/>
        </p:blipFill>
        <p:spPr>
          <a:xfrm>
            <a:off x="1114416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5" descr=""/>
          <p:cNvPicPr/>
          <p:nvPr/>
        </p:nvPicPr>
        <p:blipFill>
          <a:blip r:embed="rId4"/>
          <a:stretch/>
        </p:blipFill>
        <p:spPr>
          <a:xfrm>
            <a:off x="4816440" y="-268200"/>
            <a:ext cx="48340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0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2286000" y="245916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-2762640" y="1413000"/>
            <a:ext cx="1466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ضرورت پرستش پروردگار این خانه (کعبه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258920" y="3286080"/>
            <a:ext cx="6626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Elephant"/>
                <a:cs typeface="2  Badr"/>
              </a:rPr>
              <a:t>قریش در رفاه و امنیت زندگی می کنند و این خانه را نشان می دهند. باید پروردگار این خانه را بپرستند زیرا او ولی نعمت ایشان ا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2927520" y="3679920"/>
          <a:ext cx="3288960" cy="365040"/>
        </p:xfrm>
        <a:graphic>
          <a:graphicData uri="http://schemas.openxmlformats.org/drawingml/2006/table">
            <a:tbl>
              <a:tblPr/>
              <a:tblGrid>
                <a:gridCol w="2908080"/>
                <a:gridCol w="3808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10"/>
          <p:cNvSpPr/>
          <p:nvPr/>
        </p:nvSpPr>
        <p:spPr>
          <a:xfrm>
            <a:off x="3042000" y="2006640"/>
            <a:ext cx="30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لإيلافِ قُرَيْشٍ 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١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2651040" y="1000080"/>
            <a:ext cx="384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سْمِ اللَّهِ الرَّحْمَنِ الرَّحِ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1831680" y="2898720"/>
            <a:ext cx="544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إِيلافِهِمْ رِحْلَةَ الشِّتَاءِ وَالصَّيْفِ 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٢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2346840" y="3808440"/>
            <a:ext cx="44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فَلْيَعْبُدُوا رَبَّ هَذَا الْبَيْتِ 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٣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1285920" y="4673520"/>
            <a:ext cx="65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الَّذِي أَطْعَمَهُمْ مِنْ جُوعٍ وَآمَنَهُمْ مِنْ خَوْفٍ 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٤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283.MP3" descr=""/>
          <p:cNvPicPr/>
          <p:nvPr/>
        </p:nvPicPr>
        <p:blipFill>
          <a:blip r:embed="rId2"/>
          <a:stretch/>
        </p:blipFill>
        <p:spPr>
          <a:xfrm>
            <a:off x="10715760" y="357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4266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33840" y="225360"/>
            <a:ext cx="906408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ي خداي مهربان</a:t>
            </a:r>
            <a:r>
              <a:rPr b="0" lang="en-US" sz="6600" spc="-1" strike="noStrike">
                <a:solidFill>
                  <a:srgbClr val="000000"/>
                </a:solidFill>
                <a:latin typeface="IranNastaliq"/>
                <a:ea typeface="IranNastaliq"/>
              </a:rPr>
              <a:t>!</a:t>
            </a:r>
            <a:r>
              <a:rPr b="0" lang="fa-IR" sz="6600" spc="-1" strike="noStrike">
                <a:solidFill>
                  <a:srgbClr val="000000"/>
                </a:solidFill>
                <a:latin typeface="IranNastaliq"/>
                <a:ea typeface="IranNastaliq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ی ولی نعمت حقیقی ما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285920" y="3429000"/>
            <a:ext cx="650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(normal text)"/>
                <a:cs typeface="2  Lotus"/>
              </a:rPr>
              <a:t>به ما توفيق ده که به شكرانه نعمتهایی که به ما ارزانی داشته ای، تنها تو را بپرستي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450720" y="195120"/>
            <a:ext cx="8242560" cy="62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2239920" y="2921040"/>
            <a:ext cx="46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1476360" y="481320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Lotus"/>
              </a:rPr>
              <a:t>در تعظیم و تکریم این خانه حرام، میکوشند، اما...! پروردگار این خانه را نمی پرستن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476360" y="1285920"/>
            <a:ext cx="62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Lotus"/>
              </a:rPr>
              <a:t>انگشت اشاره قریش، کعبه را نشان می دهد. الفت خود با دو کوچ زمستان و تابستان را مرهون این خانه می دانند. با خود می گویند که ما اهل حرم هستیم و به برکت این بیت حرام، از گزند حملات و آسیب های احتمالی در امانی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1440000" y="3068640"/>
            <a:ext cx="62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Lotus"/>
              </a:rPr>
              <a:t>همگان حرم نشینان را محترم می دارند و ما به یمن وجود این خانه، با آسودگی خاطر به سفر می رویم و مال التجاره خود را حمل کرده، رفاه زندگی خویش را تأمین می کنیم. پس ما هرچه داریم، از این خانه داری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2927520" y="3679920"/>
          <a:ext cx="3288960" cy="365040"/>
        </p:xfrm>
        <a:graphic>
          <a:graphicData uri="http://schemas.openxmlformats.org/drawingml/2006/table">
            <a:tbl>
              <a:tblPr/>
              <a:tblGrid>
                <a:gridCol w="2908080"/>
                <a:gridCol w="3808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10"/>
          <p:cNvSpPr/>
          <p:nvPr/>
        </p:nvSpPr>
        <p:spPr>
          <a:xfrm>
            <a:off x="3042000" y="2006640"/>
            <a:ext cx="30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لإيلافِ قُرَيْشٍ 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١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2651040" y="1000080"/>
            <a:ext cx="384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سْمِ اللَّهِ الرَّحْمَنِ الرَّحِ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831680" y="2898720"/>
            <a:ext cx="544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إِيلافِهِمْ رِحْلَةَ الشِّتَاءِ وَالصَّيْفِ 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٢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2346840" y="3808440"/>
            <a:ext cx="44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فَلْيَعْبُدُوا رَبَّ هَذَا الْبَيْتِ 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٣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1285920" y="4673520"/>
            <a:ext cx="65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الَّذِي أَطْعَمَهُمْ مِنْ جُوعٍ وَآمَنَهُمْ مِنْ خَوْفٍ 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٤</a:t>
            </a:r>
            <a:r>
              <a:rPr b="1" lang="ar-SA" sz="2800" spc="-1" strike="noStrike">
                <a:solidFill>
                  <a:srgbClr val="0d7d10"/>
                </a:solidFill>
                <a:latin typeface="Times New Roman"/>
                <a:cs typeface="Traditional Arabic"/>
              </a:rPr>
              <a:t>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283.MP3" descr=""/>
          <p:cNvPicPr/>
          <p:nvPr/>
        </p:nvPicPr>
        <p:blipFill>
          <a:blip r:embed="rId2"/>
          <a:stretch/>
        </p:blipFill>
        <p:spPr>
          <a:xfrm>
            <a:off x="10715760" y="357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4266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5500800" y="1428840"/>
            <a:ext cx="2058840" cy="1622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2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Badr"/>
              </a:rPr>
              <a:t>لايلَافِ قُرَيْش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500800" y="3571920"/>
            <a:ext cx="2058840" cy="1571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Badr"/>
              </a:rPr>
              <a:t>إِيلَافِهِمْ رِحْلَةَ الشتَاءِ وَ الصيْف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0" y="1428840"/>
            <a:ext cx="2222640" cy="1622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Badr"/>
              </a:rPr>
              <a:t>فَلْيَعْبُدُوا رَبّ هَذَا الْبَيْتِ </a:t>
            </a:r>
            <a:r>
              <a:rPr b="1" lang="fa-IR" sz="1600" spc="-1" strike="noStrike">
                <a:solidFill>
                  <a:srgbClr val="000000"/>
                </a:solidFill>
                <a:latin typeface="Alaem"/>
                <a:ea typeface="Alaem"/>
              </a:rPr>
              <a:t>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2  Badr"/>
              </a:rPr>
              <a:t> الَّذِ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571920" y="3576600"/>
            <a:ext cx="1773360" cy="1573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Badr"/>
              </a:rPr>
              <a:t>أَطعَمَهُم مِنْ جُوع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428840" y="3571920"/>
            <a:ext cx="1773000" cy="1571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Badr"/>
              </a:rPr>
              <a:t>وَ ءَامَنَهُم مِنْ خَوْف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متصل کننده پیکان مستقیم 10"/>
          <p:cNvCxnSpPr>
            <a:stCxn id="84" idx="1"/>
            <a:endCxn id="86" idx="3"/>
          </p:cNvCxnSpPr>
          <p:nvPr/>
        </p:nvCxnSpPr>
        <p:spPr>
          <a:xfrm flipH="1" flipV="1">
            <a:off x="4508280" y="2239200"/>
            <a:ext cx="992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متصل کننده پیکان مستقیم 12"/>
          <p:cNvCxnSpPr>
            <a:stCxn id="86" idx="2"/>
            <a:endCxn id="87" idx="0"/>
          </p:cNvCxnSpPr>
          <p:nvPr/>
        </p:nvCxnSpPr>
        <p:spPr>
          <a:xfrm>
            <a:off x="3397320" y="3051000"/>
            <a:ext cx="1061280" cy="526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متصل کننده پیکان مستقیم 14"/>
          <p:cNvCxnSpPr>
            <a:stCxn id="86" idx="2"/>
            <a:endCxn id="88" idx="0"/>
          </p:cNvCxnSpPr>
          <p:nvPr/>
        </p:nvCxnSpPr>
        <p:spPr>
          <a:xfrm flipH="1">
            <a:off x="2314440" y="3050640"/>
            <a:ext cx="108324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متصل کننده پیکان مستقیم 16"/>
          <p:cNvCxnSpPr>
            <a:stCxn id="84" idx="2"/>
            <a:endCxn id="85" idx="0"/>
          </p:cNvCxnSpPr>
          <p:nvPr/>
        </p:nvCxnSpPr>
        <p:spPr>
          <a:xfrm flipH="1">
            <a:off x="6528600" y="3052800"/>
            <a:ext cx="2520" cy="52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4:26Z</dcterms:modified>
  <cp:revision>46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