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3BF5-29E8-4430-8F61-AA3989E3269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516F-C004-4A0D-9AF1-C57DD1ECA34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C1F-2103-4166-BDE2-C16BFD92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4E1-83A4-4D76-AF4F-D52833E2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39F-3655-474B-94D0-72686B96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E89-4883-4F76-A231-BDA0A623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1FD-3043-47F1-84D1-245C789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D17-2C64-4211-A5FA-B22F8384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B31-C269-4842-9BD4-5761299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00C-FA95-4B6F-A27D-1E4A990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9AB-7154-4CB4-8CE9-659F664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299-42DD-47E5-856B-37EA376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543-7A6E-47CB-8B03-8181323C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0E0-BFB3-44FB-A0A6-E2B9361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D81-5B0C-4E18-ACB7-0B1CC6614AA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0"/>
            <a:ext cx="221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Calibri"/>
                <a:cs typeface="DecoType Naskh Variants"/>
              </a:rPr>
              <a:t>تدبر در سوره مبارکه عادی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besm.wav" descr=""/>
          <p:cNvPicPr/>
          <p:nvPr/>
        </p:nvPicPr>
        <p:blipFill>
          <a:blip r:embed="rId2"/>
          <a:stretch/>
        </p:blipFill>
        <p:spPr>
          <a:xfrm>
            <a:off x="111441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556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-4971600" y="1700280"/>
            <a:ext cx="1908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دور کردن انسان از بی توجهی و ناسپاسی نسبت به پروردگا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643040" y="3429000"/>
            <a:ext cx="58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آگاهی از خبیر بودن پروردگار، زمینه ساز دوری از بی توجهی و ناسپاسی نسبت به او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8"/>
          <p:cNvSpPr/>
          <p:nvPr/>
        </p:nvSpPr>
        <p:spPr>
          <a:xfrm>
            <a:off x="1143000" y="917640"/>
            <a:ext cx="685800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الْعَادِيَاتِ ضَب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</a:t>
            </a:r>
            <a:r>
              <a:rPr b="0" lang="ar-SA" sz="3000" spc="-1" strike="noStrike">
                <a:solidFill>
                  <a:srgbClr val="339b25"/>
                </a:solidFill>
                <a:latin typeface="Arial"/>
                <a:ea typeface="QuranTah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ورِيَاتِ قَد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غِيرَاتِ صُب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أَثَرْنَ بِهِ نَقْع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وَسَطْنَ بِهِ جَمْع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إنْسَانَ لِرَبِّهِ لَكَنُو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هُ عَلَى ذَلِكَ لَشَهِي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هُ لِحُبِّ الْخَيْرِ لَشَدِي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أَفَلا يَعْلَمُ إِذَا بُعْثِرَ مَا فِي الْقُبُورِ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٩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حُصِّلَ مَا فِي الصُّدُورِ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رَبَّهُمْ بِهِمْ يَوْمَئِذٍ لَخَبِير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277.MP3" descr=""/>
          <p:cNvPicPr/>
          <p:nvPr/>
        </p:nvPicPr>
        <p:blipFill>
          <a:blip r:embed="rId2"/>
          <a:stretch/>
        </p:blipFill>
        <p:spPr>
          <a:xfrm>
            <a:off x="11001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701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340440" y="1000080"/>
            <a:ext cx="246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071720" y="2085840"/>
            <a:ext cx="700056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(normal text)"/>
                <a:cs typeface="2  Lotus"/>
              </a:rPr>
              <a:t>هر آنچه كه داريم از توست و تو به ما و اعمال ما خبیر و آگاهی، از تو مي خواهيم </a:t>
            </a:r>
            <a:r>
              <a:rPr b="1" lang="fa-IR" sz="2300" spc="-1" strike="noStrike">
                <a:solidFill>
                  <a:srgbClr val="000000"/>
                </a:solidFill>
                <a:latin typeface="Arial"/>
                <a:cs typeface="2  Lotus"/>
              </a:rPr>
              <a:t>به ما توفيق توجه و شتاب به سوی خودت را عنایت کنی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28800" y="4762800"/>
            <a:ext cx="728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(normal text)"/>
                <a:cs typeface="2  Lotus"/>
              </a:rPr>
              <a:t>ما را از غفلت و ناسپاسی و رخوت و خمودی دربرابر ذات پاکت برهان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422880" y="3500280"/>
            <a:ext cx="246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1060560" y="1054080"/>
            <a:ext cx="7083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476360" y="1214280"/>
            <a:ext cx="6191280" cy="187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عده ای از انسانها در حرکت به سوی پروردگار خود و در طلب رضای او، شتاب ندارن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76360" y="4259160"/>
            <a:ext cx="6191280" cy="246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درحالی که همین انسانها، به سوی دنیا و برای جلب منافع مادی، با تمام قوا و پرشتاب و بانشاط حرکت میکنن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76360" y="2744640"/>
            <a:ext cx="6191280" cy="187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Elephant"/>
                <a:cs typeface="2  Badr"/>
              </a:rPr>
              <a:t>کند هستند و خمودی و رخوت در حرکت به سوی خدا، زمین گیرشان کرده است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8"/>
          <p:cNvSpPr/>
          <p:nvPr/>
        </p:nvSpPr>
        <p:spPr>
          <a:xfrm>
            <a:off x="1143000" y="917640"/>
            <a:ext cx="685800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الْعَادِيَاتِ ضَب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</a:t>
            </a:r>
            <a:r>
              <a:rPr b="0" lang="ar-SA" sz="3000" spc="-1" strike="noStrike">
                <a:solidFill>
                  <a:srgbClr val="339b25"/>
                </a:solidFill>
                <a:latin typeface="Arial"/>
                <a:ea typeface="QuranTah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ورِيَاتِ قَد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الْمُغِيرَاتِ صُبْح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أَثَرْنَ بِهِ نَقْع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وَسَطْنَ بِهِ جَمْعًا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إنْسَانَ لِرَبِّهِ لَكَنُو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هُ عَلَى ذَلِكَ لَشَهِي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إِنَّهُ لِحُبِّ الْخَيْرِ لَشَدِيد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أَفَلا يَعْلَمُ إِذَا بُعْثِرَ مَا فِي الْقُبُورِ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٩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حُصِّلَ مَا فِي الصُّدُورِ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رَبَّهُمْ بِهِمْ يَوْمَئِذٍ لَخَبِيرٌ 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0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7.MP3" descr=""/>
          <p:cNvPicPr/>
          <p:nvPr/>
        </p:nvPicPr>
        <p:blipFill>
          <a:blip r:embed="rId2"/>
          <a:stretch/>
        </p:blipFill>
        <p:spPr>
          <a:xfrm>
            <a:off x="11001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011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6588000" y="3143160"/>
            <a:ext cx="1079640" cy="698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سوره عادی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54560" y="1063800"/>
            <a:ext cx="1079640" cy="2293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تاکید بر ناسپاسی انسان در مقابل پروردگا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68960" y="3780000"/>
            <a:ext cx="1073160" cy="2077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غفلت از آگاهي خدا، عامل ناسپاسي انس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714840" y="1071720"/>
            <a:ext cx="150012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 الْعَدِيَتِ ضبْح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فَالْمُورِيَتِ قَدْح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فَالمُْغِيرَتِ صبْح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فَأَثَرْنَ بِهِ نَقْع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فَوَسطنَ بِهِ جَمْع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86120" y="3780000"/>
            <a:ext cx="1428840" cy="2077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أَ فَلا يَعْلَمُ؟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إِذَا بُعْثرَ مَا فى الْقُبُور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 حُصلَ مَا فى الصدُور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43000" y="4429080"/>
            <a:ext cx="214308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إنّ رَبَّهُم بِهِم یَومَئِذٍ لَخَبی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143000" y="2685960"/>
            <a:ext cx="2143080" cy="65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 إِنَّهُ لِحُب الْخَيرِ لَشدِيد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143000" y="1285920"/>
            <a:ext cx="2143080" cy="53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انسنَ لِرَبِّهِ لَكَنُود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143000" y="1928880"/>
            <a:ext cx="2143080" cy="581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Calibri"/>
                <a:cs typeface="2  Badr"/>
              </a:rPr>
              <a:t>وَ إِنَّهُ عَلى ذَلِك لَشهِيد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متصل کننده لولایی 14"/>
          <p:cNvCxnSpPr>
            <a:stCxn id="69" idx="0"/>
            <a:endCxn id="70" idx="3"/>
          </p:cNvCxnSpPr>
          <p:nvPr/>
        </p:nvCxnSpPr>
        <p:spPr>
          <a:xfrm flipV="1" rot="16200000">
            <a:off x="6264720" y="2279880"/>
            <a:ext cx="93240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متصل کننده لولایی 16"/>
          <p:cNvCxnSpPr>
            <a:stCxn id="69" idx="2"/>
            <a:endCxn id="71" idx="3"/>
          </p:cNvCxnSpPr>
          <p:nvPr/>
        </p:nvCxnSpPr>
        <p:spPr>
          <a:xfrm rot="5400000">
            <a:off x="6245280" y="3937680"/>
            <a:ext cx="978480" cy="78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متصل کننده پیکان مستقیم 18"/>
          <p:cNvCxnSpPr>
            <a:stCxn id="72" idx="1"/>
            <a:endCxn id="76" idx="3"/>
          </p:cNvCxnSpPr>
          <p:nvPr/>
        </p:nvCxnSpPr>
        <p:spPr>
          <a:xfrm flipH="1" flipV="1">
            <a:off x="3285360" y="1550520"/>
            <a:ext cx="42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متصل کننده پیکان مستقیم 20"/>
          <p:cNvCxnSpPr>
            <a:stCxn id="72" idx="1"/>
            <a:endCxn id="77" idx="3"/>
          </p:cNvCxnSpPr>
          <p:nvPr/>
        </p:nvCxnSpPr>
        <p:spPr>
          <a:xfrm flipH="1">
            <a:off x="3285360" y="2213640"/>
            <a:ext cx="4294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متصل کننده پیکان مستقیم 22"/>
          <p:cNvCxnSpPr>
            <a:stCxn id="72" idx="1"/>
            <a:endCxn id="75" idx="3"/>
          </p:cNvCxnSpPr>
          <p:nvPr/>
        </p:nvCxnSpPr>
        <p:spPr>
          <a:xfrm flipH="1">
            <a:off x="3285360" y="2214720"/>
            <a:ext cx="42948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متصل کننده پیکان مستقیم 24"/>
          <p:cNvCxnSpPr>
            <a:stCxn id="73" idx="1"/>
            <a:endCxn id="74" idx="3"/>
          </p:cNvCxnSpPr>
          <p:nvPr/>
        </p:nvCxnSpPr>
        <p:spPr>
          <a:xfrm flipH="1">
            <a:off x="3285360" y="4818600"/>
            <a:ext cx="500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03Z</dcterms:modified>
  <cp:revision>77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