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7B65-A616-46B2-9FE2-4AB4F78B3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نگهدارنده مکان شماره اسلاید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7349-B8D3-4861-8F3E-D4BE72B3C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4AC2-B2A4-4F44-8052-234E6C12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3FA8-902E-4981-9DE6-7486A388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AC60-B7CD-4FF9-A7D5-E3917D0C7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01E7-855F-4F62-8B38-77DF863B9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8245-F92C-4B40-B093-50821215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70A4-8E0D-47C5-B429-78FDFBEC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6127-BD89-48C5-AEDE-6AD88905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C9A9-CCDD-49F5-B6C2-20F6A516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AE42-969E-44F4-B0DB-8F3FA233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124F-7454-40D3-877C-69429E3C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BCFD-1B30-4C9C-9854-A0D49E79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0AA0-848D-4FC0-8E21-F1BA05F0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EB63-05C1-4719-9BE4-980F08524C81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عکس 3" descr="wallpaper_1024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BESM.wav" descr=""/>
          <p:cNvPicPr/>
          <p:nvPr/>
        </p:nvPicPr>
        <p:blipFill>
          <a:blip r:embed="rId2"/>
          <a:stretch/>
        </p:blipFill>
        <p:spPr>
          <a:xfrm>
            <a:off x="1064412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0" y="564372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0000"/>
                </a:solidFill>
                <a:latin typeface="Arial"/>
                <a:cs typeface="DecoType Naskh Variants"/>
              </a:rPr>
              <a:t>تدبر در سوره مبارکه زلزل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100440"/>
            <a:ext cx="91440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ffff00"/>
                </a:solidFill>
                <a:latin typeface="Calibri"/>
                <a:cs typeface="2  Davat"/>
              </a:rPr>
              <a:t>بسم الله الرحمن الرحی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908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875.000038146973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2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2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"/>
          <p:cNvSpPr/>
          <p:nvPr/>
        </p:nvSpPr>
        <p:spPr>
          <a:xfrm>
            <a:off x="2023920" y="2921040"/>
            <a:ext cx="509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"/>
          <p:cNvSpPr/>
          <p:nvPr/>
        </p:nvSpPr>
        <p:spPr>
          <a:xfrm>
            <a:off x="1428840" y="1557360"/>
            <a:ext cx="63579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000000"/>
                </a:solidFill>
                <a:latin typeface="IranNastaliq"/>
                <a:cs typeface="IranNastaliq"/>
              </a:rPr>
              <a:t>توجه دادن به مشاهده اعمال؛ حتی کوچک ترین آنها در قیام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332000" y="3575160"/>
            <a:ext cx="65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Elephant"/>
                <a:cs typeface="2  Badr"/>
              </a:rPr>
              <a:t>در قیامت همه محشور می شوند تا اعمالشان به آنها نشان داده شود. هرکس که حتی هم وزن ذره ای نیکی کند، آن را می بین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Elephant"/>
                <a:ea typeface="2  Badr"/>
              </a:rPr>
              <a:t> و هرکس که حتی هم وزن ذره ای بدی کند، آن را می بین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9"/>
          <p:cNvSpPr/>
          <p:nvPr/>
        </p:nvSpPr>
        <p:spPr>
          <a:xfrm>
            <a:off x="1000080" y="1114560"/>
            <a:ext cx="7143840" cy="50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بِسْمِ اللَّهِ الرَّحْمَنِ الرَّحِيم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إِذَا زُلْزِلَتِ الأرْضُ زِلْزَالَهَا </a:t>
            </a:r>
            <a:r>
              <a:rPr b="1" lang="ar-SA" sz="31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1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١</a:t>
            </a:r>
            <a:r>
              <a:rPr b="1" lang="ar-SA" sz="31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1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وَأَخْرَجَتِ الأرْضُ أَثْقَالَهَا </a:t>
            </a:r>
            <a:r>
              <a:rPr b="1" lang="ar-SA" sz="31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1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٢</a:t>
            </a:r>
            <a:r>
              <a:rPr b="1" lang="ar-SA" sz="31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1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وَقَالَ الإنْسَانُ مَا لَهَا </a:t>
            </a:r>
            <a:r>
              <a:rPr b="1" lang="ar-SA" sz="31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1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٣</a:t>
            </a:r>
            <a:r>
              <a:rPr b="1" lang="ar-SA" sz="31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1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يَوْمَئِذٍ تُحَدِّثُ أَخْبَارَهَا </a:t>
            </a:r>
            <a:r>
              <a:rPr b="1" lang="ar-SA" sz="31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1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٤</a:t>
            </a:r>
            <a:r>
              <a:rPr b="1" lang="ar-SA" sz="31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1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بِأَنَّ رَبَّكَ أَوْحَى لَهَا </a:t>
            </a:r>
            <a:r>
              <a:rPr b="1" lang="ar-SA" sz="31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1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٥</a:t>
            </a:r>
            <a:r>
              <a:rPr b="1" lang="ar-SA" sz="31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1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يَوْمَئِذٍ يَصْدُرُ النَّاسُ أَشْتَاتًا لِيُرَوْا أَعْمَالَهُمْ </a:t>
            </a:r>
            <a:r>
              <a:rPr b="1" lang="ar-SA" sz="31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1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٦</a:t>
            </a:r>
            <a:r>
              <a:rPr b="1" lang="ar-SA" sz="31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1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فَمَنْ يَعْمَلْ مِثْقَالَ ذَرَّةٍ خَيْرًا يَرَهُ </a:t>
            </a:r>
            <a:r>
              <a:rPr b="1" lang="ar-SA" sz="31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1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٧</a:t>
            </a:r>
            <a:r>
              <a:rPr b="1" lang="ar-SA" sz="31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1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وَمَنْ يَعْمَلْ مِثْقَالَ ذَرَّةٍ شَرًّا يَرَهُ </a:t>
            </a:r>
            <a:r>
              <a:rPr b="1" lang="ar-SA" sz="31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1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٨</a:t>
            </a:r>
            <a:r>
              <a:rPr b="1" lang="ar-SA" sz="31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﴾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276.MP3" descr=""/>
          <p:cNvPicPr/>
          <p:nvPr/>
        </p:nvPicPr>
        <p:blipFill>
          <a:blip r:embed="rId2"/>
          <a:stretch/>
        </p:blipFill>
        <p:spPr>
          <a:xfrm>
            <a:off x="1085868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60114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"/>
          <p:cNvSpPr/>
          <p:nvPr/>
        </p:nvSpPr>
        <p:spPr>
          <a:xfrm>
            <a:off x="3683160" y="2766960"/>
            <a:ext cx="177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دع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3033360" y="1357200"/>
            <a:ext cx="26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7200" spc="-1" strike="noStrike">
                <a:solidFill>
                  <a:srgbClr val="000000"/>
                </a:solidFill>
                <a:latin typeface="IranNastaliq"/>
                <a:cs typeface="IranNastaliq"/>
              </a:rPr>
              <a:t>خدايا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285920" y="3105000"/>
            <a:ext cx="6572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2  Lotus"/>
              </a:rPr>
              <a:t>توفيق صرف عمر در انجام نیکیها را هرچند كوچك باشد به ما ارزاني دار و ما را از گناه زشتی هرچند به نظر ناچيز بيايد رهايي بخ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1146600" y="2644920"/>
            <a:ext cx="685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التماس دع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2012040" y="2921040"/>
            <a:ext cx="51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شناسه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نگهدارنده مکان محتوا 6" descr=""/>
          <p:cNvPicPr/>
          <p:nvPr/>
        </p:nvPicPr>
        <p:blipFill>
          <a:blip r:embed="rId2"/>
          <a:stretch/>
        </p:blipFill>
        <p:spPr>
          <a:xfrm>
            <a:off x="914400" y="762120"/>
            <a:ext cx="744840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2239920" y="2921040"/>
            <a:ext cx="466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"/>
          <p:cNvSpPr/>
          <p:nvPr/>
        </p:nvSpPr>
        <p:spPr>
          <a:xfrm>
            <a:off x="1069920" y="4329000"/>
            <a:ext cx="7074000" cy="180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2  Badr"/>
              </a:rPr>
              <a:t>  اگر امکان خیری کوچک برایمان پیش آمد، نسبت به آن بی توجهی می کنیم یا اگر گناه و اشتباه کوچکی از ما سر زد، آن را جدی نمی گیریم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071720" y="1092240"/>
            <a:ext cx="6999120" cy="1373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2  Badr"/>
              </a:rPr>
              <a:t>  حساب و کتاب و جزا را باور نداریم و به همین جهت به عمل نیک مبادرت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Badr"/>
              </a:rPr>
              <a:t>نمی کنیم و از عمل بد دوری نمی جوییم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069920" y="2521080"/>
            <a:ext cx="7074000" cy="180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2  Badr"/>
              </a:rPr>
              <a:t>  یا اگر هم آن را باور داشته باشیم، از دقت و ظرافت آن غفلت می ورزیم و از این رو به راحتی از کنار خیر و شرهای کوچک عبور می کنیم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9"/>
          <p:cNvSpPr/>
          <p:nvPr/>
        </p:nvSpPr>
        <p:spPr>
          <a:xfrm>
            <a:off x="1000080" y="1114560"/>
            <a:ext cx="7143840" cy="50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بِسْمِ اللَّهِ الرَّحْمَنِ الرَّحِيم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إِذَا زُلْزِلَتِ الأرْضُ زِلْزَالَهَا </a:t>
            </a:r>
            <a:r>
              <a:rPr b="1" lang="ar-SA" sz="31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1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١</a:t>
            </a:r>
            <a:r>
              <a:rPr b="1" lang="ar-SA" sz="31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1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وَأَخْرَجَتِ الأرْضُ أَثْقَالَهَا </a:t>
            </a:r>
            <a:r>
              <a:rPr b="1" lang="ar-SA" sz="31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1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٢</a:t>
            </a:r>
            <a:r>
              <a:rPr b="1" lang="ar-SA" sz="31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1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وَقَالَ الإنْسَانُ مَا لَهَا </a:t>
            </a:r>
            <a:r>
              <a:rPr b="1" lang="ar-SA" sz="31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1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٣</a:t>
            </a:r>
            <a:r>
              <a:rPr b="1" lang="ar-SA" sz="31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1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يَوْمَئِذٍ تُحَدِّثُ أَخْبَارَهَا </a:t>
            </a:r>
            <a:r>
              <a:rPr b="1" lang="ar-SA" sz="31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1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٤</a:t>
            </a:r>
            <a:r>
              <a:rPr b="1" lang="ar-SA" sz="31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1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بِأَنَّ رَبَّكَ أَوْحَى لَهَا </a:t>
            </a:r>
            <a:r>
              <a:rPr b="1" lang="ar-SA" sz="31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1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٥</a:t>
            </a:r>
            <a:r>
              <a:rPr b="1" lang="ar-SA" sz="31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1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يَوْمَئِذٍ يَصْدُرُ النَّاسُ أَشْتَاتًا لِيُرَوْا أَعْمَالَهُمْ </a:t>
            </a:r>
            <a:r>
              <a:rPr b="1" lang="ar-SA" sz="31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1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٦</a:t>
            </a:r>
            <a:r>
              <a:rPr b="1" lang="ar-SA" sz="31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1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فَمَنْ يَعْمَلْ مِثْقَالَ ذَرَّةٍ خَيْرًا يَرَهُ </a:t>
            </a:r>
            <a:r>
              <a:rPr b="1" lang="ar-SA" sz="31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1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٧</a:t>
            </a:r>
            <a:r>
              <a:rPr b="1" lang="ar-SA" sz="31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1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وَمَنْ يَعْمَلْ مِثْقَالَ ذَرَّةٍ شَرًّا يَرَهُ </a:t>
            </a:r>
            <a:r>
              <a:rPr b="1" lang="ar-SA" sz="31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1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٨</a:t>
            </a:r>
            <a:r>
              <a:rPr b="1" lang="ar-SA" sz="3100" spc="-1" strike="noStrike">
                <a:solidFill>
                  <a:srgbClr val="339b25"/>
                </a:solidFill>
                <a:latin typeface="Traditional Arabic"/>
                <a:cs typeface="Traditional Arabic"/>
              </a:rPr>
              <a:t>﴾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276.MP3" descr=""/>
          <p:cNvPicPr/>
          <p:nvPr/>
        </p:nvPicPr>
        <p:blipFill>
          <a:blip r:embed="rId2"/>
          <a:stretch/>
        </p:blipFill>
        <p:spPr>
          <a:xfrm>
            <a:off x="1085868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60114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"/>
          <p:cNvSpPr/>
          <p:nvPr/>
        </p:nvSpPr>
        <p:spPr>
          <a:xfrm>
            <a:off x="1092240" y="2921040"/>
            <a:ext cx="695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3"/>
          <p:cNvSpPr/>
          <p:nvPr/>
        </p:nvSpPr>
        <p:spPr>
          <a:xfrm>
            <a:off x="5214960" y="1357200"/>
            <a:ext cx="2843280" cy="1947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Traditional Arabic"/>
                <a:cs typeface="2  Badr"/>
              </a:rPr>
              <a:t>إِذَا زُلْزِلَتِ الأَرْض زِلْزَالهََا وَ أَخْرَجَتِ الأَرْض أَثْقَالَهَا وَ قَالَ الانسنُ مَا لهََا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4"/>
          <p:cNvSpPr/>
          <p:nvPr/>
        </p:nvSpPr>
        <p:spPr>
          <a:xfrm>
            <a:off x="1057320" y="1071720"/>
            <a:ext cx="3443400" cy="1214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raditional Arabic"/>
                <a:cs typeface="2  Badr"/>
              </a:rPr>
              <a:t>يَوْمَئذٍ تحَدِّث</a:t>
            </a:r>
            <a:r>
              <a:rPr b="1" lang="fa-IR" sz="2600" spc="-1" strike="noStrike">
                <a:solidFill>
                  <a:srgbClr val="000000"/>
                </a:solidFill>
                <a:latin typeface="Traditional Arabic"/>
                <a:cs typeface="2  Badr"/>
              </a:rPr>
              <a:t>ُ</a:t>
            </a:r>
            <a:r>
              <a:rPr b="1" lang="ar-SA" sz="2600" spc="-1" strike="noStrike">
                <a:solidFill>
                  <a:srgbClr val="000000"/>
                </a:solidFill>
                <a:latin typeface="Traditional Arabic"/>
                <a:ea typeface="2  Badr"/>
              </a:rPr>
              <a:t> أَخْبَارَهَا بِأَنَّ رَبَّك أَوْحَى لَهَا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5"/>
          <p:cNvSpPr/>
          <p:nvPr/>
        </p:nvSpPr>
        <p:spPr>
          <a:xfrm>
            <a:off x="1057320" y="2428920"/>
            <a:ext cx="3443400" cy="1220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raditional Arabic"/>
                <a:cs typeface="2  Badr"/>
              </a:rPr>
              <a:t>يَوْمَئذٍ يَصدُرُ النَّاس أَشتَاتاً لِّيُرَوْا أَعْمَلَهُم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6"/>
          <p:cNvSpPr/>
          <p:nvPr/>
        </p:nvSpPr>
        <p:spPr>
          <a:xfrm>
            <a:off x="3000240" y="4000680"/>
            <a:ext cx="1308240" cy="1857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raditional Arabic"/>
                <a:cs typeface="2  Badr"/>
              </a:rPr>
              <a:t>فَمَن يَعْمَلْ مِثْقَالَ ذَرَّةٍ خَيْراً يَرَه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7"/>
          <p:cNvSpPr/>
          <p:nvPr/>
        </p:nvSpPr>
        <p:spPr>
          <a:xfrm>
            <a:off x="1343160" y="4000680"/>
            <a:ext cx="1307880" cy="1857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raditional Arabic"/>
                <a:cs typeface="2  Badr"/>
              </a:rPr>
              <a:t>وَ مَن يَعْمَلْ مِثْقَالَ ذَرَّةٍ شرًّا يَرَه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متصل کننده پیکان مستقیم 43"/>
          <p:cNvCxnSpPr>
            <a:stCxn id="70" idx="1"/>
            <a:endCxn id="71" idx="3"/>
          </p:cNvCxnSpPr>
          <p:nvPr/>
        </p:nvCxnSpPr>
        <p:spPr>
          <a:xfrm flipH="1" flipV="1">
            <a:off x="4500360" y="1678680"/>
            <a:ext cx="714960" cy="65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متصل کننده پیکان مستقیم 45"/>
          <p:cNvCxnSpPr>
            <a:stCxn id="70" idx="1"/>
            <a:endCxn id="72" idx="3"/>
          </p:cNvCxnSpPr>
          <p:nvPr/>
        </p:nvCxnSpPr>
        <p:spPr>
          <a:xfrm flipH="1">
            <a:off x="4500360" y="2329200"/>
            <a:ext cx="714960" cy="70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متصل کننده پیکان مستقیم 47"/>
          <p:cNvCxnSpPr>
            <a:stCxn id="71" idx="2"/>
            <a:endCxn id="72" idx="0"/>
          </p:cNvCxnSpPr>
          <p:nvPr/>
        </p:nvCxnSpPr>
        <p:spPr>
          <a:xfrm flipH="1">
            <a:off x="2777760" y="2285640"/>
            <a:ext cx="216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متصل کننده پیکان مستقیم 49"/>
          <p:cNvCxnSpPr>
            <a:stCxn id="72" idx="2"/>
            <a:endCxn id="73" idx="0"/>
          </p:cNvCxnSpPr>
          <p:nvPr/>
        </p:nvCxnSpPr>
        <p:spPr>
          <a:xfrm>
            <a:off x="2779560" y="3649320"/>
            <a:ext cx="87552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متصل کننده پیکان مستقیم 51"/>
          <p:cNvCxnSpPr>
            <a:stCxn id="72" idx="2"/>
            <a:endCxn id="74" idx="0"/>
          </p:cNvCxnSpPr>
          <p:nvPr/>
        </p:nvCxnSpPr>
        <p:spPr>
          <a:xfrm flipH="1">
            <a:off x="1996560" y="3649320"/>
            <a:ext cx="78336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7T11:41:04Z</dcterms:created>
  <dc:creator>YAALI</dc:creator>
  <dc:description/>
  <dc:language>en-US</dc:language>
  <cp:lastModifiedBy>ALI</cp:lastModifiedBy>
  <dcterms:modified xsi:type="dcterms:W3CDTF">2011-11-16T21:26:18Z</dcterms:modified>
  <cp:revision>60</cp:revision>
  <dc:subject/>
  <dc:title>ارائه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