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9126-C16E-43A6-ABA6-2D05DA6312B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تدبر در سوره مبارکه کافرو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C94A-CE47-42CE-A212-913B9B3667F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021-950E-454B-A3B6-70525E28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F70-3BE8-473C-B378-EFE04B1D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DCF-2D63-4F57-9DFB-A2985BA1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109-DD24-4C23-9C99-03F3CC78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4AB-49EA-4EC8-922C-E9FF7A42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E27-BDEF-441C-99D2-B54F6605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C73-9BB3-4F4A-B31B-5D0B4CE3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5D2-E9EB-41F4-A49F-CDC36A59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083-2E61-4158-B1E5-73EB75A6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A88-4232-4310-BD52-8170DA13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3F3-101F-4EB2-AEAF-148AC08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667-DF7B-41AA-AE90-45BE0810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0830-D4FA-4490-82F7-8BD669EAED48}" type="slidenum">
              <a:rPr b="0" lang="fa-I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076120" y="5300640"/>
            <a:ext cx="49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ndara"/>
                <a:cs typeface="2  Zar"/>
              </a:rPr>
              <a:t>تدبر در سوره مبارکه نص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تصویر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1550880"/>
            <a:ext cx="2205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IranNastaliq"/>
                <a:cs typeface="DecoType Naskh Variants"/>
              </a:rPr>
              <a:t>تدب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IranNastaliq"/>
                <a:cs typeface="DecoType Naskh Variants"/>
              </a:rPr>
              <a:t>د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IranNastaliq"/>
                <a:cs typeface="DecoType Naskh Variants"/>
              </a:rPr>
              <a:t>سوره مبارک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IranNastaliq"/>
                <a:cs typeface="DecoType Naskh Variants"/>
              </a:rPr>
              <a:t>کافرو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besm.wav" descr=""/>
          <p:cNvPicPr/>
          <p:nvPr/>
        </p:nvPicPr>
        <p:blipFill>
          <a:blip r:embed="rId2"/>
          <a:stretch/>
        </p:blipFill>
        <p:spPr>
          <a:xfrm>
            <a:off x="104299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5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92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1547640" y="2459160"/>
            <a:ext cx="53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95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598320" y="1714680"/>
            <a:ext cx="790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بلاغ سازش ناپذیری عبادی و جدایی کامل دین پیامبر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و کافر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928800" y="3286080"/>
            <a:ext cx="7292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ndara"/>
                <a:cs typeface="2  Badr"/>
              </a:rPr>
              <a:t>هیچ راهی برای جمع بین معبود پیامبرِ توحید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Candara"/>
                <a:cs typeface="2  Badr"/>
              </a:rPr>
              <a:t>با معبودهای خیالی کافران مشرک وجود ندارد و هیچ اشتراک دینی هم بین آنان نی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99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102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-357120" y="4581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لَكُمْ دِینُكُمْ وَلِی دِینِ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fa-IR" sz="3600" spc="-1" strike="noStrike">
                <a:solidFill>
                  <a:srgbClr val="0d7d10"/>
                </a:solidFill>
                <a:latin typeface="Times New Roman"/>
                <a:ea typeface="Traditional Arabic"/>
              </a:rPr>
              <a:t>6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r>
              <a:rPr b="1" lang="fa-IR" sz="36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101680" y="1143000"/>
            <a:ext cx="49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یم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201920" y="219852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قُلْ یا أَیهَا الْكَافِرُونَ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١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12640" y="2198520"/>
            <a:ext cx="42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لَا أَعْبُدُ مَا تَعْبُدُونَ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fa-IR" sz="3600" spc="-1" strike="noStrike">
                <a:solidFill>
                  <a:srgbClr val="0d7d10"/>
                </a:solidFill>
                <a:latin typeface="Times New Roman"/>
                <a:ea typeface="Traditional Arabic"/>
              </a:rPr>
              <a:t>2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r>
              <a:rPr b="1" lang="fa-IR" sz="36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965400" y="3389400"/>
            <a:ext cx="52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لَا أَنْتُمْ عَابِدُونَ مَا أَعْبُدُ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fa-IR" sz="3600" spc="-1" strike="noStrike">
                <a:solidFill>
                  <a:srgbClr val="0d7d10"/>
                </a:solidFill>
                <a:latin typeface="Times New Roman"/>
                <a:ea typeface="Traditional Arabic"/>
              </a:rPr>
              <a:t>3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-188640" y="3389400"/>
            <a:ext cx="46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لَا أَنَا عَابِدٌ مَا عَبَدْتُمْ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fa-IR" sz="3600" spc="-1" strike="noStrike">
                <a:solidFill>
                  <a:srgbClr val="0d7d10"/>
                </a:solidFill>
                <a:latin typeface="Times New Roman"/>
                <a:ea typeface="Traditional Arabic"/>
              </a:rPr>
              <a:t>4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759120" y="4581360"/>
            <a:ext cx="53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لَا أَنْتُمْ عَابِدُونَ مَا أَعْبُدُ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fa-IR" sz="3600" spc="-1" strike="noStrike">
                <a:solidFill>
                  <a:srgbClr val="0d7d10"/>
                </a:solidFill>
                <a:latin typeface="Times New Roman"/>
                <a:ea typeface="Traditional Arabic"/>
              </a:rPr>
              <a:t>5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r>
              <a:rPr b="1" lang="fa-IR" sz="36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286.MP3" descr=""/>
          <p:cNvPicPr/>
          <p:nvPr/>
        </p:nvPicPr>
        <p:blipFill>
          <a:blip r:embed="rId3"/>
          <a:stretch/>
        </p:blipFill>
        <p:spPr>
          <a:xfrm>
            <a:off x="10287000" y="928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5439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112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115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642960" y="2496960"/>
            <a:ext cx="77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Lotus"/>
              </a:rPr>
              <a:t>عاجزانه از تو مي خواهيم ما را در مسير پرستش توحیدی ثابت قدم بدار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57120" y="50007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Lotus"/>
              </a:rPr>
              <a:t>بیزاری از خدایان دروغین مشرکان دیروز و امروز را در جان ما استحکام بخ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253320" y="928800"/>
            <a:ext cx="266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معبودا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714760" y="3500280"/>
            <a:ext cx="368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121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55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58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pic>
        <p:nvPicPr>
          <p:cNvPr id="59" name="نگهدارنده مکان محتوا 6" descr=""/>
          <p:cNvPicPr/>
          <p:nvPr/>
        </p:nvPicPr>
        <p:blipFill>
          <a:blip r:embed="rId3"/>
          <a:stretch/>
        </p:blipFill>
        <p:spPr>
          <a:xfrm>
            <a:off x="450720" y="804960"/>
            <a:ext cx="82425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61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64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611280" y="137304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پیامبر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2  Lotus"/>
              </a:rPr>
              <a:t>، </a:t>
            </a: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همگان را به پرستش خدای یگانه دعوت می</a:t>
            </a:r>
            <a:r>
              <a:rPr b="1" lang="fa-IR" sz="22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کند و از پرستش غیر او باز می</a:t>
            </a:r>
            <a:r>
              <a:rPr b="1" lang="fa-IR" sz="22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دار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593640" y="2354400"/>
            <a:ext cx="77770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برخی می</a:t>
            </a:r>
            <a:r>
              <a:rPr b="1" lang="fa-IR" sz="22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خواهند آن حضرت را به عقب</a:t>
            </a:r>
            <a:r>
              <a:rPr b="1" lang="fa-IR" sz="22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نشینی وادارند و چنان کنند که نسبت به پرستش غیر خدا تسلیم گردد و از دینی جدید با معبودی جدید، سخن نگوید. این بار، دانسته یا نادانسته با سلاح مغالطه به میدان آمده</a:t>
            </a:r>
            <a:r>
              <a:rPr b="1" lang="fa-IR" sz="22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اند: ای محمد</a:t>
            </a:r>
            <a:r>
              <a:rPr b="1" lang="fa-IR" sz="22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ar-SA" sz="2200" spc="-1" strike="noStrike">
                <a:solidFill>
                  <a:srgbClr val="000000"/>
                </a:solidFill>
                <a:latin typeface="(normal text)"/>
                <a:ea typeface="2  Lotus"/>
              </a:rPr>
              <a:t>! مگر نه این است که تو ما را به پرستش خدای خود فرا</a:t>
            </a:r>
            <a:r>
              <a:rPr b="1" lang="fa-IR" sz="22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می</a:t>
            </a:r>
            <a:r>
              <a:rPr b="1" lang="fa-IR" sz="22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خوانی؟ بدان که همانا ما نیز پرستش</a:t>
            </a:r>
            <a:r>
              <a:rPr b="1" lang="fa-IR" sz="22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گران خدای تو هستیم و در این باره با تو اشتراک نظر داریم و اختلافی نداریم. این تو هستی که درباره پرستش خدایان ما، با ما اختلاف کرده</a:t>
            </a:r>
            <a:r>
              <a:rPr b="1" lang="fa-IR" sz="22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ای و همگان را از پرستش آنها باز</a:t>
            </a:r>
            <a:r>
              <a:rPr b="1" lang="fa-IR" sz="22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(normal text)"/>
                <a:cs typeface="2  Lotus"/>
              </a:rPr>
              <a:t>میدار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68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71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-357120" y="4581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لَكُمْ دِینُكُمْ وَلِی دِینِ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fa-IR" sz="3600" spc="-1" strike="noStrike">
                <a:solidFill>
                  <a:srgbClr val="0d7d10"/>
                </a:solidFill>
                <a:latin typeface="Times New Roman"/>
                <a:ea typeface="Traditional Arabic"/>
              </a:rPr>
              <a:t>6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r>
              <a:rPr b="1" lang="fa-IR" sz="36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101680" y="1143000"/>
            <a:ext cx="49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یم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201920" y="219852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قُلْ یا أَیهَا الْكَافِرُونَ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١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12640" y="2198520"/>
            <a:ext cx="42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لَا أَعْبُدُ مَا تَعْبُدُونَ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fa-IR" sz="3600" spc="-1" strike="noStrike">
                <a:solidFill>
                  <a:srgbClr val="0d7d10"/>
                </a:solidFill>
                <a:latin typeface="Times New Roman"/>
                <a:ea typeface="Traditional Arabic"/>
              </a:rPr>
              <a:t>2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r>
              <a:rPr b="1" lang="fa-IR" sz="36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965400" y="3389400"/>
            <a:ext cx="52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لَا أَنْتُمْ عَابِدُونَ مَا أَعْبُدُ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fa-IR" sz="3600" spc="-1" strike="noStrike">
                <a:solidFill>
                  <a:srgbClr val="0d7d10"/>
                </a:solidFill>
                <a:latin typeface="Times New Roman"/>
                <a:ea typeface="Traditional Arabic"/>
              </a:rPr>
              <a:t>3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-188640" y="3389400"/>
            <a:ext cx="46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لَا أَنَا عَابِدٌ مَا عَبَدْتُمْ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fa-IR" sz="3600" spc="-1" strike="noStrike">
                <a:solidFill>
                  <a:srgbClr val="0d7d10"/>
                </a:solidFill>
                <a:latin typeface="Times New Roman"/>
                <a:ea typeface="Traditional Arabic"/>
              </a:rPr>
              <a:t>4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3759120" y="4581360"/>
            <a:ext cx="53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لَا أَنْتُمْ عَابِدُونَ مَا أَعْبُدُ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fa-IR" sz="3600" spc="-1" strike="noStrike">
                <a:solidFill>
                  <a:srgbClr val="0d7d10"/>
                </a:solidFill>
                <a:latin typeface="Times New Roman"/>
                <a:ea typeface="Traditional Arabic"/>
              </a:rPr>
              <a:t>5</a:t>
            </a:r>
            <a:r>
              <a:rPr b="1" lang="ar-SA" sz="36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r>
              <a:rPr b="1" lang="fa-IR" sz="36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286.MP3" descr=""/>
          <p:cNvPicPr/>
          <p:nvPr/>
        </p:nvPicPr>
        <p:blipFill>
          <a:blip r:embed="rId3"/>
          <a:stretch/>
        </p:blipFill>
        <p:spPr>
          <a:xfrm>
            <a:off x="10287000" y="928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439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تصویر 3" descr=""/>
          <p:cNvPicPr/>
          <p:nvPr/>
        </p:nvPicPr>
        <p:blipFill>
          <a:blip r:embed="rId1"/>
          <a:stretch/>
        </p:blipFill>
        <p:spPr>
          <a:xfrm>
            <a:off x="39600" y="36360"/>
            <a:ext cx="9104400" cy="954360"/>
          </a:xfrm>
          <a:prstGeom prst="rect">
            <a:avLst/>
          </a:prstGeom>
          <a:ln w="0">
            <a:noFill/>
          </a:ln>
        </p:spPr>
      </p:pic>
      <p:pic>
        <p:nvPicPr>
          <p:cNvPr id="84" name="تصویر 4" descr=""/>
          <p:cNvPicPr/>
          <p:nvPr/>
        </p:nvPicPr>
        <p:blipFill>
          <a:blip r:embed="rId2"/>
          <a:stretch/>
        </p:blipFill>
        <p:spPr>
          <a:xfrm>
            <a:off x="39600" y="5900760"/>
            <a:ext cx="9104400" cy="954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6524640" y="2306520"/>
            <a:ext cx="2009880" cy="876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قل یا أیها الکافر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444840" y="2328840"/>
            <a:ext cx="2293920" cy="862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لا أعبد ما تعبد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444840" y="3189240"/>
            <a:ext cx="2293920" cy="1608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 لا أنتم عابدون ما أعب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 لا أنا عابد ما عبدت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 لا أنتم عابدون ما أعب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1280" y="2309760"/>
            <a:ext cx="2009520" cy="881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لکم دینکم و لی دی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متصل کننده پیکان مستقیم 8"/>
          <p:cNvCxnSpPr>
            <a:stCxn id="85" idx="1"/>
            <a:endCxn id="86" idx="3"/>
          </p:cNvCxnSpPr>
          <p:nvPr/>
        </p:nvCxnSpPr>
        <p:spPr>
          <a:xfrm flipH="1">
            <a:off x="5738040" y="2744640"/>
            <a:ext cx="78660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متصل کننده پیکان مستقیم 10"/>
          <p:cNvCxnSpPr>
            <a:stCxn id="86" idx="1"/>
            <a:endCxn id="88" idx="3"/>
          </p:cNvCxnSpPr>
          <p:nvPr/>
        </p:nvCxnSpPr>
        <p:spPr>
          <a:xfrm flipH="1" flipV="1">
            <a:off x="2620080" y="2749320"/>
            <a:ext cx="824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21:07:39Z</dcterms:created>
  <dc:creator>YAALI</dc:creator>
  <dc:description/>
  <dc:language>en-US</dc:language>
  <cp:lastModifiedBy>ALI</cp:lastModifiedBy>
  <dcterms:modified xsi:type="dcterms:W3CDTF">2011-11-16T21:23:52Z</dcterms:modified>
  <cp:revision>39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