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14E7-3CD3-4321-B4BE-FABF867EC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نگهدارنده مکان شماره اسلاید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3A1A-9F5A-429F-AF80-B8481D31B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اقدام هدایتی سوره: ابلاغ فرمان قرائت وحی در راستای تعلیم انسا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نگهدارنده مکان شماره اسلاید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D1C5-7284-4682-8F38-3F9AE77E9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3F8-1A07-45EA-82C9-486083DA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351-CC9C-481C-A348-5337477F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2EB-B6A5-42CE-88F3-76BA8E67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030-129D-4DC5-BF5D-53826E63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CD3-184D-4C66-93F0-2737D88D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B7E-8E6F-429A-938A-AD202BDB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DA0-6814-4ECD-AECF-2FE61B49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E5B-1B3B-4954-8F61-E664AE6E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AE5-B073-468A-BF0C-95789771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B2A-F505-462E-97E8-327EDC36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3A3-79E3-4472-95EE-EAED6357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E27-79DA-4C44-BFDD-4D242254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793A-90BC-4996-9088-28D27D4DC422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2" descr=""/>
          <p:cNvPicPr/>
          <p:nvPr/>
        </p:nvPicPr>
        <p:blipFill>
          <a:blip r:embed="rId2"/>
          <a:stretch/>
        </p:blipFill>
        <p:spPr>
          <a:xfrm>
            <a:off x="-6480" y="5608800"/>
            <a:ext cx="9156960" cy="1328400"/>
          </a:xfrm>
          <a:prstGeom prst="rect">
            <a:avLst/>
          </a:prstGeom>
          <a:ln w="0">
            <a:noFill/>
          </a:ln>
        </p:spPr>
      </p:pic>
      <p:pic>
        <p:nvPicPr>
          <p:cNvPr id="50" name="BESM.wav" descr=""/>
          <p:cNvPicPr/>
          <p:nvPr/>
        </p:nvPicPr>
        <p:blipFill>
          <a:blip r:embed="rId3"/>
          <a:stretch/>
        </p:blipFill>
        <p:spPr>
          <a:xfrm>
            <a:off x="10929960" y="-15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10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700.000717163086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تصویر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76" name="Text Box 3"/>
          <p:cNvSpPr/>
          <p:nvPr/>
        </p:nvSpPr>
        <p:spPr>
          <a:xfrm>
            <a:off x="6838920" y="1176480"/>
            <a:ext cx="1519200" cy="698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اقْرَأْ بِاسْمِ رَبِّك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571760" y="681120"/>
            <a:ext cx="4786200" cy="761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الَّذِي خَلَقَ * خَلَقَ الإنْسَانَ مِنْ عَلَق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71760" y="1652760"/>
            <a:ext cx="4786200" cy="761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اقْرَأْ وَرَبُّكَ الأكْرَمُ الَّذِي عَلَّمَ بِالْقَلَمِ * عَلَّمَ الإنْسَانَ مَا لَمْ يَعْلَم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571760" y="2622600"/>
            <a:ext cx="4786200" cy="877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كَلا إِنَّ الإنْسَانَ لَيَطْغَى*أَنْ رَآهُ اسْتَغْنَى *إِنَّ إِلَى رَبِّكَ الرُّجْعَى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500720" y="3857760"/>
            <a:ext cx="3786120" cy="1428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أَرَأَيْتَ الَّذِي يَنْهَى * عَبْدًا إِذَا صَلَّى * أَرَأَيْتَ إِنْ كَانَ عَلَى الْهُدَى * أَوْ أَمَرَ بِالتَّقْوَى * أَرَأَيْتَ إِنْ كَذَّبَ وَتَوَلَّى * أَلَمْ يَعْلَمْ بِأَنَّ اللَّهَ يَرَى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857160" y="3857760"/>
            <a:ext cx="3143520" cy="1428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كَلا لَئِنْ لَمْ يَنْتَهِ لَنَسْفَعًا بِالنَّاصِيَةِ * نَاصِيَةٍ كَاذِبَةٍ خَاطِئَةٍ * فَلْيَدْعُ نَادِيَهُ *  سَنَدْعُ الزَّبَانِيَةَ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857160" y="5429160"/>
            <a:ext cx="3143520" cy="763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كَلا لا تُطِعْهُ وَاسْجُدْ وَاقْتَرِبْ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متصل کننده پیکان مستقیم 10"/>
          <p:cNvCxnSpPr>
            <a:stCxn id="76" idx="1"/>
            <a:endCxn id="77" idx="3"/>
          </p:cNvCxnSpPr>
          <p:nvPr/>
        </p:nvCxnSpPr>
        <p:spPr>
          <a:xfrm flipH="1" flipV="1">
            <a:off x="6357600" y="1061640"/>
            <a:ext cx="481680" cy="46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متصل کننده پیکان مستقیم 12"/>
          <p:cNvCxnSpPr>
            <a:stCxn id="76" idx="1"/>
            <a:endCxn id="78" idx="3"/>
          </p:cNvCxnSpPr>
          <p:nvPr/>
        </p:nvCxnSpPr>
        <p:spPr>
          <a:xfrm flipH="1">
            <a:off x="6357600" y="1524600"/>
            <a:ext cx="481680" cy="50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متصل کننده پیکان مستقیم 14"/>
          <p:cNvCxnSpPr>
            <a:stCxn id="77" idx="2"/>
            <a:endCxn id="78" idx="0"/>
          </p:cNvCxnSpPr>
          <p:nvPr/>
        </p:nvCxnSpPr>
        <p:spPr>
          <a:xfrm flipH="1">
            <a:off x="3963600" y="1444680"/>
            <a:ext cx="21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متصل کننده پیکان مستقیم 16"/>
          <p:cNvCxnSpPr>
            <a:stCxn id="78" idx="2"/>
            <a:endCxn id="79" idx="0"/>
          </p:cNvCxnSpPr>
          <p:nvPr/>
        </p:nvCxnSpPr>
        <p:spPr>
          <a:xfrm flipH="1">
            <a:off x="3963600" y="2415960"/>
            <a:ext cx="216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Right Brace 18"/>
          <p:cNvSpPr/>
          <p:nvPr/>
        </p:nvSpPr>
        <p:spPr>
          <a:xfrm rot="16200000">
            <a:off x="3857400" y="1785600"/>
            <a:ext cx="357480" cy="378612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3786120"/>
              <a:gd name="textAreaBottom" fmla="*/ 3777120 h 378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"/>
                  <a:pt x="10800" y="170"/>
                </a:cubicBezTo>
                <a:lnTo>
                  <a:pt x="10800" y="10630"/>
                </a:lnTo>
                <a:cubicBezTo>
                  <a:pt x="10800" y="10715"/>
                  <a:pt x="16200" y="10800"/>
                  <a:pt x="21600" y="10800"/>
                </a:cubicBezTo>
                <a:cubicBezTo>
                  <a:pt x="16200" y="10800"/>
                  <a:pt x="10800" y="10885"/>
                  <a:pt x="10800" y="10970"/>
                </a:cubicBezTo>
                <a:lnTo>
                  <a:pt x="10800" y="21430"/>
                </a:lnTo>
                <a:cubicBezTo>
                  <a:pt x="10800" y="215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متصل کننده پیکان مستقیم 20"/>
          <p:cNvCxnSpPr>
            <a:stCxn id="80" idx="1"/>
            <a:endCxn id="81" idx="3"/>
          </p:cNvCxnSpPr>
          <p:nvPr/>
        </p:nvCxnSpPr>
        <p:spPr>
          <a:xfrm flipH="1" flipV="1">
            <a:off x="3999960" y="457164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متصل کننده پیکان مستقیم 22"/>
          <p:cNvCxnSpPr>
            <a:stCxn id="81" idx="2"/>
            <a:endCxn id="82" idx="0"/>
          </p:cNvCxnSpPr>
          <p:nvPr/>
        </p:nvCxnSpPr>
        <p:spPr>
          <a:xfrm flipH="1">
            <a:off x="2428560" y="5288040"/>
            <a:ext cx="216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Rectangle 64"/>
          <p:cNvSpPr/>
          <p:nvPr/>
        </p:nvSpPr>
        <p:spPr>
          <a:xfrm>
            <a:off x="9644040" y="642960"/>
            <a:ext cx="7786800" cy="557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140520" y="1714680"/>
            <a:ext cx="2000160" cy="1379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B Lotus"/>
              </a:rPr>
              <a:t>بنده نمازگز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214800" y="1714680"/>
            <a:ext cx="2643120" cy="1379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»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B Badr"/>
              </a:rPr>
              <a:t>إن کان عَلَی الهُد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B Badr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B Lotus"/>
              </a:rPr>
              <a:t>استوار بر هدای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9"/>
          <p:cNvCxnSpPr>
            <a:stCxn id="91" idx="1"/>
            <a:endCxn id="92" idx="3"/>
          </p:cNvCxnSpPr>
          <p:nvPr/>
        </p:nvCxnSpPr>
        <p:spPr>
          <a:xfrm flipH="1" flipV="1">
            <a:off x="5857200" y="2402640"/>
            <a:ext cx="28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9"/>
          <p:cNvCxnSpPr>
            <a:stCxn id="92" idx="1"/>
            <a:endCxn id="95" idx="3"/>
          </p:cNvCxnSpPr>
          <p:nvPr/>
        </p:nvCxnSpPr>
        <p:spPr>
          <a:xfrm flipH="1" flipV="1">
            <a:off x="2853720" y="2402640"/>
            <a:ext cx="361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Text Box 4"/>
          <p:cNvSpPr/>
          <p:nvPr/>
        </p:nvSpPr>
        <p:spPr>
          <a:xfrm>
            <a:off x="853920" y="1714680"/>
            <a:ext cx="2000520" cy="1379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»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B Badr"/>
              </a:rPr>
              <a:t>أو أَمَرَ بِالتَّقو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B Badr"/>
              </a:rPr>
              <a:t>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B Lotus"/>
              </a:rPr>
              <a:t>امر کننده به تقو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AutoShape 8"/>
          <p:cNvCxnSpPr>
            <a:stCxn id="91" idx="2"/>
            <a:endCxn id="97" idx="0"/>
          </p:cNvCxnSpPr>
          <p:nvPr/>
        </p:nvCxnSpPr>
        <p:spPr>
          <a:xfrm flipH="1">
            <a:off x="7136640" y="3093840"/>
            <a:ext cx="396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AutoShape 8"/>
          <p:cNvCxnSpPr>
            <a:stCxn id="92" idx="2"/>
            <a:endCxn id="99" idx="0"/>
          </p:cNvCxnSpPr>
          <p:nvPr/>
        </p:nvCxnSpPr>
        <p:spPr>
          <a:xfrm flipH="1">
            <a:off x="4533120" y="3093840"/>
            <a:ext cx="396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" name="AutoShape 8"/>
          <p:cNvCxnSpPr>
            <a:stCxn id="95" idx="2"/>
            <a:endCxn id="101" idx="0"/>
          </p:cNvCxnSpPr>
          <p:nvPr/>
        </p:nvCxnSpPr>
        <p:spPr>
          <a:xfrm>
            <a:off x="1854360" y="3093840"/>
            <a:ext cx="360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7" name="Text Box 5"/>
          <p:cNvSpPr/>
          <p:nvPr/>
        </p:nvSpPr>
        <p:spPr>
          <a:xfrm>
            <a:off x="6137280" y="3625920"/>
            <a:ext cx="2000160" cy="1379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B Lotus"/>
              </a:rPr>
              <a:t>فرد بازدارن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9"/>
          <p:cNvCxnSpPr>
            <a:stCxn id="97" idx="1"/>
            <a:endCxn id="99" idx="3"/>
          </p:cNvCxnSpPr>
          <p:nvPr/>
        </p:nvCxnSpPr>
        <p:spPr>
          <a:xfrm flipH="1" flipV="1">
            <a:off x="5853960" y="4316040"/>
            <a:ext cx="28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Text Box 7"/>
          <p:cNvSpPr/>
          <p:nvPr/>
        </p:nvSpPr>
        <p:spPr>
          <a:xfrm>
            <a:off x="3211560" y="3625920"/>
            <a:ext cx="2643120" cy="1379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»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B Badr"/>
              </a:rPr>
              <a:t>إن کَذَّب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B Badr"/>
              </a:rPr>
              <a:t> 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B Lotus"/>
              </a:rPr>
              <a:t>هدایت او را تکذیب کن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B Lotus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9"/>
          <p:cNvCxnSpPr>
            <a:stCxn id="99" idx="1"/>
            <a:endCxn id="101" idx="3"/>
          </p:cNvCxnSpPr>
          <p:nvPr/>
        </p:nvCxnSpPr>
        <p:spPr>
          <a:xfrm flipH="1" flipV="1">
            <a:off x="2856960" y="4316040"/>
            <a:ext cx="35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Text Box 6"/>
          <p:cNvSpPr/>
          <p:nvPr/>
        </p:nvSpPr>
        <p:spPr>
          <a:xfrm>
            <a:off x="857160" y="3625920"/>
            <a:ext cx="2000520" cy="1379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»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B Badr"/>
              </a:rPr>
              <a:t>و تَوَلَّ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B Badr"/>
              </a:rPr>
              <a:t> 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B Lotus"/>
              </a:rPr>
              <a:t>به امر او پشت کن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B Lot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532E-006 L -0.98038 -1.96532E-006 E">
                                      <p:cBhvr>
                                        <p:cTn id="15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4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تصویر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تصویر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-3465000" y="1341360"/>
            <a:ext cx="1600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شتیبانی خدا از قرائت قرآن توسط پیامبر</a:t>
            </a:r>
            <a:r>
              <a:rPr b="0" lang="fa-IR" sz="36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928800" y="3336840"/>
            <a:ext cx="71434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Badr"/>
              </a:rPr>
              <a:t>انسان جاهل، خود را از قرآن و در حقیقت از تعلیم پروردگار بی نیاز می بیند؛ طغیان می کند و درصدد مانع شدن از قرائت قرآن توسط رسول اکرم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2  Badr"/>
              </a:rPr>
              <a:t> </a:t>
            </a: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Badr"/>
              </a:rPr>
              <a:t>برمی آید. خدای متعالی از قرائت قرآن توسط رسول خویش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2  Badr"/>
              </a:rPr>
              <a:t> </a:t>
            </a: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Badr"/>
              </a:rPr>
              <a:t>حمایت   می کن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تصویر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تصویر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0"/>
          <p:cNvSpPr/>
          <p:nvPr/>
        </p:nvSpPr>
        <p:spPr>
          <a:xfrm>
            <a:off x="714240" y="498600"/>
            <a:ext cx="764388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ا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QuranTaha"/>
              </a:rPr>
              <a:t>ِ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قْرَأْ بِاسْمِ رَبِّكَ الَّذِي خَلَقَ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خَلَقَ الإنْسَانَ مِنْ عَلَقٍ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٢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ا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QuranTaha"/>
              </a:rPr>
              <a:t>ِ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قْرَأْ وَرَبُّكَ الأكْرَمُ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٣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ا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QuranTaha"/>
              </a:rPr>
              <a:t>َ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لَّذِي عَلَّمَ بِالْقَلَمِ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٤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عَلَّمَ الإنْسَانَ مَا لَمْ يَعْلَمْ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٥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كَلا إِنَّ الإنْسَانَ لَيَطْغَى</a:t>
            </a:r>
            <a:r>
              <a:rPr b="0" lang="ar-SA" sz="2600" spc="-1" strike="noStrike">
                <a:solidFill>
                  <a:srgbClr val="00b050"/>
                </a:solidFill>
                <a:latin typeface="Arial"/>
                <a:ea typeface="QuranTaha"/>
              </a:rPr>
              <a:t>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٦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أَنْ رَآهُ اسْتَغْن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٧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إِلَى رَبِّكَ الرُّجْع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٨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أَرَأَيْتَ الَّذِي يَنْه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٩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عَبْدًا إِذَا صَلّ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أَرَأَيْتَ إِنْ كَانَ عَلَى الْهُد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أَوْ أَمَرَ بِالتَّقْو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أَرَأَيْتَ إِنْ كَذَّبَ وَتَوَلّ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أَلَمْ يَعْلَمْ بِأَنَّ اللَّهَ يَر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كَلا لَئِنْ لَمْ يَنْتَهِ لَنَسْفَعًا بِالنَّاصِيَةِ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نَاصِيَةٍ كَاذِبَةٍ خَاطِئَةٍ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فَلْيَدْعُ نَادِيَهُ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سَنَدْعُ الزَّبَانِيَةَ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كَلا لا تُطِعْهُ وَاسْجُدْ وَاقْتَرِبْ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273.MP3" descr=""/>
          <p:cNvPicPr/>
          <p:nvPr/>
        </p:nvPicPr>
        <p:blipFill>
          <a:blip r:embed="rId2"/>
          <a:stretch/>
        </p:blipFill>
        <p:spPr>
          <a:xfrm>
            <a:off x="109299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9524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تصویر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تصویر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2300400" y="76500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857160" y="214308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2  Lotus"/>
              </a:rPr>
              <a:t>تو کریمترین کریمانی و از همین رو ما را لایق تعلیم خود دانسته ای، پس ما را در طریق دریافت تعالیم وحی از هر گونه طغیان و سرکشی رهایی بخ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57160" y="3525840"/>
            <a:ext cx="7358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(normal text)"/>
                <a:cs typeface="2  Lotus"/>
              </a:rPr>
              <a:t>توفیق قرائت و تبلیغ قرآن و ثبات قدم در این مسیر را به ما عنایت فرم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857160" y="4929120"/>
            <a:ext cx="7358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2  Lotus"/>
              </a:rPr>
              <a:t>ایستادگی در برابر فشار طاغیان و تقرّب روزافزون به ساحت قدس خودت را روزی ما بگرد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تصویر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تصویر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تصویر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pic>
        <p:nvPicPr>
          <p:cNvPr id="54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579600" y="566640"/>
            <a:ext cx="79848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تصویر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تصویر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0"/>
          <p:cNvSpPr/>
          <p:nvPr/>
        </p:nvSpPr>
        <p:spPr>
          <a:xfrm>
            <a:off x="714240" y="498600"/>
            <a:ext cx="764388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ا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QuranTaha"/>
              </a:rPr>
              <a:t>ِ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قْرَأْ بِاسْمِ رَبِّكَ الَّذِي خَلَقَ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خَلَقَ الإنْسَانَ مِنْ عَلَقٍ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٢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ا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QuranTaha"/>
              </a:rPr>
              <a:t>ِ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قْرَأْ وَرَبُّكَ الأكْرَمُ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٣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ا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QuranTaha"/>
              </a:rPr>
              <a:t>َ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لَّذِي عَلَّمَ بِالْقَلَمِ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٤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عَلَّمَ الإنْسَانَ مَا لَمْ يَعْلَمْ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٥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كَلا إِنَّ الإنْسَانَ لَيَطْغَى</a:t>
            </a:r>
            <a:r>
              <a:rPr b="0" lang="ar-SA" sz="2600" spc="-1" strike="noStrike">
                <a:solidFill>
                  <a:srgbClr val="00b050"/>
                </a:solidFill>
                <a:latin typeface="Arial"/>
                <a:ea typeface="QuranTaha"/>
              </a:rPr>
              <a:t>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٦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أَنْ رَآهُ اسْتَغْن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٧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إِلَى رَبِّكَ الرُّجْع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٨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أَرَأَيْتَ الَّذِي يَنْه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٩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عَبْدًا إِذَا صَلّ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أَرَأَيْتَ إِنْ كَانَ عَلَى الْهُد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أَوْ أَمَرَ بِالتَّقْو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أَرَأَيْتَ إِنْ كَذَّبَ وَتَوَلّ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أَلَمْ يَعْلَمْ بِأَنَّ اللَّهَ يَرَى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كَلا لَئِنْ لَمْ يَنْتَهِ لَنَسْفَعًا بِالنَّاصِيَةِ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نَاصِيَةٍ كَاذِبَةٍ خَاطِئَةٍ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فَلْيَدْعُ نَادِيَهُ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سَنَدْعُ الزَّبَانِيَةَ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QuranTaha"/>
              </a:rPr>
              <a:t>كَلا لا تُطِعْهُ وَاسْجُدْ وَاقْتَرِبْ 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6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273.MP3" descr=""/>
          <p:cNvPicPr/>
          <p:nvPr/>
        </p:nvPicPr>
        <p:blipFill>
          <a:blip r:embed="rId2"/>
          <a:stretch/>
        </p:blipFill>
        <p:spPr>
          <a:xfrm>
            <a:off x="109299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9524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تصویر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5270400" y="3500280"/>
            <a:ext cx="2944800" cy="124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B Lotus"/>
              </a:rPr>
              <a:t>آفریدگا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B Badr"/>
              </a:rPr>
              <a:t>»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B Badr"/>
              </a:rPr>
              <a:t>خَلَقَ الْانسَانَ مِنْ عَلَق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B Badr"/>
              </a:rPr>
              <a:t> 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3"/>
          <p:cNvCxnSpPr>
            <a:stCxn id="63" idx="2"/>
            <a:endCxn id="61" idx="0"/>
          </p:cNvCxnSpPr>
          <p:nvPr/>
        </p:nvCxnSpPr>
        <p:spPr>
          <a:xfrm>
            <a:off x="4545000" y="2600280"/>
            <a:ext cx="2199600" cy="90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Rectangle 4"/>
          <p:cNvSpPr/>
          <p:nvPr/>
        </p:nvSpPr>
        <p:spPr>
          <a:xfrm>
            <a:off x="928800" y="3500280"/>
            <a:ext cx="2944800" cy="124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B Lotus"/>
              </a:rPr>
              <a:t>آموزگا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B Badr"/>
              </a:rPr>
              <a:t>»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B Badr"/>
              </a:rPr>
              <a:t>عَلَّمَ الْانسَانَ مَا لَمْ يَعْلَمْ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B Badr"/>
              </a:rPr>
              <a:t>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AutoShape 5"/>
          <p:cNvCxnSpPr>
            <a:stCxn id="63" idx="2"/>
            <a:endCxn id="64" idx="0"/>
          </p:cNvCxnSpPr>
          <p:nvPr/>
        </p:nvCxnSpPr>
        <p:spPr>
          <a:xfrm flipH="1">
            <a:off x="2399760" y="2600280"/>
            <a:ext cx="2145240" cy="90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6"/>
          <p:cNvCxnSpPr>
            <a:stCxn id="64" idx="3"/>
            <a:endCxn id="61" idx="1"/>
          </p:cNvCxnSpPr>
          <p:nvPr/>
        </p:nvCxnSpPr>
        <p:spPr>
          <a:xfrm>
            <a:off x="3873600" y="4122720"/>
            <a:ext cx="1397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Rectangle 7"/>
          <p:cNvSpPr/>
          <p:nvPr/>
        </p:nvSpPr>
        <p:spPr>
          <a:xfrm>
            <a:off x="3071880" y="1357200"/>
            <a:ext cx="2944800" cy="124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B Lotus"/>
              </a:rPr>
              <a:t>پروردگا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B Badr"/>
              </a:rPr>
              <a:t>»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B Badr"/>
              </a:rPr>
              <a:t>ربّ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B Badr"/>
              </a:rPr>
              <a:t> 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تصویر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تصویر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857160" y="4118040"/>
            <a:ext cx="72151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2  Lotus"/>
              </a:rPr>
              <a:t>  طغیان انسان در برابر تعلیم الهی بجای استقبال از آن و نمود این طغیان در بازداری از قرائت قرآن در نماز پیام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71720" y="1000080"/>
            <a:ext cx="7000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2  Lotus"/>
              </a:rPr>
              <a:t>  نیاز انسان به تعلیم وحیان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714240" y="2025720"/>
            <a:ext cx="5072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2  Lotus"/>
              </a:rPr>
              <a:t>  </a:t>
            </a:r>
            <a:r>
              <a:rPr b="1" lang="fa-IR" sz="2800" spc="-1" strike="noStrike">
                <a:solidFill>
                  <a:srgbClr val="ff0000"/>
                </a:solidFill>
                <a:latin typeface="Arial"/>
                <a:cs typeface="2  Lotus"/>
              </a:rPr>
              <a:t>اقدام هدایتی سوره: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2  Lotus"/>
              </a:rPr>
              <a:t>ابلاغ فرمان قرائت وحی در راستای تعلیم انس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تصویر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6:46Z</dcterms:modified>
  <cp:revision>100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