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E1C5-1DA7-4096-A4D7-A6121286F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D283-A0BF-496D-A68A-B0DE10ECE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ED7A-4CB8-4C73-8A0D-64EC3E9A3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A5EA-AD64-4864-9D1C-F2503C550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EF11-EA5A-489F-AA8D-7DB73C1E9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917F-A49A-4564-9D07-82B7817BF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C0B9-4528-4250-AD55-4F784DEAA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06C8-3B68-44D3-8790-47C7C7CF7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2595-4D3C-4CE8-B277-0655E4BD8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418C-E49D-4176-ACA9-E00450E0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EBA6-D3D1-409C-A47B-BC16F8DE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679F-72AA-4CD1-BAA0-1C8CB1DF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6C081-D852-4984-863F-AB201F921955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428760"/>
            <a:ext cx="9144000" cy="22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800" spc="-1" strike="noStrike">
                <a:solidFill>
                  <a:srgbClr val="000000"/>
                </a:solidFill>
                <a:latin typeface="Calibri"/>
                <a:cs typeface="Mj_Diwani Decor"/>
              </a:rPr>
              <a:t>بسم الله الرحمن الرحیم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Rectangle 4" descr=""/>
          <p:cNvPicPr/>
          <p:nvPr/>
        </p:nvPicPr>
        <p:blipFill>
          <a:blip r:embed="rId2"/>
          <a:stretch/>
        </p:blipFill>
        <p:spPr>
          <a:xfrm>
            <a:off x="-195120" y="5273640"/>
            <a:ext cx="9594720" cy="1590840"/>
          </a:xfrm>
          <a:prstGeom prst="rect">
            <a:avLst/>
          </a:prstGeom>
          <a:ln w="0">
            <a:noFill/>
          </a:ln>
        </p:spPr>
      </p:pic>
      <p:pic>
        <p:nvPicPr>
          <p:cNvPr id="44" name="BESM.wav" descr=""/>
          <p:cNvPicPr/>
          <p:nvPr/>
        </p:nvPicPr>
        <p:blipFill>
          <a:blip r:embed="rId3"/>
          <a:stretch/>
        </p:blipFill>
        <p:spPr>
          <a:xfrm>
            <a:off x="1114416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6958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29"/>
          <p:cNvSpPr/>
          <p:nvPr/>
        </p:nvSpPr>
        <p:spPr>
          <a:xfrm>
            <a:off x="785880" y="571680"/>
            <a:ext cx="7500960" cy="64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500" spc="-1" strike="noStrike">
                <a:solidFill>
                  <a:srgbClr val="000000"/>
                </a:solidFill>
                <a:latin typeface="Arial"/>
                <a:cs typeface="QuranTaha"/>
              </a:rPr>
              <a:t>بِسْمِ اللَّهِ الرَّحْمَنِ الرَّحِيم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500" spc="-1" strike="noStrike">
                <a:solidFill>
                  <a:srgbClr val="000000"/>
                </a:solidFill>
                <a:latin typeface="Arial"/>
                <a:cs typeface="QuranTaha"/>
              </a:rPr>
              <a:t>وَالشَّمْسِ وَضُحَاهَا </a:t>
            </a:r>
            <a:r>
              <a:rPr b="1" lang="ar-SA" sz="3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</a:t>
            </a:r>
            <a:r>
              <a:rPr b="1" lang="ar-SA" sz="3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500" spc="-1" strike="noStrike">
                <a:solidFill>
                  <a:srgbClr val="000000"/>
                </a:solidFill>
                <a:latin typeface="Arial"/>
                <a:cs typeface="QuranTaha"/>
              </a:rPr>
              <a:t>وَالْقَمَرِ إِذَا تَلاهَا </a:t>
            </a:r>
            <a:r>
              <a:rPr b="1" lang="ar-SA" sz="3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٢</a:t>
            </a:r>
            <a:r>
              <a:rPr b="1" lang="ar-SA" sz="3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</a:t>
            </a:r>
            <a:r>
              <a:rPr b="1" lang="ar-SA" sz="3500" spc="-1" strike="noStrike">
                <a:solidFill>
                  <a:srgbClr val="ff0000"/>
                </a:solidFill>
                <a:latin typeface="Traditional Arabic"/>
                <a:ea typeface="Traditional Arabic"/>
              </a:rPr>
              <a:t> </a:t>
            </a:r>
            <a:r>
              <a:rPr b="0" lang="ar-SA" sz="3500" spc="-1" strike="noStrike">
                <a:solidFill>
                  <a:srgbClr val="000000"/>
                </a:solidFill>
                <a:latin typeface="Arial"/>
                <a:cs typeface="QuranTaha"/>
              </a:rPr>
              <a:t>وَالنَّهَارِ إِذَا جَلاهَا </a:t>
            </a:r>
            <a:r>
              <a:rPr b="1" lang="ar-SA" sz="3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٣</a:t>
            </a:r>
            <a:r>
              <a:rPr b="1" lang="ar-SA" sz="3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</a:t>
            </a:r>
            <a:r>
              <a:rPr b="1" lang="ar-SA" sz="3500" spc="-1" strike="noStrike">
                <a:solidFill>
                  <a:srgbClr val="ff0000"/>
                </a:solidFill>
                <a:latin typeface="Traditional Arabic"/>
                <a:ea typeface="Traditional Arabic"/>
              </a:rPr>
              <a:t> </a:t>
            </a:r>
            <a:r>
              <a:rPr b="0" lang="ar-SA" sz="3500" spc="-1" strike="noStrike">
                <a:solidFill>
                  <a:srgbClr val="000000"/>
                </a:solidFill>
                <a:latin typeface="Arial"/>
                <a:cs typeface="QuranTaha"/>
              </a:rPr>
              <a:t>وَاللَّيْلِ إِذَا يَغْشَاهَا </a:t>
            </a:r>
            <a:r>
              <a:rPr b="1" lang="ar-SA" sz="3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٤</a:t>
            </a:r>
            <a:r>
              <a:rPr b="1" lang="ar-SA" sz="3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500" spc="-1" strike="noStrike">
                <a:solidFill>
                  <a:srgbClr val="000000"/>
                </a:solidFill>
                <a:latin typeface="Arial"/>
                <a:cs typeface="QuranTaha"/>
              </a:rPr>
              <a:t>وَالسَّمَاءِ وَمَا بَنَاهَا </a:t>
            </a:r>
            <a:r>
              <a:rPr b="1" lang="ar-SA" sz="3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٥</a:t>
            </a:r>
            <a:r>
              <a:rPr b="1" lang="ar-SA" sz="3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</a:t>
            </a:r>
            <a:r>
              <a:rPr b="1" lang="ar-SA" sz="3500" spc="-1" strike="noStrike">
                <a:solidFill>
                  <a:srgbClr val="ff0000"/>
                </a:solidFill>
                <a:latin typeface="Traditional Arabic"/>
                <a:ea typeface="Traditional Arabic"/>
              </a:rPr>
              <a:t> </a:t>
            </a:r>
            <a:r>
              <a:rPr b="0" lang="ar-SA" sz="3500" spc="-1" strike="noStrike">
                <a:solidFill>
                  <a:srgbClr val="000000"/>
                </a:solidFill>
                <a:latin typeface="Arial"/>
                <a:cs typeface="QuranTaha"/>
              </a:rPr>
              <a:t>وَالأرْضِ وَمَا طَحَاهَا </a:t>
            </a:r>
            <a:r>
              <a:rPr b="1" lang="ar-SA" sz="3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٦</a:t>
            </a:r>
            <a:r>
              <a:rPr b="1" lang="ar-SA" sz="3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500" spc="-1" strike="noStrike">
                <a:solidFill>
                  <a:srgbClr val="000000"/>
                </a:solidFill>
                <a:latin typeface="Arial"/>
                <a:cs typeface="QuranTaha"/>
              </a:rPr>
              <a:t>وَنَفْسٍ وَمَا سَوَّاهَا </a:t>
            </a:r>
            <a:r>
              <a:rPr b="1" lang="ar-SA" sz="3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٧</a:t>
            </a:r>
            <a:r>
              <a:rPr b="1" lang="ar-SA" sz="3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500" spc="-1" strike="noStrike">
                <a:solidFill>
                  <a:srgbClr val="000000"/>
                </a:solidFill>
                <a:latin typeface="Arial"/>
                <a:cs typeface="QuranTaha"/>
              </a:rPr>
              <a:t>فَأَلْهَمَهَا فُجُورَهَا وَتَقْوَاهَا </a:t>
            </a:r>
            <a:r>
              <a:rPr b="1" lang="ar-SA" sz="3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٨</a:t>
            </a:r>
            <a:r>
              <a:rPr b="1" lang="ar-SA" sz="3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500" spc="-1" strike="noStrike">
                <a:solidFill>
                  <a:srgbClr val="000000"/>
                </a:solidFill>
                <a:latin typeface="Arial"/>
                <a:cs typeface="QuranTaha"/>
              </a:rPr>
              <a:t>قَدْ أَفْلَحَ مَنْ زَكَّاهَا </a:t>
            </a:r>
            <a:r>
              <a:rPr b="1" lang="ar-SA" sz="3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٩</a:t>
            </a:r>
            <a:r>
              <a:rPr b="1" lang="ar-SA" sz="3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500" spc="-1" strike="noStrike">
                <a:solidFill>
                  <a:srgbClr val="000000"/>
                </a:solidFill>
                <a:latin typeface="Arial"/>
                <a:cs typeface="QuranTaha"/>
              </a:rPr>
              <a:t>وَقَدْ خَابَ مَنْ دَسَّاهَا </a:t>
            </a:r>
            <a:r>
              <a:rPr b="1" lang="ar-SA" sz="3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٠</a:t>
            </a:r>
            <a:r>
              <a:rPr b="1" lang="ar-SA" sz="35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1-10.wav" descr=""/>
          <p:cNvPicPr/>
          <p:nvPr/>
        </p:nvPicPr>
        <p:blipFill>
          <a:blip r:embed="rId2"/>
          <a:stretch/>
        </p:blipFill>
        <p:spPr>
          <a:xfrm>
            <a:off x="1078704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" dur="50657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2"/>
          <p:cNvSpPr/>
          <p:nvPr/>
        </p:nvSpPr>
        <p:spPr>
          <a:xfrm>
            <a:off x="305280" y="2921040"/>
            <a:ext cx="853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ر هدایتی سیاق او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2"/>
          <p:cNvSpPr/>
          <p:nvPr/>
        </p:nvSpPr>
        <p:spPr>
          <a:xfrm rot="5400000">
            <a:off x="6925680" y="2145960"/>
            <a:ext cx="285840" cy="1279800"/>
          </a:xfrm>
          <a:custGeom>
            <a:avLst/>
            <a:gdLst>
              <a:gd name="textAreaLeft" fmla="*/ 182520 w 285840"/>
              <a:gd name="textAreaRight" fmla="*/ 286200 w 285840"/>
              <a:gd name="textAreaTop" fmla="*/ 50040 h 1279800"/>
              <a:gd name="textAreaBottom" fmla="*/ 1229760 h 127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58"/>
                  <a:pt x="10800" y="2715"/>
                </a:cubicBezTo>
                <a:lnTo>
                  <a:pt x="10800" y="7418"/>
                </a:lnTo>
                <a:cubicBezTo>
                  <a:pt x="10800" y="8776"/>
                  <a:pt x="5400" y="10133"/>
                  <a:pt x="0" y="10133"/>
                </a:cubicBezTo>
                <a:cubicBezTo>
                  <a:pt x="5400" y="10133"/>
                  <a:pt x="10800" y="11491"/>
                  <a:pt x="10800" y="12848"/>
                </a:cubicBezTo>
                <a:lnTo>
                  <a:pt x="10800" y="18885"/>
                </a:lnTo>
                <a:cubicBezTo>
                  <a:pt x="10800" y="2024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3"/>
          <p:cNvSpPr/>
          <p:nvPr/>
        </p:nvSpPr>
        <p:spPr>
          <a:xfrm rot="5400000">
            <a:off x="4393440" y="2178720"/>
            <a:ext cx="285840" cy="1214640"/>
          </a:xfrm>
          <a:custGeom>
            <a:avLst/>
            <a:gdLst>
              <a:gd name="textAreaLeft" fmla="*/ 182520 w 285840"/>
              <a:gd name="textAreaRight" fmla="*/ 286200 w 285840"/>
              <a:gd name="textAreaTop" fmla="*/ 44640 h 1214640"/>
              <a:gd name="textAreaBottom" fmla="*/ 117000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71"/>
                  <a:pt x="10800" y="2541"/>
                </a:cubicBezTo>
                <a:lnTo>
                  <a:pt x="10800" y="8259"/>
                </a:lnTo>
                <a:cubicBezTo>
                  <a:pt x="10800" y="9530"/>
                  <a:pt x="5400" y="10800"/>
                  <a:pt x="0" y="10800"/>
                </a:cubicBezTo>
                <a:cubicBezTo>
                  <a:pt x="5400" y="10800"/>
                  <a:pt x="10800" y="12071"/>
                  <a:pt x="10800" y="13341"/>
                </a:cubicBezTo>
                <a:lnTo>
                  <a:pt x="10800" y="19059"/>
                </a:lnTo>
                <a:cubicBezTo>
                  <a:pt x="10800" y="2033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4"/>
          <p:cNvSpPr/>
          <p:nvPr/>
        </p:nvSpPr>
        <p:spPr>
          <a:xfrm rot="5400000">
            <a:off x="1821600" y="2107440"/>
            <a:ext cx="285840" cy="1214640"/>
          </a:xfrm>
          <a:custGeom>
            <a:avLst/>
            <a:gdLst>
              <a:gd name="textAreaLeft" fmla="*/ 182520 w 285840"/>
              <a:gd name="textAreaRight" fmla="*/ 286200 w 285840"/>
              <a:gd name="textAreaTop" fmla="*/ 44640 h 1214640"/>
              <a:gd name="textAreaBottom" fmla="*/ 117000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71"/>
                  <a:pt x="10800" y="2541"/>
                </a:cubicBezTo>
                <a:lnTo>
                  <a:pt x="10800" y="8259"/>
                </a:lnTo>
                <a:cubicBezTo>
                  <a:pt x="10800" y="9530"/>
                  <a:pt x="5400" y="10800"/>
                  <a:pt x="0" y="10800"/>
                </a:cubicBezTo>
                <a:cubicBezTo>
                  <a:pt x="5400" y="10800"/>
                  <a:pt x="10800" y="12071"/>
                  <a:pt x="10800" y="13341"/>
                </a:cubicBezTo>
                <a:lnTo>
                  <a:pt x="10800" y="19059"/>
                </a:lnTo>
                <a:cubicBezTo>
                  <a:pt x="10800" y="2033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AutoShape 5"/>
          <p:cNvCxnSpPr>
            <a:stCxn id="74" idx="1"/>
            <a:endCxn id="73" idx="1"/>
          </p:cNvCxnSpPr>
          <p:nvPr/>
        </p:nvCxnSpPr>
        <p:spPr>
          <a:xfrm flipH="1" flipV="1" rot="5400000">
            <a:off x="5821920" y="1356120"/>
            <a:ext cx="2160" cy="2572560"/>
          </a:xfrm>
          <a:prstGeom prst="curvedConnector5">
            <a:avLst>
              <a:gd name="adj1" fmla="val 23000000"/>
              <a:gd name="adj2" fmla="val 49993"/>
              <a:gd name="adj3" fmla="val 230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AutoShape 6"/>
          <p:cNvCxnSpPr>
            <a:stCxn id="75" idx="1"/>
            <a:endCxn id="74" idx="1"/>
          </p:cNvCxnSpPr>
          <p:nvPr/>
        </p:nvCxnSpPr>
        <p:spPr>
          <a:xfrm flipH="1" rot="16200000">
            <a:off x="3214080" y="1321200"/>
            <a:ext cx="72000" cy="2572560"/>
          </a:xfrm>
          <a:prstGeom prst="curvedConnector5">
            <a:avLst>
              <a:gd name="adj1" fmla="val -361306"/>
              <a:gd name="adj2" fmla="val 49993"/>
              <a:gd name="adj3" fmla="val -36130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AutoShape 7"/>
          <p:cNvCxnSpPr>
            <a:stCxn id="75" idx="1"/>
            <a:endCxn id="73" idx="1"/>
          </p:cNvCxnSpPr>
          <p:nvPr/>
        </p:nvCxnSpPr>
        <p:spPr>
          <a:xfrm flipH="1" rot="16200000">
            <a:off x="4500720" y="34560"/>
            <a:ext cx="72000" cy="5145840"/>
          </a:xfrm>
          <a:prstGeom prst="curvedConnector5">
            <a:avLst>
              <a:gd name="adj1" fmla="val -969849"/>
              <a:gd name="adj2" fmla="val 49996"/>
              <a:gd name="adj3" fmla="val -969849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9" name="Rectangle 8"/>
          <p:cNvSpPr/>
          <p:nvPr/>
        </p:nvSpPr>
        <p:spPr>
          <a:xfrm>
            <a:off x="5981760" y="2928960"/>
            <a:ext cx="1090440" cy="9586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2  Lotus"/>
              </a:rPr>
              <a:t>ماه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2  Lot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"/>
          <p:cNvSpPr/>
          <p:nvPr/>
        </p:nvSpPr>
        <p:spPr>
          <a:xfrm>
            <a:off x="7196040" y="2928960"/>
            <a:ext cx="1090800" cy="9586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2  Lotus"/>
              </a:rPr>
              <a:t>خورشید و پرتوا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0"/>
          <p:cNvSpPr/>
          <p:nvPr/>
        </p:nvSpPr>
        <p:spPr>
          <a:xfrm>
            <a:off x="4624560" y="2928960"/>
            <a:ext cx="1090440" cy="9586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2  Lotus"/>
              </a:rPr>
              <a:t>رو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3409920" y="2928960"/>
            <a:ext cx="1090800" cy="9586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2  Lotus"/>
              </a:rPr>
              <a:t>ش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2"/>
          <p:cNvSpPr/>
          <p:nvPr/>
        </p:nvSpPr>
        <p:spPr>
          <a:xfrm>
            <a:off x="2052720" y="2898720"/>
            <a:ext cx="1090440" cy="9590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2  Lotus"/>
              </a:rPr>
              <a:t>آسم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3"/>
          <p:cNvSpPr/>
          <p:nvPr/>
        </p:nvSpPr>
        <p:spPr>
          <a:xfrm>
            <a:off x="857160" y="2898720"/>
            <a:ext cx="1090800" cy="9590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2  Lotus"/>
              </a:rPr>
              <a:t>زمی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3143160" y="2643120"/>
            <a:ext cx="1911600" cy="17146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B Badr"/>
              </a:rPr>
              <a:t>وَنَفْسٍ وَمَا سَوَّاهَا فَأَلْهَمَهَا فُجُورَهَا وَتَقْوَاهَ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1285920" y="2124000"/>
            <a:ext cx="1239840" cy="1162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B Badr"/>
              </a:rPr>
              <a:t>قَدْ أَفْلَحَ مَن زَكَّاهَ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AutoShape 5"/>
          <p:cNvCxnSpPr>
            <a:stCxn id="86" idx="1"/>
            <a:endCxn id="87" idx="3"/>
          </p:cNvCxnSpPr>
          <p:nvPr/>
        </p:nvCxnSpPr>
        <p:spPr>
          <a:xfrm flipH="1" flipV="1">
            <a:off x="2525040" y="2704320"/>
            <a:ext cx="618120" cy="79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AutoShape 6"/>
          <p:cNvCxnSpPr>
            <a:stCxn id="86" idx="1"/>
            <a:endCxn id="90" idx="3"/>
          </p:cNvCxnSpPr>
          <p:nvPr/>
        </p:nvCxnSpPr>
        <p:spPr>
          <a:xfrm flipH="1">
            <a:off x="2525040" y="3499200"/>
            <a:ext cx="618120" cy="10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Text Box 7"/>
          <p:cNvSpPr/>
          <p:nvPr/>
        </p:nvSpPr>
        <p:spPr>
          <a:xfrm>
            <a:off x="1285920" y="4000680"/>
            <a:ext cx="1239840" cy="1160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B Badr"/>
              </a:rPr>
              <a:t>وَ قَدْ خَابَ مَن دَسَّاهَ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6072120" y="853920"/>
            <a:ext cx="2041560" cy="7178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B Badr"/>
              </a:rPr>
              <a:t>وَالشَّمْسِ وَضُحَاهَا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B Bad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6072120" y="4497480"/>
            <a:ext cx="2041560" cy="7174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B Badr"/>
              </a:rPr>
              <a:t>وَالسَّمَاءِ وَمَا بَنَاهَا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B Bad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6072120" y="5286240"/>
            <a:ext cx="2041560" cy="714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B Badr"/>
              </a:rPr>
              <a:t>وَالأرْضِ وَمَا طَحَا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6072120" y="3500280"/>
            <a:ext cx="2041560" cy="714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B Badr"/>
              </a:rPr>
              <a:t>وَاللَّيْلِ إِذَا يَغْشَاهَا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B Bad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2"/>
          <p:cNvSpPr/>
          <p:nvPr/>
        </p:nvSpPr>
        <p:spPr>
          <a:xfrm>
            <a:off x="6072120" y="2714760"/>
            <a:ext cx="2041560" cy="714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B Badr"/>
              </a:rPr>
              <a:t>وَالنَّهَارِ إِذَا جَلاهَا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B Bad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6072120" y="1639800"/>
            <a:ext cx="2041560" cy="7174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B Badr"/>
              </a:rPr>
              <a:t>وَالْقَمَرِ إِذَا تَلاهَا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B Bad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7"/>
          <p:cNvSpPr/>
          <p:nvPr/>
        </p:nvSpPr>
        <p:spPr>
          <a:xfrm>
            <a:off x="5072040" y="928800"/>
            <a:ext cx="857160" cy="5000400"/>
          </a:xfrm>
          <a:custGeom>
            <a:avLst/>
            <a:gdLst>
              <a:gd name="textAreaLeft" fmla="*/ 547560 w 857160"/>
              <a:gd name="textAreaRight" fmla="*/ 857520 w 857160"/>
              <a:gd name="textAreaTop" fmla="*/ 86400 h 5000400"/>
              <a:gd name="textAreaBottom" fmla="*/ 4914000 h 500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98"/>
                  <a:pt x="10800" y="1196"/>
                </a:cubicBezTo>
                <a:lnTo>
                  <a:pt x="10800" y="9604"/>
                </a:lnTo>
                <a:cubicBezTo>
                  <a:pt x="10800" y="10202"/>
                  <a:pt x="5400" y="10800"/>
                  <a:pt x="0" y="10800"/>
                </a:cubicBezTo>
                <a:cubicBezTo>
                  <a:pt x="5400" y="10800"/>
                  <a:pt x="10800" y="11398"/>
                  <a:pt x="10800" y="11996"/>
                </a:cubicBezTo>
                <a:lnTo>
                  <a:pt x="10800" y="20404"/>
                </a:lnTo>
                <a:cubicBezTo>
                  <a:pt x="10800" y="210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eft Bracket 23"/>
          <p:cNvSpPr/>
          <p:nvPr/>
        </p:nvSpPr>
        <p:spPr>
          <a:xfrm>
            <a:off x="5786280" y="1282680"/>
            <a:ext cx="285840" cy="714240"/>
          </a:xfrm>
          <a:custGeom>
            <a:avLst/>
            <a:gdLst>
              <a:gd name="textAreaLeft" fmla="*/ 83880 w 285840"/>
              <a:gd name="textAreaRight" fmla="*/ 286200 w 285840"/>
              <a:gd name="textAreaTop" fmla="*/ 11880 h 714240"/>
              <a:gd name="textAreaBottom" fmla="*/ 702360 h 71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60"/>
                  <a:pt x="0" y="720"/>
                </a:cubicBezTo>
                <a:lnTo>
                  <a:pt x="0" y="20880"/>
                </a:lnTo>
                <a:cubicBezTo>
                  <a:pt x="0" y="2124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eft Bracket 24"/>
          <p:cNvSpPr/>
          <p:nvPr/>
        </p:nvSpPr>
        <p:spPr>
          <a:xfrm>
            <a:off x="5786280" y="3071880"/>
            <a:ext cx="285840" cy="785880"/>
          </a:xfrm>
          <a:custGeom>
            <a:avLst/>
            <a:gdLst>
              <a:gd name="textAreaLeft" fmla="*/ 83880 w 285840"/>
              <a:gd name="textAreaRight" fmla="*/ 286200 w 285840"/>
              <a:gd name="textAreaTop" fmla="*/ 11880 h 785880"/>
              <a:gd name="textAreaBottom" fmla="*/ 774000 h 785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28"/>
                  <a:pt x="0" y="655"/>
                </a:cubicBezTo>
                <a:lnTo>
                  <a:pt x="0" y="20945"/>
                </a:lnTo>
                <a:cubicBezTo>
                  <a:pt x="0" y="21273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eft Bracket 25"/>
          <p:cNvSpPr/>
          <p:nvPr/>
        </p:nvSpPr>
        <p:spPr>
          <a:xfrm>
            <a:off x="5786280" y="4857840"/>
            <a:ext cx="285840" cy="785880"/>
          </a:xfrm>
          <a:custGeom>
            <a:avLst/>
            <a:gdLst>
              <a:gd name="textAreaLeft" fmla="*/ 83880 w 285840"/>
              <a:gd name="textAreaRight" fmla="*/ 286200 w 285840"/>
              <a:gd name="textAreaTop" fmla="*/ 11880 h 785880"/>
              <a:gd name="textAreaBottom" fmla="*/ 774000 h 785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28"/>
                  <a:pt x="0" y="655"/>
                </a:cubicBezTo>
                <a:lnTo>
                  <a:pt x="0" y="20945"/>
                </a:lnTo>
                <a:cubicBezTo>
                  <a:pt x="0" y="21273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متصل کننده پیکان مستقیم 18"/>
          <p:cNvCxnSpPr>
            <a:stCxn id="96" idx="2"/>
            <a:endCxn id="95" idx="0"/>
          </p:cNvCxnSpPr>
          <p:nvPr/>
        </p:nvCxnSpPr>
        <p:spPr>
          <a:xfrm flipH="1">
            <a:off x="7092720" y="2356920"/>
            <a:ext cx="21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2" name="متصل کننده پیکان مستقیم 20"/>
          <p:cNvCxnSpPr>
            <a:stCxn id="94" idx="2"/>
            <a:endCxn id="92" idx="0"/>
          </p:cNvCxnSpPr>
          <p:nvPr/>
        </p:nvCxnSpPr>
        <p:spPr>
          <a:xfrm flipH="1">
            <a:off x="7092720" y="4215960"/>
            <a:ext cx="2160" cy="28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2"/>
          <p:cNvSpPr/>
          <p:nvPr/>
        </p:nvSpPr>
        <p:spPr>
          <a:xfrm>
            <a:off x="1525680" y="2665440"/>
            <a:ext cx="6046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جهت هدایتی سیاق او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3"/>
          <p:cNvSpPr/>
          <p:nvPr/>
        </p:nvSpPr>
        <p:spPr>
          <a:xfrm>
            <a:off x="928800" y="2429280"/>
            <a:ext cx="7215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B Badr"/>
              </a:rPr>
              <a:t>نفس، آینه الهی تشخیص تقوا از فجور است. هرکس این آینه را پاک داشت، تقوا را از فجور بازشناخت و به رستگاری رسید و هرکس این آینه را زیر غبار گناه دفن کرد، از آن بهره ای نبرد و خسارت دید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B Bad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1357200" y="1000080"/>
            <a:ext cx="63579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7200" spc="-1" strike="noStrike">
                <a:solidFill>
                  <a:srgbClr val="000000"/>
                </a:solidFill>
                <a:latin typeface="IranNastaliq"/>
                <a:cs typeface="IranNastaliq"/>
              </a:rPr>
              <a:t>رستگاری، عاقبت تزکیه نفس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7200" spc="-1" strike="noStrike">
                <a:solidFill>
                  <a:srgbClr val="000000"/>
                </a:solidFill>
                <a:latin typeface="IranNastaliq"/>
                <a:cs typeface="IranNastaliq"/>
              </a:rPr>
              <a:t>و خسران و ناکامی، عاقبت دسّ نفس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2"/>
          <p:cNvSpPr/>
          <p:nvPr/>
        </p:nvSpPr>
        <p:spPr>
          <a:xfrm>
            <a:off x="2437200" y="1925640"/>
            <a:ext cx="4269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اق دو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2428920" y="3929040"/>
            <a:ext cx="4286160" cy="2104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آیات </a:t>
            </a:r>
            <a:r>
              <a:rPr b="1" lang="en-US" sz="6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11</a:t>
            </a:r>
            <a:r>
              <a:rPr b="1" lang="fa-IR" sz="6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تا </a:t>
            </a:r>
            <a:r>
              <a:rPr b="1" lang="en-US" sz="6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1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2"/>
          <p:cNvSpPr/>
          <p:nvPr/>
        </p:nvSpPr>
        <p:spPr>
          <a:xfrm>
            <a:off x="1011600" y="2874960"/>
            <a:ext cx="7121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قرائت سیاق دو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29"/>
          <p:cNvSpPr/>
          <p:nvPr/>
        </p:nvSpPr>
        <p:spPr>
          <a:xfrm>
            <a:off x="785880" y="831960"/>
            <a:ext cx="750096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QuranTaha"/>
              </a:rPr>
              <a:t>كَذَّبَتْ ثَمُودُ بِطَغْوَاهَا </a:t>
            </a:r>
            <a:r>
              <a:rPr b="1" lang="ar-SA" sz="44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44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١</a:t>
            </a:r>
            <a:r>
              <a:rPr b="1" lang="ar-SA" sz="44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QuranTaha"/>
              </a:rPr>
              <a:t>إِذِ انْبَعَثَ أَشْقَاهَا </a:t>
            </a:r>
            <a:r>
              <a:rPr b="1" lang="ar-SA" sz="44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44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٢</a:t>
            </a:r>
            <a:r>
              <a:rPr b="1" lang="ar-SA" sz="44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QuranTaha"/>
              </a:rPr>
              <a:t>فَقَالَ لَهُمْ رَسُولُ اللَّهِ نَاقَةَ اللَّهِ وَسُقْيَاهَا </a:t>
            </a:r>
            <a:r>
              <a:rPr b="1" lang="ar-SA" sz="44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44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٣</a:t>
            </a:r>
            <a:r>
              <a:rPr b="1" lang="ar-SA" sz="44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QuranTaha"/>
              </a:rPr>
              <a:t>فَكَذَّبُوهُ فَعَقَرُوهَا فَدَمْدَمَ عَلَيْهِمْ رَبُّهُمْ بِذَنْبِهِمْ فَسَوَّاهَا </a:t>
            </a:r>
            <a:r>
              <a:rPr b="1" lang="ar-SA" sz="44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44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٤</a:t>
            </a:r>
            <a:r>
              <a:rPr b="1" lang="ar-SA" sz="44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QuranTaha"/>
              </a:rPr>
              <a:t>وَلا يَخَافُ عُقْبَاهَا </a:t>
            </a:r>
            <a:r>
              <a:rPr b="1" lang="ar-SA" sz="44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44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٥</a:t>
            </a:r>
            <a:r>
              <a:rPr b="1" lang="ar-SA" sz="44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11-15.wav" descr=""/>
          <p:cNvPicPr/>
          <p:nvPr/>
        </p:nvPicPr>
        <p:blipFill>
          <a:blip r:embed="rId2"/>
          <a:stretch/>
        </p:blipFill>
        <p:spPr>
          <a:xfrm>
            <a:off x="10715760" y="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5" dur="3215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2"/>
          <p:cNvSpPr/>
          <p:nvPr/>
        </p:nvSpPr>
        <p:spPr>
          <a:xfrm>
            <a:off x="291600" y="2921040"/>
            <a:ext cx="856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ر هدایتی سیاق دو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"/>
          <p:cNvSpPr/>
          <p:nvPr/>
        </p:nvSpPr>
        <p:spPr>
          <a:xfrm>
            <a:off x="2012040" y="2921040"/>
            <a:ext cx="511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شناسه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5286240" y="857160"/>
            <a:ext cx="2928960" cy="2286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B Badr"/>
              </a:rPr>
              <a:t>كَذَّبَتْ ثَمُودُ بِطَغْوَاهَ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B Badr"/>
              </a:rPr>
              <a:t>إِذِ انْبَعَثَ أَشْقَاهَ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286240" y="3786120"/>
            <a:ext cx="2928960" cy="2286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B Badr"/>
              </a:rPr>
              <a:t>فَقَالَ لَهُمْ رَسُولُ اللَّهِ نَاقَةَ اللَّهِ وَسُقْيَاهَا فَكَذَّبُوهُ فَعَقَرُوهَ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alibri"/>
                <a:ea typeface="B Bad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857160" y="857160"/>
            <a:ext cx="2786040" cy="2286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B Badr"/>
              </a:rPr>
              <a:t>فَدَمْدَمَ عَلَيْهِمْ رَبُّهُمْ بِذَنْبِهِمْ فَسَوَّاهَ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B Badr"/>
              </a:rPr>
              <a:t>وَلا يَخَافُ عُقْبَاهَ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متصل کننده پیکان مستقیم 12"/>
          <p:cNvCxnSpPr>
            <a:stCxn id="119" idx="1"/>
            <a:endCxn id="121" idx="3"/>
          </p:cNvCxnSpPr>
          <p:nvPr/>
        </p:nvCxnSpPr>
        <p:spPr>
          <a:xfrm flipH="1" flipV="1">
            <a:off x="3642840" y="1999440"/>
            <a:ext cx="164376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متصل کننده پیکان مستقیم 14"/>
          <p:cNvCxnSpPr>
            <a:stCxn id="119" idx="2"/>
            <a:endCxn id="120" idx="0"/>
          </p:cNvCxnSpPr>
          <p:nvPr/>
        </p:nvCxnSpPr>
        <p:spPr>
          <a:xfrm>
            <a:off x="6750720" y="3143160"/>
            <a:ext cx="1080" cy="643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2"/>
          <p:cNvSpPr/>
          <p:nvPr/>
        </p:nvSpPr>
        <p:spPr>
          <a:xfrm>
            <a:off x="1511280" y="2690640"/>
            <a:ext cx="612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جهت هدایتی سیاق دو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3"/>
          <p:cNvSpPr/>
          <p:nvPr/>
        </p:nvSpPr>
        <p:spPr>
          <a:xfrm>
            <a:off x="1214280" y="2615760"/>
            <a:ext cx="66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Calibri"/>
                <a:cs typeface="2  Lotus"/>
              </a:rPr>
              <a:t>قوم ثمود براثر طغیان، حق آشکار الهی را تکذیب کرد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2  Lotus"/>
              </a:rPr>
              <a:t> </a:t>
            </a:r>
            <a:r>
              <a:rPr b="1" lang="fa-IR" sz="3600" spc="-1" strike="noStrike">
                <a:solidFill>
                  <a:srgbClr val="000000"/>
                </a:solidFill>
                <a:latin typeface="Calibri"/>
                <a:cs typeface="2  Lotus"/>
              </a:rPr>
              <a:t>و گرفتار عذاب سخت الهی ش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-4343400" y="1071720"/>
            <a:ext cx="1785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7200" spc="-1" strike="noStrike">
                <a:solidFill>
                  <a:srgbClr val="000000"/>
                </a:solidFill>
                <a:latin typeface="IranNastaliq"/>
                <a:cs typeface="IranNastaliq"/>
              </a:rPr>
              <a:t>تکذیب سرکشانه قوم ثمود و عقاب سخت اله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2"/>
          <p:cNvSpPr/>
          <p:nvPr/>
        </p:nvSpPr>
        <p:spPr>
          <a:xfrm>
            <a:off x="1049760" y="2921040"/>
            <a:ext cx="704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فضای سخن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2"/>
          <p:cNvSpPr/>
          <p:nvPr/>
        </p:nvSpPr>
        <p:spPr>
          <a:xfrm>
            <a:off x="928800" y="1190520"/>
            <a:ext cx="7215120" cy="66744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B Badr"/>
              </a:rPr>
              <a:t>رسول اکرم</a:t>
            </a:r>
            <a:r>
              <a:rPr b="0" lang="fa-IR" sz="2000" spc="-1" strike="noStrike">
                <a:solidFill>
                  <a:srgbClr val="000000"/>
                </a:solidFill>
                <a:latin typeface="Alaem"/>
                <a:ea typeface="Alaem"/>
              </a:rPr>
              <a:t></a:t>
            </a:r>
            <a:r>
              <a:rPr b="1" lang="fa-IR" sz="3200" spc="-1" strike="noStrike">
                <a:solidFill>
                  <a:srgbClr val="000000"/>
                </a:solidFill>
                <a:latin typeface="Calibri"/>
                <a:ea typeface="B Badr"/>
              </a:rPr>
              <a:t> با معجزه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B Badr"/>
              </a:rPr>
              <a:t> </a:t>
            </a: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B Badr"/>
              </a:rPr>
              <a:t>ای آشکار از سوی خدا یعنی «کتاب الله»، مردم را به تبعیّت از آن فرا می خواند، اما پذیرش این امر و تن دادن به آن برای کسانی که نفس خود را تزکیه نکرده اند و آن را زیر بار گناه دفن کرده اند،سخت است، از این روست که  طغیان پیشه کرده، آیت روشن خدا را انکار می کنن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2"/>
          <p:cNvSpPr/>
          <p:nvPr/>
        </p:nvSpPr>
        <p:spPr>
          <a:xfrm>
            <a:off x="2097000" y="2921040"/>
            <a:ext cx="495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جهت هدایتی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_s1386"/>
          <p:cNvSpPr/>
          <p:nvPr/>
        </p:nvSpPr>
        <p:spPr>
          <a:xfrm>
            <a:off x="1055520" y="857160"/>
            <a:ext cx="6961320" cy="1540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B Badr"/>
              </a:rPr>
              <a:t>تهدید نسبت به طغیانگری برخاسته از دسّ نفس (دفن آینه الهی نفس زیر غبار گناه)؛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B Bad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B Lotus"/>
              </a:rPr>
              <a:t>اگر انسان گرفتار دسّ نفس شود، خسارت می</a:t>
            </a:r>
            <a:r>
              <a:rPr b="0" lang="fa-IR" sz="2000" spc="-1" strike="noStrike">
                <a:solidFill>
                  <a:srgbClr val="000000"/>
                </a:solidFill>
                <a:latin typeface="Calibri"/>
                <a:ea typeface="B Lotus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B Lotus"/>
              </a:rPr>
              <a:t>بیند و ناکام می</a:t>
            </a:r>
            <a:r>
              <a:rPr b="0" lang="fa-IR" sz="2000" spc="-1" strike="noStrike">
                <a:solidFill>
                  <a:srgbClr val="000000"/>
                </a:solidFill>
                <a:latin typeface="Calibri"/>
                <a:ea typeface="B Lotus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B Lotus"/>
              </a:rPr>
              <a:t>ماند؛ مانند قوم ثمود که دسّ نفس، آنان را به طغیان کشید و حق آشکار الهی را تکذیب کردند و نابود شدند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B Lotu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_s1387"/>
          <p:cNvSpPr/>
          <p:nvPr/>
        </p:nvSpPr>
        <p:spPr>
          <a:xfrm>
            <a:off x="857160" y="3071880"/>
            <a:ext cx="3409920" cy="27144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B Badr"/>
              </a:rPr>
              <a:t>آیه 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ea typeface="B Badr"/>
              </a:rPr>
              <a:t>11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ea typeface="B Badr"/>
              </a:rPr>
              <a:t> - 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ea typeface="B Badr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B Badr"/>
              </a:rPr>
              <a:t>تکذیب سرکشانه قوم ثمود و عقاب سخت الهی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B Bad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B Lotus"/>
              </a:rPr>
              <a:t>قوم ثمود براثر طغیان، حق آشکار الهی را تکذیب کرد و گرفتار عذاب سخت الهی شد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B Lotu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_s1388"/>
          <p:cNvSpPr/>
          <p:nvPr/>
        </p:nvSpPr>
        <p:spPr>
          <a:xfrm>
            <a:off x="4876920" y="3071880"/>
            <a:ext cx="3409920" cy="27144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B Badr"/>
              </a:rPr>
              <a:t>آیه 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ea typeface="B Badr"/>
              </a:rPr>
              <a:t>1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ea typeface="B Badr"/>
              </a:rPr>
              <a:t> - 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ea typeface="B Badr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B Badr"/>
              </a:rPr>
              <a:t>رستگاری، عاق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B Badr"/>
              </a:rPr>
              <a:t>ب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B Badr"/>
              </a:rPr>
              <a:t>ت تزکیه نفس، و خسران و ناکامی، عاقبت دسّ نفس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B Bad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B Lotus"/>
              </a:rPr>
              <a:t>نفس، آینه الهیِ تشخیص تقوا از فجور است. هرکس این آینه را پاک داشت، تقوا را از فجور بازشناخت و به رستگاری رسید و هرکس این آینه را زیر غبار گناه دفن کرد، از آن بهره</a:t>
            </a:r>
            <a:r>
              <a:rPr b="0" lang="fa-IR" sz="2000" spc="-1" strike="noStrike">
                <a:solidFill>
                  <a:srgbClr val="000000"/>
                </a:solidFill>
                <a:latin typeface="Calibri"/>
                <a:ea typeface="B Lotus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B Lotus"/>
              </a:rPr>
              <a:t>ای نبرد و خسارت دید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B Lotu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متصل کننده پیکان مستقیم 12"/>
          <p:cNvCxnSpPr>
            <a:stCxn id="138" idx="0"/>
            <a:endCxn id="136" idx="2"/>
          </p:cNvCxnSpPr>
          <p:nvPr/>
        </p:nvCxnSpPr>
        <p:spPr>
          <a:xfrm flipH="1" flipV="1">
            <a:off x="4536720" y="2396880"/>
            <a:ext cx="2045520" cy="675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0" name="متصل کننده پیکان مستقیم 15"/>
          <p:cNvCxnSpPr>
            <a:stCxn id="137" idx="0"/>
            <a:endCxn id="136" idx="2"/>
          </p:cNvCxnSpPr>
          <p:nvPr/>
        </p:nvCxnSpPr>
        <p:spPr>
          <a:xfrm flipV="1">
            <a:off x="2562120" y="2396880"/>
            <a:ext cx="1975680" cy="675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2"/>
          <p:cNvSpPr/>
          <p:nvPr/>
        </p:nvSpPr>
        <p:spPr>
          <a:xfrm>
            <a:off x="1891800" y="2874960"/>
            <a:ext cx="5360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قرائت سور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29"/>
          <p:cNvSpPr/>
          <p:nvPr/>
        </p:nvSpPr>
        <p:spPr>
          <a:xfrm>
            <a:off x="785880" y="831960"/>
            <a:ext cx="7500960" cy="56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Arial"/>
                <a:cs typeface="QuranTaha"/>
              </a:rPr>
              <a:t>بِسْمِ اللَّهِ الرَّحْمَنِ الرَّحِيم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Arial"/>
                <a:cs typeface="QuranTaha"/>
              </a:rPr>
              <a:t>وَالشَّمْسِ وَضُحَاهَا </a:t>
            </a:r>
            <a:r>
              <a:rPr b="1" lang="ar-SA" sz="27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7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</a:t>
            </a:r>
            <a:r>
              <a:rPr b="1" lang="ar-SA" sz="27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700" spc="-1" strike="noStrike">
                <a:solidFill>
                  <a:srgbClr val="000000"/>
                </a:solidFill>
                <a:latin typeface="Arial"/>
                <a:cs typeface="QuranTaha"/>
              </a:rPr>
              <a:t>وَالْقَمَرِ إِذَا تَلاهَا </a:t>
            </a:r>
            <a:r>
              <a:rPr b="1" lang="ar-SA" sz="27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7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٢</a:t>
            </a:r>
            <a:r>
              <a:rPr b="1" lang="ar-SA" sz="27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700" spc="-1" strike="noStrike">
                <a:solidFill>
                  <a:srgbClr val="000000"/>
                </a:solidFill>
                <a:latin typeface="Arial"/>
                <a:cs typeface="QuranTaha"/>
              </a:rPr>
              <a:t>وَالنَّهَارِ إِذَا جَلاهَا </a:t>
            </a:r>
            <a:r>
              <a:rPr b="1" lang="ar-SA" sz="27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7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٣</a:t>
            </a:r>
            <a:r>
              <a:rPr b="1" lang="ar-SA" sz="27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700" spc="-1" strike="noStrike">
                <a:solidFill>
                  <a:srgbClr val="000000"/>
                </a:solidFill>
                <a:latin typeface="Arial"/>
                <a:cs typeface="QuranTaha"/>
              </a:rPr>
              <a:t>وَاللَّيْلِ إِذَا يَغْشَاهَا </a:t>
            </a:r>
            <a:r>
              <a:rPr b="1" lang="ar-SA" sz="27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7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٤</a:t>
            </a:r>
            <a:r>
              <a:rPr b="1" lang="ar-SA" sz="27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700" spc="-1" strike="noStrike">
                <a:solidFill>
                  <a:srgbClr val="000000"/>
                </a:solidFill>
                <a:latin typeface="Arial"/>
                <a:cs typeface="QuranTaha"/>
              </a:rPr>
              <a:t>وَالسَّمَاءِ وَمَا بَنَاهَا</a:t>
            </a:r>
            <a:r>
              <a:rPr b="0" lang="ar-SA" sz="2700" spc="-1" strike="noStrike">
                <a:solidFill>
                  <a:srgbClr val="00602b"/>
                </a:solidFill>
                <a:latin typeface="Arial"/>
                <a:ea typeface="QuranTaha"/>
              </a:rPr>
              <a:t> </a:t>
            </a:r>
            <a:r>
              <a:rPr b="1" lang="ar-SA" sz="27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7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٥</a:t>
            </a:r>
            <a:r>
              <a:rPr b="1" lang="ar-SA" sz="27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700" spc="-1" strike="noStrike">
                <a:solidFill>
                  <a:srgbClr val="000000"/>
                </a:solidFill>
                <a:latin typeface="Arial"/>
                <a:cs typeface="QuranTaha"/>
              </a:rPr>
              <a:t>وَالأرْضِ وَمَا طَحَاهَا </a:t>
            </a:r>
            <a:r>
              <a:rPr b="1" lang="ar-SA" sz="27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7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٦</a:t>
            </a:r>
            <a:r>
              <a:rPr b="1" lang="ar-SA" sz="27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700" spc="-1" strike="noStrike">
                <a:solidFill>
                  <a:srgbClr val="000000"/>
                </a:solidFill>
                <a:latin typeface="Arial"/>
                <a:cs typeface="QuranTaha"/>
              </a:rPr>
              <a:t>وَنَفْسٍ وَمَا سَوَّاهَا </a:t>
            </a:r>
            <a:r>
              <a:rPr b="1" lang="ar-SA" sz="27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7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٧</a:t>
            </a:r>
            <a:r>
              <a:rPr b="1" lang="ar-SA" sz="27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700" spc="-1" strike="noStrike">
                <a:solidFill>
                  <a:srgbClr val="000000"/>
                </a:solidFill>
                <a:latin typeface="Arial"/>
                <a:cs typeface="QuranTaha"/>
              </a:rPr>
              <a:t>فَأَلْهَمَهَا فُجُورَهَا وَتَقْوَاهَا </a:t>
            </a:r>
            <a:r>
              <a:rPr b="1" lang="ar-SA" sz="27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7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٨</a:t>
            </a:r>
            <a:r>
              <a:rPr b="1" lang="ar-SA" sz="27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700" spc="-1" strike="noStrike">
                <a:solidFill>
                  <a:srgbClr val="000000"/>
                </a:solidFill>
                <a:latin typeface="Arial"/>
                <a:cs typeface="QuranTaha"/>
              </a:rPr>
              <a:t>قَدْ أَفْلَحَ مَنْ زَكَّاهَا </a:t>
            </a:r>
            <a:r>
              <a:rPr b="1" lang="ar-SA" sz="27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7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٩</a:t>
            </a:r>
            <a:r>
              <a:rPr b="1" lang="ar-SA" sz="27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700" spc="-1" strike="noStrike">
                <a:solidFill>
                  <a:srgbClr val="000000"/>
                </a:solidFill>
                <a:latin typeface="Arial"/>
                <a:cs typeface="QuranTaha"/>
              </a:rPr>
              <a:t>وَقَدْ خَابَ مَنْ دَسَّاهَا </a:t>
            </a:r>
            <a:r>
              <a:rPr b="1" lang="ar-SA" sz="27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7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٠</a:t>
            </a:r>
            <a:r>
              <a:rPr b="1" lang="ar-SA" sz="27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700" spc="-1" strike="noStrike">
                <a:solidFill>
                  <a:srgbClr val="000000"/>
                </a:solidFill>
                <a:latin typeface="Arial"/>
                <a:cs typeface="QuranTaha"/>
              </a:rPr>
              <a:t>كَذَّبَتْ ثَمُودُ بِطَغْوَاهَا </a:t>
            </a:r>
            <a:r>
              <a:rPr b="1" lang="ar-SA" sz="27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7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١</a:t>
            </a:r>
            <a:r>
              <a:rPr b="1" lang="ar-SA" sz="27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700" spc="-1" strike="noStrike">
                <a:solidFill>
                  <a:srgbClr val="000000"/>
                </a:solidFill>
                <a:latin typeface="Arial"/>
                <a:cs typeface="QuranTaha"/>
              </a:rPr>
              <a:t>إِذِ انْبَعَثَ أَشْقَاهَا </a:t>
            </a:r>
            <a:r>
              <a:rPr b="1" lang="ar-SA" sz="27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7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٢</a:t>
            </a:r>
            <a:r>
              <a:rPr b="1" lang="ar-SA" sz="27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700" spc="-1" strike="noStrike">
                <a:solidFill>
                  <a:srgbClr val="000000"/>
                </a:solidFill>
                <a:latin typeface="Arial"/>
                <a:cs typeface="QuranTaha"/>
              </a:rPr>
              <a:t>فَقَالَ لَهُمْ رَسُولُ اللَّهِ نَاقَةَ اللَّهِ وَسُقْيَاهَا </a:t>
            </a:r>
            <a:r>
              <a:rPr b="1" lang="ar-SA" sz="27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7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٣</a:t>
            </a:r>
            <a:r>
              <a:rPr b="1" lang="ar-SA" sz="27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700" spc="-1" strike="noStrike">
                <a:solidFill>
                  <a:srgbClr val="000000"/>
                </a:solidFill>
                <a:latin typeface="Arial"/>
                <a:cs typeface="QuranTaha"/>
              </a:rPr>
              <a:t>فَكَذَّبُوهُ فَعَقَرُوهَا فَدَمْدَمَ عَلَيْهِمْ رَبُّهُمْ بِذَنْبِهِمْ فَسَوَّاهَا </a:t>
            </a:r>
            <a:r>
              <a:rPr b="1" lang="ar-SA" sz="27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7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٤</a:t>
            </a:r>
            <a:r>
              <a:rPr b="1" lang="ar-SA" sz="27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700" spc="-1" strike="noStrike">
                <a:solidFill>
                  <a:srgbClr val="000000"/>
                </a:solidFill>
                <a:latin typeface="Arial"/>
                <a:cs typeface="QuranTaha"/>
              </a:rPr>
              <a:t>وَلا يَخَافُ عُقْبَاهَا </a:t>
            </a:r>
            <a:r>
              <a:rPr b="1" lang="ar-SA" sz="27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7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٥</a:t>
            </a:r>
            <a:r>
              <a:rPr b="1" lang="ar-SA" sz="27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268.MP3" descr=""/>
          <p:cNvPicPr/>
          <p:nvPr/>
        </p:nvPicPr>
        <p:blipFill>
          <a:blip r:embed="rId2"/>
          <a:stretch/>
        </p:blipFill>
        <p:spPr>
          <a:xfrm>
            <a:off x="10858680" y="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2000"/>
                            </p:stCondLst>
                            <p:childTnLst>
                              <p:par>
                                <p:cTn id="4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3" dur="84538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2"/>
          <p:cNvSpPr/>
          <p:nvPr/>
        </p:nvSpPr>
        <p:spPr>
          <a:xfrm>
            <a:off x="3683160" y="2766960"/>
            <a:ext cx="1778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8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دع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نگهدارنده مکان محتوا 6" descr=""/>
          <p:cNvPicPr/>
          <p:nvPr/>
        </p:nvPicPr>
        <p:blipFill>
          <a:blip r:embed="rId2"/>
          <a:stretch/>
        </p:blipFill>
        <p:spPr>
          <a:xfrm>
            <a:off x="115920" y="536400"/>
            <a:ext cx="8839080" cy="55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2"/>
          <p:cNvSpPr/>
          <p:nvPr/>
        </p:nvSpPr>
        <p:spPr>
          <a:xfrm>
            <a:off x="3643200" y="785880"/>
            <a:ext cx="17859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600" spc="-1" strike="noStrike">
                <a:solidFill>
                  <a:srgbClr val="000000"/>
                </a:solidFill>
                <a:latin typeface="IranNastaliq"/>
                <a:cs typeface="IranNastaliq"/>
              </a:rPr>
              <a:t>پروردگارا 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071960" y="3535200"/>
            <a:ext cx="11127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600" spc="-1" strike="noStrike">
                <a:solidFill>
                  <a:srgbClr val="000000"/>
                </a:solidFill>
                <a:latin typeface="IranNastaliq"/>
                <a:cs typeface="IranNastaliq"/>
              </a:rPr>
              <a:t>خدایا!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1000080" y="1863720"/>
            <a:ext cx="714384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200" spc="-1" strike="noStrike">
                <a:solidFill>
                  <a:srgbClr val="000000"/>
                </a:solidFill>
                <a:latin typeface="Arial"/>
                <a:cs typeface="2  Lotus"/>
              </a:rPr>
              <a:t>ما را ياري كن تا شاخص نفس خود را كه تو به ما ارزاني داشته اي، پاكيزه نگاه داريم و زير انبوه گناهان دفن نكنيم، تا هميشه و همه جا نسبت به رفتار نادرستمان هشدار دهد و جز عمل نيكو کار دیگری از ما سر نزند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1000080" y="4792680"/>
            <a:ext cx="714384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200" spc="-1" strike="noStrike">
                <a:solidFill>
                  <a:srgbClr val="000000"/>
                </a:solidFill>
                <a:latin typeface="Arial"/>
                <a:cs typeface="2  Lotus"/>
              </a:rPr>
              <a:t>زنگار گناه را از نفسهای ما بزدا و همواره نور حقیقت را در آنها بتابان،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2  Lotus"/>
              </a:rPr>
              <a:t> </a:t>
            </a:r>
            <a:r>
              <a:rPr b="1" lang="fa-IR" sz="2200" spc="-1" strike="noStrike">
                <a:solidFill>
                  <a:srgbClr val="000000"/>
                </a:solidFill>
                <a:latin typeface="Arial"/>
                <a:cs typeface="2  Lotus"/>
              </a:rPr>
              <a:t>تا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2  Lotus"/>
              </a:rPr>
              <a:t> </a:t>
            </a:r>
            <a:r>
              <a:rPr b="1" lang="fa-IR" sz="2200" spc="-1" strike="noStrike">
                <a:solidFill>
                  <a:srgbClr val="000000"/>
                </a:solidFill>
                <a:latin typeface="Arial"/>
                <a:cs typeface="2  Lotus"/>
              </a:rPr>
              <a:t>آیه های روشن تو را نادیده نگیریم و دل و جانمان گرفتار تردید نشود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2000"/>
                            </p:stCondLst>
                            <p:childTnLst>
                              <p:par>
                                <p:cTn id="4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3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2"/>
          <p:cNvSpPr/>
          <p:nvPr/>
        </p:nvSpPr>
        <p:spPr>
          <a:xfrm>
            <a:off x="1146600" y="2644920"/>
            <a:ext cx="685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9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التماس دعا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2"/>
          <p:cNvSpPr/>
          <p:nvPr/>
        </p:nvSpPr>
        <p:spPr>
          <a:xfrm>
            <a:off x="1891800" y="2874960"/>
            <a:ext cx="5360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قرائت سور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29"/>
          <p:cNvSpPr/>
          <p:nvPr/>
        </p:nvSpPr>
        <p:spPr>
          <a:xfrm>
            <a:off x="785880" y="831960"/>
            <a:ext cx="7500960" cy="56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Arial"/>
                <a:cs typeface="QuranTaha"/>
              </a:rPr>
              <a:t>بِسْمِ اللَّهِ الرَّحْمَنِ الرَّحِيم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Arial"/>
                <a:cs typeface="QuranTaha"/>
              </a:rPr>
              <a:t>وَالشَّمْسِ وَضُحَاهَا </a:t>
            </a:r>
            <a:r>
              <a:rPr b="1" lang="ar-SA" sz="27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7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</a:t>
            </a:r>
            <a:r>
              <a:rPr b="1" lang="ar-SA" sz="27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700" spc="-1" strike="noStrike">
                <a:solidFill>
                  <a:srgbClr val="000000"/>
                </a:solidFill>
                <a:latin typeface="Arial"/>
                <a:cs typeface="QuranTaha"/>
              </a:rPr>
              <a:t>وَالْقَمَرِ إِذَا تَلاهَا </a:t>
            </a:r>
            <a:r>
              <a:rPr b="1" lang="ar-SA" sz="27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7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٢</a:t>
            </a:r>
            <a:r>
              <a:rPr b="1" lang="ar-SA" sz="27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700" spc="-1" strike="noStrike">
                <a:solidFill>
                  <a:srgbClr val="000000"/>
                </a:solidFill>
                <a:latin typeface="Arial"/>
                <a:cs typeface="QuranTaha"/>
              </a:rPr>
              <a:t>وَالنَّهَارِ إِذَا جَلاهَا </a:t>
            </a:r>
            <a:r>
              <a:rPr b="1" lang="ar-SA" sz="27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7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٣</a:t>
            </a:r>
            <a:r>
              <a:rPr b="1" lang="ar-SA" sz="27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700" spc="-1" strike="noStrike">
                <a:solidFill>
                  <a:srgbClr val="000000"/>
                </a:solidFill>
                <a:latin typeface="Arial"/>
                <a:cs typeface="QuranTaha"/>
              </a:rPr>
              <a:t>وَاللَّيْلِ إِذَا يَغْشَاهَا </a:t>
            </a:r>
            <a:r>
              <a:rPr b="1" lang="ar-SA" sz="27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7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٤</a:t>
            </a:r>
            <a:r>
              <a:rPr b="1" lang="ar-SA" sz="27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700" spc="-1" strike="noStrike">
                <a:solidFill>
                  <a:srgbClr val="000000"/>
                </a:solidFill>
                <a:latin typeface="Arial"/>
                <a:cs typeface="QuranTaha"/>
              </a:rPr>
              <a:t>وَالسَّمَاءِ وَمَا بَنَاهَا</a:t>
            </a:r>
            <a:r>
              <a:rPr b="0" lang="ar-SA" sz="2700" spc="-1" strike="noStrike">
                <a:solidFill>
                  <a:srgbClr val="00602b"/>
                </a:solidFill>
                <a:latin typeface="Arial"/>
                <a:ea typeface="QuranTaha"/>
              </a:rPr>
              <a:t> </a:t>
            </a:r>
            <a:r>
              <a:rPr b="1" lang="ar-SA" sz="27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7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٥</a:t>
            </a:r>
            <a:r>
              <a:rPr b="1" lang="ar-SA" sz="27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700" spc="-1" strike="noStrike">
                <a:solidFill>
                  <a:srgbClr val="000000"/>
                </a:solidFill>
                <a:latin typeface="Arial"/>
                <a:cs typeface="QuranTaha"/>
              </a:rPr>
              <a:t>وَالأرْضِ وَمَا طَحَاهَا </a:t>
            </a:r>
            <a:r>
              <a:rPr b="1" lang="ar-SA" sz="27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7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٦</a:t>
            </a:r>
            <a:r>
              <a:rPr b="1" lang="ar-SA" sz="27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700" spc="-1" strike="noStrike">
                <a:solidFill>
                  <a:srgbClr val="000000"/>
                </a:solidFill>
                <a:latin typeface="Arial"/>
                <a:cs typeface="QuranTaha"/>
              </a:rPr>
              <a:t>وَنَفْسٍ وَمَا سَوَّاهَا </a:t>
            </a:r>
            <a:r>
              <a:rPr b="1" lang="ar-SA" sz="27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7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٧</a:t>
            </a:r>
            <a:r>
              <a:rPr b="1" lang="ar-SA" sz="27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700" spc="-1" strike="noStrike">
                <a:solidFill>
                  <a:srgbClr val="000000"/>
                </a:solidFill>
                <a:latin typeface="Arial"/>
                <a:cs typeface="QuranTaha"/>
              </a:rPr>
              <a:t>فَأَلْهَمَهَا فُجُورَهَا وَتَقْوَاهَا </a:t>
            </a:r>
            <a:r>
              <a:rPr b="1" lang="ar-SA" sz="27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7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٨</a:t>
            </a:r>
            <a:r>
              <a:rPr b="1" lang="ar-SA" sz="27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700" spc="-1" strike="noStrike">
                <a:solidFill>
                  <a:srgbClr val="000000"/>
                </a:solidFill>
                <a:latin typeface="Arial"/>
                <a:cs typeface="QuranTaha"/>
              </a:rPr>
              <a:t>قَدْ أَفْلَحَ مَنْ زَكَّاهَا </a:t>
            </a:r>
            <a:r>
              <a:rPr b="1" lang="ar-SA" sz="27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7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٩</a:t>
            </a:r>
            <a:r>
              <a:rPr b="1" lang="ar-SA" sz="27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700" spc="-1" strike="noStrike">
                <a:solidFill>
                  <a:srgbClr val="000000"/>
                </a:solidFill>
                <a:latin typeface="Arial"/>
                <a:cs typeface="QuranTaha"/>
              </a:rPr>
              <a:t>وَقَدْ خَابَ مَنْ دَسَّاهَا </a:t>
            </a:r>
            <a:r>
              <a:rPr b="1" lang="ar-SA" sz="27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7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٠</a:t>
            </a:r>
            <a:r>
              <a:rPr b="1" lang="ar-SA" sz="27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700" spc="-1" strike="noStrike">
                <a:solidFill>
                  <a:srgbClr val="000000"/>
                </a:solidFill>
                <a:latin typeface="Arial"/>
                <a:cs typeface="QuranTaha"/>
              </a:rPr>
              <a:t>كَذَّبَتْ ثَمُودُ بِطَغْوَاهَا </a:t>
            </a:r>
            <a:r>
              <a:rPr b="1" lang="ar-SA" sz="27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7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١</a:t>
            </a:r>
            <a:r>
              <a:rPr b="1" lang="ar-SA" sz="27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700" spc="-1" strike="noStrike">
                <a:solidFill>
                  <a:srgbClr val="000000"/>
                </a:solidFill>
                <a:latin typeface="Arial"/>
                <a:cs typeface="QuranTaha"/>
              </a:rPr>
              <a:t>إِذِ انْبَعَثَ أَشْقَاهَا </a:t>
            </a:r>
            <a:r>
              <a:rPr b="1" lang="ar-SA" sz="27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7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٢</a:t>
            </a:r>
            <a:r>
              <a:rPr b="1" lang="ar-SA" sz="27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700" spc="-1" strike="noStrike">
                <a:solidFill>
                  <a:srgbClr val="000000"/>
                </a:solidFill>
                <a:latin typeface="Arial"/>
                <a:cs typeface="QuranTaha"/>
              </a:rPr>
              <a:t>فَقَالَ لَهُمْ رَسُولُ اللَّهِ نَاقَةَ اللَّهِ وَسُقْيَاهَا </a:t>
            </a:r>
            <a:r>
              <a:rPr b="1" lang="ar-SA" sz="27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7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٣</a:t>
            </a:r>
            <a:r>
              <a:rPr b="1" lang="ar-SA" sz="27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700" spc="-1" strike="noStrike">
                <a:solidFill>
                  <a:srgbClr val="000000"/>
                </a:solidFill>
                <a:latin typeface="Arial"/>
                <a:cs typeface="QuranTaha"/>
              </a:rPr>
              <a:t>فَكَذَّبُوهُ فَعَقَرُوهَا فَدَمْدَمَ عَلَيْهِمْ رَبُّهُمْ بِذَنْبِهِمْ فَسَوَّاهَا </a:t>
            </a:r>
            <a:r>
              <a:rPr b="1" lang="ar-SA" sz="27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7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٤</a:t>
            </a:r>
            <a:r>
              <a:rPr b="1" lang="ar-SA" sz="27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700" spc="-1" strike="noStrike">
                <a:solidFill>
                  <a:srgbClr val="000000"/>
                </a:solidFill>
                <a:latin typeface="Arial"/>
                <a:cs typeface="QuranTaha"/>
              </a:rPr>
              <a:t>وَلا يَخَافُ عُقْبَاهَا </a:t>
            </a:r>
            <a:r>
              <a:rPr b="1" lang="ar-SA" sz="27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7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٥</a:t>
            </a:r>
            <a:r>
              <a:rPr b="1" lang="ar-SA" sz="27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268.MP3" descr=""/>
          <p:cNvPicPr/>
          <p:nvPr/>
        </p:nvPicPr>
        <p:blipFill>
          <a:blip r:embed="rId2"/>
          <a:stretch/>
        </p:blipFill>
        <p:spPr>
          <a:xfrm>
            <a:off x="10858680" y="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84538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2"/>
          <p:cNvSpPr/>
          <p:nvPr/>
        </p:nvSpPr>
        <p:spPr>
          <a:xfrm>
            <a:off x="1980720" y="2921040"/>
            <a:ext cx="5182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اختار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ound Same Side Corner Rectangle 2"/>
          <p:cNvSpPr/>
          <p:nvPr/>
        </p:nvSpPr>
        <p:spPr>
          <a:xfrm>
            <a:off x="500040" y="3857760"/>
            <a:ext cx="3284640" cy="1446120"/>
          </a:xfrm>
          <a:prstGeom prst="pi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سیاق دو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آیات </a:t>
            </a:r>
            <a:r>
              <a:rPr b="1" lang="fa-IR" sz="32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11</a:t>
            </a:r>
            <a:r>
              <a:rPr b="1" lang="fa-IR" sz="32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تا </a:t>
            </a:r>
            <a:r>
              <a:rPr b="1" lang="fa-IR" sz="32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3"/>
          <p:cNvSpPr/>
          <p:nvPr/>
        </p:nvSpPr>
        <p:spPr>
          <a:xfrm>
            <a:off x="3527280" y="1643040"/>
            <a:ext cx="2089440" cy="13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سوره شم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 Same Side Corner Rectangle 4"/>
          <p:cNvSpPr/>
          <p:nvPr/>
        </p:nvSpPr>
        <p:spPr>
          <a:xfrm>
            <a:off x="5357880" y="3875040"/>
            <a:ext cx="3168720" cy="1449360"/>
          </a:xfrm>
          <a:prstGeom prst="pi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سیاق او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آیات </a:t>
            </a:r>
            <a:r>
              <a:rPr b="1" lang="fa-IR" sz="32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1</a:t>
            </a:r>
            <a:r>
              <a:rPr b="1" lang="fa-IR" sz="32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تا </a:t>
            </a:r>
            <a:r>
              <a:rPr b="1" lang="fa-IR" sz="32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متصل کننده پیکان مستقیم 5"/>
          <p:cNvCxnSpPr>
            <a:stCxn id="58" idx="2"/>
            <a:endCxn id="57" idx="4"/>
          </p:cNvCxnSpPr>
          <p:nvPr/>
        </p:nvCxnSpPr>
        <p:spPr>
          <a:xfrm flipH="1">
            <a:off x="2142360" y="3000240"/>
            <a:ext cx="2429640" cy="858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1" name="متصل کننده پیکان مستقیم 6"/>
          <p:cNvCxnSpPr>
            <a:stCxn id="58" idx="2"/>
            <a:endCxn id="59" idx="4"/>
          </p:cNvCxnSpPr>
          <p:nvPr/>
        </p:nvCxnSpPr>
        <p:spPr>
          <a:xfrm>
            <a:off x="4572000" y="3000240"/>
            <a:ext cx="2370960" cy="87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2"/>
          <p:cNvSpPr/>
          <p:nvPr/>
        </p:nvSpPr>
        <p:spPr>
          <a:xfrm>
            <a:off x="2451600" y="1925640"/>
            <a:ext cx="424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اق او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2428920" y="3936960"/>
            <a:ext cx="4214880" cy="2104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آیات </a:t>
            </a:r>
            <a:r>
              <a:rPr b="1" lang="fa-IR" sz="6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1</a:t>
            </a:r>
            <a:r>
              <a:rPr b="1" lang="fa-IR" sz="6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تا </a:t>
            </a:r>
            <a:r>
              <a:rPr b="1" lang="fa-IR" sz="6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2"/>
          <p:cNvSpPr/>
          <p:nvPr/>
        </p:nvSpPr>
        <p:spPr>
          <a:xfrm>
            <a:off x="1026000" y="2874960"/>
            <a:ext cx="709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قرائت سیاق او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7T11:41:04Z</dcterms:created>
  <dc:creator>YAALI</dc:creator>
  <dc:description/>
  <dc:language>en-US</dc:language>
  <cp:lastModifiedBy>ALI</cp:lastModifiedBy>
  <dcterms:modified xsi:type="dcterms:W3CDTF">2011-11-16T21:27:40Z</dcterms:modified>
  <cp:revision>115</cp:revision>
  <dc:subject/>
  <dc:title>ارائه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