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2141-2DC4-42CE-ADE4-F37ADF428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نیامدن وحی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نگهدارنده مکان شماره اسلاید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EB8E-F996-47B9-BC99-D7A3CB159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1D2-2242-49A6-A056-0837AE9C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EA49-7FCC-4B2C-B743-C0FB1BC5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6CF-7AEB-42B7-8EC2-B0E4B8E2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03F-7E7B-46CA-959C-DBBFCEA3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7C73-83E1-4210-8049-892A3E2A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3FB-C23E-449C-8FD4-A51A831B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5833-C0FA-4042-AC10-439AF3D6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0FF-A877-4EFC-9F5F-998B3517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02A-15A7-4497-84C1-316056DA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08E-4042-4216-B0C3-84ED4109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A5F8-3EA7-47D4-862F-3F02368C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7DA-2F68-41E0-8D20-D5F63CD5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17B4-B203-4054-A55E-CAA1A7B86AB5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2" descr=""/>
          <p:cNvPicPr/>
          <p:nvPr/>
        </p:nvPicPr>
        <p:blipFill>
          <a:blip r:embed="rId2"/>
          <a:stretch/>
        </p:blipFill>
        <p:spPr>
          <a:xfrm>
            <a:off x="-6480" y="2316240"/>
            <a:ext cx="9266400" cy="1901880"/>
          </a:xfrm>
          <a:prstGeom prst="rect">
            <a:avLst/>
          </a:prstGeom>
          <a:ln w="0">
            <a:noFill/>
          </a:ln>
        </p:spPr>
      </p:pic>
      <p:pic>
        <p:nvPicPr>
          <p:cNvPr id="50" name="BESM.wav" descr=""/>
          <p:cNvPicPr/>
          <p:nvPr/>
        </p:nvPicPr>
        <p:blipFill>
          <a:blip r:embed="rId3"/>
          <a:stretch/>
        </p:blipFill>
        <p:spPr>
          <a:xfrm>
            <a:off x="1085868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35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تصویر 2" descr=""/>
          <p:cNvPicPr/>
          <p:nvPr/>
        </p:nvPicPr>
        <p:blipFill>
          <a:blip r:embed="rId1"/>
          <a:stretch/>
        </p:blipFill>
        <p:spPr>
          <a:xfrm>
            <a:off x="-714240" y="-642960"/>
            <a:ext cx="10572480" cy="8215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097000" y="2921040"/>
            <a:ext cx="49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تصویر 2" descr=""/>
          <p:cNvPicPr/>
          <p:nvPr/>
        </p:nvPicPr>
        <p:blipFill>
          <a:blip r:embed="rId1"/>
          <a:stretch/>
        </p:blipFill>
        <p:spPr>
          <a:xfrm>
            <a:off x="-714240" y="-642960"/>
            <a:ext cx="10572480" cy="82152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-4837680" y="1285920"/>
            <a:ext cx="18870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میدافزایی و نشاط بخشی به پیامبر</a:t>
            </a:r>
            <a:r>
              <a:rPr b="0" lang="fa-IR" sz="28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ar-SA" sz="6000" spc="-1" strike="noStrike">
                <a:solidFill>
                  <a:srgbClr val="000000"/>
                </a:solidFill>
                <a:latin typeface="IranNastaliq"/>
                <a:ea typeface="IranNastaliq"/>
              </a:rPr>
              <a:t> </a:t>
            </a:r>
            <a:r>
              <a:rPr b="0" lang="fa-IR" sz="6000" spc="-1" strike="noStrike">
                <a:solidFill>
                  <a:srgbClr val="000000"/>
                </a:solidFill>
                <a:latin typeface="IranNastaliq"/>
                <a:ea typeface="IranNastaliq"/>
              </a:rPr>
              <a:t> برای ادامه راه رسال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43000" y="3500280"/>
            <a:ext cx="6858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Badr"/>
              </a:rPr>
              <a:t>انقطاع موقت وحی، نشان قهر خدا نیست. خدا با توست و آینده برای تو بسی بهتر است. راه نفوذ دلسردی را ببند. الطاف خدا درباره خودت را به یاد آور و تبلیغ وحی و  مردم داری را تداوم بخ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تصویر 2" descr=""/>
          <p:cNvPicPr/>
          <p:nvPr/>
        </p:nvPicPr>
        <p:blipFill>
          <a:blip r:embed="rId1"/>
          <a:stretch/>
        </p:blipFill>
        <p:spPr>
          <a:xfrm>
            <a:off x="-714240" y="-642960"/>
            <a:ext cx="10572480" cy="8215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تصویر 2" descr=""/>
          <p:cNvPicPr/>
          <p:nvPr/>
        </p:nvPicPr>
        <p:blipFill>
          <a:blip r:embed="rId1"/>
          <a:stretch/>
        </p:blipFill>
        <p:spPr>
          <a:xfrm>
            <a:off x="-714240" y="-642960"/>
            <a:ext cx="10572480" cy="8215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6"/>
          <p:cNvSpPr/>
          <p:nvPr/>
        </p:nvSpPr>
        <p:spPr>
          <a:xfrm>
            <a:off x="857160" y="714240"/>
            <a:ext cx="7429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الضُّحَى 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١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اللَّيْلِ إِذَا سَجَى 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٢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مَا وَدَّعَكَ رَبُّكَ وَمَا قَلَى 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٣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لَلآخِرَةُ خَيْرٌ لَكَ مِنَ الأولَى 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٤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لَسَوْفَ يُعْطِيكَ رَبُّكَ فَتَرْضَى 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٥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أَلَمْ يَجِدْكَ يَتِيمًا فَآوَى 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٦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وَجَدَكَ ضَالا فَهَدَى 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٧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وَجَدَكَ عَائِلا فَأَغْنَى 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٨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فَأَمَّا الْيَتِيمَ فَلا تَقْهَرْ 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٩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أَمَّا السَّائِلَ فَلا تَنْهَرْ 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أَمَّا بِنِعْمَةِ رَبِّكَ فَحَدِّثْ 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270.MP3" descr=""/>
          <p:cNvPicPr/>
          <p:nvPr/>
        </p:nvPicPr>
        <p:blipFill>
          <a:blip r:embed="rId2"/>
          <a:stretch/>
        </p:blipFill>
        <p:spPr>
          <a:xfrm>
            <a:off x="11072880" y="7858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65206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تصویر 2" descr=""/>
          <p:cNvPicPr/>
          <p:nvPr/>
        </p:nvPicPr>
        <p:blipFill>
          <a:blip r:embed="rId1"/>
          <a:stretch/>
        </p:blipFill>
        <p:spPr>
          <a:xfrm>
            <a:off x="-714240" y="-642960"/>
            <a:ext cx="10572480" cy="82152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تصویر 2" descr=""/>
          <p:cNvPicPr/>
          <p:nvPr/>
        </p:nvPicPr>
        <p:blipFill>
          <a:blip r:embed="rId1"/>
          <a:stretch/>
        </p:blipFill>
        <p:spPr>
          <a:xfrm>
            <a:off x="-714240" y="-642960"/>
            <a:ext cx="10572480" cy="82152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2934000" y="785880"/>
            <a:ext cx="326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IranNastaliq"/>
                <a:cs typeface="IranNastaliq"/>
              </a:rPr>
              <a:t>پروردگارا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928800" y="1736640"/>
            <a:ext cx="72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2  Lotus"/>
              </a:rPr>
              <a:t>به حق مرارتهایی که رسول بزرگوارت در مسیر هدایتگری کشید و به حق الطافی که به او ارزانی داشته ای، ما را قدردان زحمات و تلاشهای او در عرصه هدایت بفرما و در مسیر ایمان و ثابت قدم بدا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365120" y="3576600"/>
            <a:ext cx="640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ی خدای پیامبر اعظم</a:t>
            </a:r>
            <a:r>
              <a:rPr b="0" lang="fa-IR" sz="24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857160" y="4562640"/>
            <a:ext cx="742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2  Lotus"/>
              </a:rPr>
              <a:t>تو همیشه با من و بوده ای و لطف و کرم بی حدّت را نثار من گردانده ای و میدانم که در تاریکی شب قلب هرگز مرا رها نکرده ای، پس آنچه در روشنایی روز قلبم از عبادت تو بدست آورده ام را از من بپذیر و یاری کن تا آن را در تاریکی شب قلب، بر باد نده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تصویر 2" descr=""/>
          <p:cNvPicPr/>
          <p:nvPr/>
        </p:nvPicPr>
        <p:blipFill>
          <a:blip r:embed="rId1"/>
          <a:stretch/>
        </p:blipFill>
        <p:spPr>
          <a:xfrm>
            <a:off x="-714240" y="-642960"/>
            <a:ext cx="10572480" cy="82152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تصویر 2" descr=""/>
          <p:cNvPicPr/>
          <p:nvPr/>
        </p:nvPicPr>
        <p:blipFill>
          <a:blip r:embed="rId1"/>
          <a:stretch/>
        </p:blipFill>
        <p:spPr>
          <a:xfrm>
            <a:off x="-714240" y="-642960"/>
            <a:ext cx="10572480" cy="8215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تصویر 2" descr=""/>
          <p:cNvPicPr/>
          <p:nvPr/>
        </p:nvPicPr>
        <p:blipFill>
          <a:blip r:embed="rId1"/>
          <a:stretch/>
        </p:blipFill>
        <p:spPr>
          <a:xfrm>
            <a:off x="-714240" y="-642960"/>
            <a:ext cx="10572480" cy="8215200"/>
          </a:xfrm>
          <a:prstGeom prst="rect">
            <a:avLst/>
          </a:prstGeom>
          <a:ln w="0">
            <a:noFill/>
          </a:ln>
        </p:spPr>
      </p:pic>
      <p:pic>
        <p:nvPicPr>
          <p:cNvPr id="54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317520" y="341280"/>
            <a:ext cx="839304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تصویر 2" descr=""/>
          <p:cNvPicPr/>
          <p:nvPr/>
        </p:nvPicPr>
        <p:blipFill>
          <a:blip r:embed="rId1"/>
          <a:stretch/>
        </p:blipFill>
        <p:spPr>
          <a:xfrm>
            <a:off x="-714240" y="-642960"/>
            <a:ext cx="10572480" cy="82152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2239920" y="2921040"/>
            <a:ext cx="46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تصویر 2" descr=""/>
          <p:cNvPicPr/>
          <p:nvPr/>
        </p:nvPicPr>
        <p:blipFill>
          <a:blip r:embed="rId1"/>
          <a:stretch/>
        </p:blipFill>
        <p:spPr>
          <a:xfrm>
            <a:off x="-714240" y="-642960"/>
            <a:ext cx="10572480" cy="8215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1143000" y="1785960"/>
            <a:ext cx="6858000" cy="4572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Lotus"/>
              </a:rPr>
              <a:t>نیامدن وحی از جانب خدای کریم به رسولش</a:t>
            </a:r>
            <a:r>
              <a:rPr b="0" lang="fa-IR" sz="2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Lotus"/>
              </a:rPr>
              <a:t>، توهّم تودیع و یا قهر خدا با ایشان را به وجود آورده؛ فضایی که در درجه اول پیامبر اکرم</a:t>
            </a:r>
            <a:r>
              <a:rPr b="0" lang="fa-IR" sz="2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Lotus"/>
              </a:rPr>
              <a:t> را نگران کرده و در لایه دیگر دشمنان و بدخواهان او را امیدوار و دوستان و مؤمنان به او را  دلسرد می ک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تصویر 2" descr=""/>
          <p:cNvPicPr/>
          <p:nvPr/>
        </p:nvPicPr>
        <p:blipFill>
          <a:blip r:embed="rId1"/>
          <a:stretch/>
        </p:blipFill>
        <p:spPr>
          <a:xfrm>
            <a:off x="-714240" y="-642960"/>
            <a:ext cx="10572480" cy="82152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تصویر 2" descr=""/>
          <p:cNvPicPr/>
          <p:nvPr/>
        </p:nvPicPr>
        <p:blipFill>
          <a:blip r:embed="rId1"/>
          <a:stretch/>
        </p:blipFill>
        <p:spPr>
          <a:xfrm>
            <a:off x="-714240" y="-642960"/>
            <a:ext cx="10572480" cy="8215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6"/>
          <p:cNvSpPr/>
          <p:nvPr/>
        </p:nvSpPr>
        <p:spPr>
          <a:xfrm>
            <a:off x="857160" y="714240"/>
            <a:ext cx="7429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الضُّحَى 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١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اللَّيْلِ إِذَا سَجَى 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٢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مَا وَدَّعَكَ رَبُّكَ وَمَا قَلَى 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٣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لَلآخِرَةُ خَيْرٌ لَكَ مِنَ الأولَى 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٤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لَسَوْفَ يُعْطِيكَ رَبُّكَ فَتَرْضَى 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٥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أَلَمْ يَجِدْكَ يَتِيمًا فَآوَى 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٦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وَجَدَكَ ضَالا فَهَدَى 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٧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وَجَدَكَ عَائِلا فَأَغْنَى 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٨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فَأَمَّا الْيَتِيمَ فَلا تَقْهَرْ 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٩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أَمَّا السَّائِلَ فَلا تَنْهَرْ 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أَمَّا بِنِعْمَةِ رَبِّكَ فَحَدِّثْ 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3200" spc="-1" strike="noStrike">
                <a:solidFill>
                  <a:srgbClr val="00990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270.MP3" descr=""/>
          <p:cNvPicPr/>
          <p:nvPr/>
        </p:nvPicPr>
        <p:blipFill>
          <a:blip r:embed="rId2"/>
          <a:stretch/>
        </p:blipFill>
        <p:spPr>
          <a:xfrm>
            <a:off x="11072880" y="7858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65206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تصویر 2" descr=""/>
          <p:cNvPicPr/>
          <p:nvPr/>
        </p:nvPicPr>
        <p:blipFill>
          <a:blip r:embed="rId1"/>
          <a:stretch/>
        </p:blipFill>
        <p:spPr>
          <a:xfrm>
            <a:off x="-714240" y="-642960"/>
            <a:ext cx="10572480" cy="8215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تصویر 2" descr=""/>
          <p:cNvPicPr/>
          <p:nvPr/>
        </p:nvPicPr>
        <p:blipFill>
          <a:blip r:embed="rId1"/>
          <a:stretch/>
        </p:blipFill>
        <p:spPr>
          <a:xfrm>
            <a:off x="-714240" y="-642960"/>
            <a:ext cx="10572480" cy="8215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5643720" y="3643200"/>
            <a:ext cx="2643120" cy="72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(normal text)"/>
                <a:cs typeface="2  Badr"/>
              </a:rPr>
              <a:t>وَ مَا قَلى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643720" y="4429080"/>
            <a:ext cx="2643120" cy="72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(normal text)"/>
                <a:cs typeface="2  Badr"/>
              </a:rPr>
              <a:t>وَ لَلاَْخِرَةُ خَيرٌْ لَّكَ مِنَ الْأُولىَ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5643720" y="5214960"/>
            <a:ext cx="2643120" cy="72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(normal text)"/>
                <a:cs typeface="2  Badr"/>
              </a:rPr>
              <a:t>وَ لَسَوْفَ يُعْطِيكَ رَبُّكَ فَترَْضى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071880" y="5214960"/>
            <a:ext cx="2028600" cy="72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(normal text)"/>
                <a:cs typeface="2  Badr"/>
              </a:rPr>
              <a:t>وَ وَجَدَكَ عَائلًا فَأَغْنى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071880" y="4071960"/>
            <a:ext cx="2028600" cy="72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(normal text)"/>
                <a:cs typeface="2  Badr"/>
              </a:rPr>
              <a:t>وَ وَجَدَكَ ضَالاًّ فَهَدَى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3071880" y="2857680"/>
            <a:ext cx="2028600" cy="72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(normal text)"/>
                <a:cs typeface="2  Badr"/>
              </a:rPr>
              <a:t>أَ لَمْ يجَِدْكَ يَتِيمًا فََاوَ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857160" y="2857680"/>
            <a:ext cx="1886040" cy="72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(normal text)"/>
                <a:ea typeface="2  Badr"/>
              </a:rPr>
              <a:t>‏ فَأَمَّا الْيَتِيمَ فَلَا تَقْهَر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857160" y="4071960"/>
            <a:ext cx="1886040" cy="72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(normal text)"/>
                <a:cs typeface="2  Badr"/>
              </a:rPr>
              <a:t>وَ أَمَّا السَّائلَ فَلَا تَنهَْر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857160" y="5214960"/>
            <a:ext cx="1886040" cy="714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ts val="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(normal text)"/>
                <a:cs typeface="2  Badr"/>
              </a:rPr>
              <a:t>وَ أَمَّا بِنِعْمَةِ رَبِّكَ فَحَدِّث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5643720" y="1000080"/>
            <a:ext cx="2643120" cy="72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وَالضُّحَ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5643720" y="1714680"/>
            <a:ext cx="2643120" cy="72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Badr"/>
              </a:rPr>
              <a:t>وَاللَّيْلِ إِذَا سَجَ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5643720" y="2857680"/>
            <a:ext cx="2643120" cy="72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(normal text)"/>
                <a:cs typeface="2  Badr"/>
              </a:rPr>
              <a:t>مَا وَدَّعَكَ رَبُّك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متصل کننده پیکان مستقیم 15"/>
          <p:cNvCxnSpPr>
            <a:stCxn id="77" idx="2"/>
            <a:endCxn id="78" idx="0"/>
          </p:cNvCxnSpPr>
          <p:nvPr/>
        </p:nvCxnSpPr>
        <p:spPr>
          <a:xfrm flipH="1">
            <a:off x="6963480" y="2435040"/>
            <a:ext cx="25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Right Brace 16"/>
          <p:cNvSpPr/>
          <p:nvPr/>
        </p:nvSpPr>
        <p:spPr>
          <a:xfrm>
            <a:off x="5143680" y="2786040"/>
            <a:ext cx="285480" cy="3214800"/>
          </a:xfrm>
          <a:custGeom>
            <a:avLst/>
            <a:gdLst>
              <a:gd name="textAreaLeft" fmla="*/ 0 w 285480"/>
              <a:gd name="textAreaRight" fmla="*/ 102960 w 285480"/>
              <a:gd name="textAreaTop" fmla="*/ 7200 h 3214800"/>
              <a:gd name="textAreaBottom" fmla="*/ 3207600 h 32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"/>
                  <a:pt x="10800" y="160"/>
                </a:cubicBezTo>
                <a:lnTo>
                  <a:pt x="10800" y="10640"/>
                </a:lnTo>
                <a:cubicBezTo>
                  <a:pt x="10800" y="10720"/>
                  <a:pt x="16200" y="10800"/>
                  <a:pt x="21600" y="10800"/>
                </a:cubicBezTo>
                <a:cubicBezTo>
                  <a:pt x="16200" y="10800"/>
                  <a:pt x="10800" y="10880"/>
                  <a:pt x="10800" y="10960"/>
                </a:cubicBezTo>
                <a:lnTo>
                  <a:pt x="10800" y="21440"/>
                </a:lnTo>
                <a:cubicBezTo>
                  <a:pt x="10800" y="2152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متصل کننده پیکان مستقیم 20"/>
          <p:cNvCxnSpPr>
            <a:stCxn id="78" idx="1"/>
            <a:endCxn id="80" idx="1"/>
          </p:cNvCxnSpPr>
          <p:nvPr/>
        </p:nvCxnSpPr>
        <p:spPr>
          <a:xfrm flipH="1">
            <a:off x="5428800" y="3216960"/>
            <a:ext cx="215280" cy="11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متصل کننده پیکان مستقیم 22"/>
          <p:cNvCxnSpPr>
            <a:stCxn id="67" idx="1"/>
            <a:endCxn id="80" idx="1"/>
          </p:cNvCxnSpPr>
          <p:nvPr/>
        </p:nvCxnSpPr>
        <p:spPr>
          <a:xfrm flipH="1">
            <a:off x="5428800" y="4002480"/>
            <a:ext cx="21528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متصل کننده پیکان مستقیم 24"/>
          <p:cNvCxnSpPr>
            <a:stCxn id="68" idx="1"/>
            <a:endCxn id="80" idx="1"/>
          </p:cNvCxnSpPr>
          <p:nvPr/>
        </p:nvCxnSpPr>
        <p:spPr>
          <a:xfrm flipH="1" flipV="1">
            <a:off x="5428800" y="4393800"/>
            <a:ext cx="21528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متصل کننده پیکان مستقیم 26"/>
          <p:cNvCxnSpPr>
            <a:stCxn id="69" idx="1"/>
            <a:endCxn id="80" idx="1"/>
          </p:cNvCxnSpPr>
          <p:nvPr/>
        </p:nvCxnSpPr>
        <p:spPr>
          <a:xfrm flipH="1" flipV="1">
            <a:off x="5428800" y="4393440"/>
            <a:ext cx="215280" cy="118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متصل کننده پیکان مستقیم 28"/>
          <p:cNvCxnSpPr>
            <a:stCxn id="72" idx="1"/>
            <a:endCxn id="73" idx="3"/>
          </p:cNvCxnSpPr>
          <p:nvPr/>
        </p:nvCxnSpPr>
        <p:spPr>
          <a:xfrm flipH="1" flipV="1">
            <a:off x="2742840" y="3217680"/>
            <a:ext cx="329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متصل کننده پیکان مستقیم 30"/>
          <p:cNvCxnSpPr>
            <a:stCxn id="71" idx="1"/>
            <a:endCxn id="75" idx="3"/>
          </p:cNvCxnSpPr>
          <p:nvPr/>
        </p:nvCxnSpPr>
        <p:spPr>
          <a:xfrm flipH="1">
            <a:off x="2742840" y="4432320"/>
            <a:ext cx="329040" cy="114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متصل کننده پیکان مستقیم 32"/>
          <p:cNvCxnSpPr>
            <a:stCxn id="70" idx="1"/>
            <a:endCxn id="74" idx="3"/>
          </p:cNvCxnSpPr>
          <p:nvPr/>
        </p:nvCxnSpPr>
        <p:spPr>
          <a:xfrm flipH="1" flipV="1">
            <a:off x="2742840" y="4431600"/>
            <a:ext cx="32904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7:16Z</dcterms:modified>
  <cp:revision>42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