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DDB-B45A-42C8-940A-21D983B2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175-3903-4EE3-A684-4FAC4C5F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CD8-2A73-4663-B17F-E698D9F2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84A-9ADE-4BAE-95AC-23C94449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48E-ADB5-41DC-91CD-8B1CCB6D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CCD-2046-48F6-B21C-AAB7EF0F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844-9D49-485F-991F-AF3FB29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B77-92C9-466E-B998-F58657D6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088-3E10-405C-B621-2B6F8438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71B-8BAE-4EBA-A9E9-F5776CF4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64B-301A-42AA-9125-0291C6D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D9D-CB48-4226-9728-EE8293AA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D9F3-FD88-4670-92C8-82C8D45F32A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6480" y="5022720"/>
            <a:ext cx="9156960" cy="1963800"/>
          </a:xfrm>
          <a:prstGeom prst="rect">
            <a:avLst/>
          </a:prstGeom>
          <a:ln w="0">
            <a:noFill/>
          </a:ln>
        </p:spPr>
      </p:pic>
      <p:pic>
        <p:nvPicPr>
          <p:cNvPr id="43" name="BESM.wav" descr=""/>
          <p:cNvPicPr/>
          <p:nvPr/>
        </p:nvPicPr>
        <p:blipFill>
          <a:blip r:embed="rId3"/>
          <a:stretch/>
        </p:blipFill>
        <p:spPr>
          <a:xfrm>
            <a:off x="-1785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0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974.999954223633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-4345920" y="1557360"/>
            <a:ext cx="1783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قویت پیامبر</a:t>
            </a:r>
            <a:r>
              <a:rPr b="0" lang="fa-IR" sz="2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ar-SA" sz="6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fa-IR" sz="6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برای ادامه راه خدا و رویارویی با دشواری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57200" y="3807000"/>
            <a:ext cx="64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Elephant"/>
                <a:cs typeface="2  Badr"/>
              </a:rPr>
              <a:t>براساس سنت </a:t>
            </a:r>
            <a:r>
              <a:rPr b="1" lang="ar-SA" sz="3200" spc="-1" strike="noStrike">
                <a:solidFill>
                  <a:srgbClr val="000000"/>
                </a:solidFill>
                <a:latin typeface="Elephant"/>
                <a:ea typeface="2  Badr"/>
              </a:rPr>
              <a:t>(</a:t>
            </a:r>
            <a:r>
              <a:rPr b="1" lang="ar-SA" sz="32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إِنَّ مَعَ الْعُسْرِ يُسْرًا</a:t>
            </a:r>
            <a:r>
              <a:rPr b="1" lang="ar-SA" sz="3200" spc="-1" strike="noStrike">
                <a:solidFill>
                  <a:srgbClr val="000000"/>
                </a:solidFill>
                <a:latin typeface="Elephant"/>
                <a:ea typeface="2  Badr"/>
              </a:rPr>
              <a:t>)</a:t>
            </a:r>
            <a:r>
              <a:rPr b="1" lang="fa-IR" sz="3200" spc="-1" strike="noStrike">
                <a:solidFill>
                  <a:srgbClr val="000000"/>
                </a:solidFill>
                <a:latin typeface="Elephant"/>
                <a:ea typeface="2  Badr"/>
              </a:rPr>
              <a:t> باید راه را ادا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Elephant"/>
                <a:cs typeface="2  Badr"/>
              </a:rPr>
              <a:t>داد و برای مواجهه با سختیهای راه خدا آماده ب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000080" y="4797360"/>
            <a:ext cx="34639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إِلَى رَبِّكَ فَارْغَبْ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٨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568960" y="981000"/>
            <a:ext cx="40060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464000" y="1989000"/>
            <a:ext cx="35974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أَلَمْ نَشْرَحْ لَكَ صَدْرَكَ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28800" y="1989000"/>
            <a:ext cx="35290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وَضَعْنَا عَنْكَ وِزْرَكَ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501440" y="2874960"/>
            <a:ext cx="37591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لَّذِي أَنْقَضَ ظَهْرَكَ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85120" y="2874960"/>
            <a:ext cx="3445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رَفَعْنَا لَكَ ذِكْرَكَ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353840" y="3860640"/>
            <a:ext cx="39909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إِنَّ مَعَ الْعُسْرِ يُسْرًا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10440" y="3857760"/>
            <a:ext cx="37972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نَّ مَعَ الْعُسْرِ يُسْرًا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420800" y="4797360"/>
            <a:ext cx="38156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إِذَا فَرَغْتَ فَانْصَبْ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271.MP3" descr=""/>
          <p:cNvPicPr/>
          <p:nvPr/>
        </p:nvPicPr>
        <p:blipFill>
          <a:blip r:embed="rId2"/>
          <a:stretch/>
        </p:blipFill>
        <p:spPr>
          <a:xfrm>
            <a:off x="1114416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4310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3060360" y="1071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214280" y="1758960"/>
            <a:ext cx="6643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2  Lotus"/>
              </a:rPr>
              <a:t>ما را از رکود و سستی در راه خودت رهایی و بخش و توفيق قدم برداشتن در راه خودت را به ما عنايت فر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999440" y="3384720"/>
            <a:ext cx="50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خدای مهربا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143000" y="4429080"/>
            <a:ext cx="6786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2  Lotus"/>
              </a:rPr>
              <a:t>در راه انجام وظایفمان و در حرکت به سوی خودت، به ما شرح صدر عنایت فر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596880" y="646200"/>
            <a:ext cx="79009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571760" y="2550960"/>
            <a:ext cx="6000480" cy="2652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سختیها و دشواریهای کار در راه خدا جلوه گر شده است و ممکن است حرکت رسول اکرم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Lotus"/>
              </a:rPr>
              <a:t> به سوی خدا را تحت تأثیر قرار ده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000080" y="4797360"/>
            <a:ext cx="34639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إِلَى رَبِّكَ فَارْغَبْ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٨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568960" y="981000"/>
            <a:ext cx="40060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464000" y="1989000"/>
            <a:ext cx="35974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أَلَمْ نَشْرَحْ لَكَ صَدْرَكَ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28800" y="1989000"/>
            <a:ext cx="35290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وَضَعْنَا عَنْكَ وِزْرَكَ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01440" y="2874960"/>
            <a:ext cx="37591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لَّذِي أَنْقَضَ ظَهْرَكَ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185120" y="2874960"/>
            <a:ext cx="3445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رَفَعْنَا لَكَ ذِكْرَكَ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353840" y="3860640"/>
            <a:ext cx="39909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إِنَّ مَعَ الْعُسْرِ يُسْرًا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910440" y="3857760"/>
            <a:ext cx="37972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نَّ مَعَ الْعُسْرِ يُسْرًا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420800" y="4797360"/>
            <a:ext cx="38156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إِذَا فَرَغْتَ فَانْصَبْ 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0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71.MP3" descr=""/>
          <p:cNvPicPr/>
          <p:nvPr/>
        </p:nvPicPr>
        <p:blipFill>
          <a:blip r:embed="rId2"/>
          <a:stretch/>
        </p:blipFill>
        <p:spPr>
          <a:xfrm>
            <a:off x="1114416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31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715000" y="1785960"/>
            <a:ext cx="2357280" cy="658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أَ لَمْ نَشْرَحْ لَكَ صَدْرَك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715000" y="2714760"/>
            <a:ext cx="2357280" cy="1363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  <a:ea typeface="2  Badr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  <a:ea typeface="2  Badr"/>
              </a:rPr>
              <a:t>).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 وَضَعْنَا عَنكَ وِزْرَكَ الَّذِى أَنقَضَ ظَهْرَ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00080" y="3500280"/>
            <a:ext cx="199872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 إِلىَ‏ رَبِّكَ فَارْغَ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429000" y="3000240"/>
            <a:ext cx="192708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إِنَّ مَعَ الْعُسْرِ يُسْرً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715000" y="4071960"/>
            <a:ext cx="2357280" cy="581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alibri"/>
                <a:ea typeface="2  Badr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  <a:ea typeface="2  Badr"/>
              </a:rPr>
              <a:t>).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 رَفَعْنَا لَكَ ذِكْرَك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429000" y="1781280"/>
            <a:ext cx="192708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فَإِنَّ مَعَ الْعُسْرِ يُسْرً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000080" y="2550960"/>
            <a:ext cx="199872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فَإِذَا فَرَغْتَ فَانصَب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متصل کننده پیکان مستقیم 10"/>
          <p:cNvCxnSpPr>
            <a:stCxn id="68" idx="1"/>
            <a:endCxn id="73" idx="3"/>
          </p:cNvCxnSpPr>
          <p:nvPr/>
        </p:nvCxnSpPr>
        <p:spPr>
          <a:xfrm flipH="1" flipV="1">
            <a:off x="5355360" y="2104200"/>
            <a:ext cx="3596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متصل کننده پیکان مستقیم 12"/>
          <p:cNvCxnSpPr>
            <a:stCxn id="68" idx="2"/>
            <a:endCxn id="69" idx="0"/>
          </p:cNvCxnSpPr>
          <p:nvPr/>
        </p:nvCxnSpPr>
        <p:spPr>
          <a:xfrm flipH="1">
            <a:off x="6892560" y="2444760"/>
            <a:ext cx="21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متصل کننده پیکان مستقیم 14"/>
          <p:cNvCxnSpPr>
            <a:stCxn id="73" idx="2"/>
            <a:endCxn id="71" idx="0"/>
          </p:cNvCxnSpPr>
          <p:nvPr/>
        </p:nvCxnSpPr>
        <p:spPr>
          <a:xfrm flipH="1">
            <a:off x="4392360" y="2428560"/>
            <a:ext cx="2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متصل کننده پیکان مستقیم 16"/>
          <p:cNvCxnSpPr>
            <a:stCxn id="71" idx="1"/>
            <a:endCxn id="74" idx="3"/>
          </p:cNvCxnSpPr>
          <p:nvPr/>
        </p:nvCxnSpPr>
        <p:spPr>
          <a:xfrm flipH="1" flipV="1">
            <a:off x="2998080" y="2836080"/>
            <a:ext cx="43092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متصل کننده پیکان مستقیم 18"/>
          <p:cNvCxnSpPr>
            <a:stCxn id="71" idx="1"/>
            <a:endCxn id="70" idx="3"/>
          </p:cNvCxnSpPr>
          <p:nvPr/>
        </p:nvCxnSpPr>
        <p:spPr>
          <a:xfrm flipH="1">
            <a:off x="2998080" y="3321000"/>
            <a:ext cx="4309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7:06Z</dcterms:modified>
  <cp:revision>40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