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EEF-8991-41C8-B165-1C28D462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0DE-5169-476A-ACCD-D013D939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ED7-C48F-4AA5-8AF2-95387374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7FE-3770-43B0-9C53-15881868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599-4E4D-4440-8CF4-F9E8590F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4C0-A3F8-4059-BF40-57848544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928-968B-4671-B63F-BA2B977A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1EC-9320-40C0-B77F-6648BB97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B27-1B15-4B8D-9326-6D594010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A50-F5C2-4D84-809C-3C8A8228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5A4-B5D0-4143-A948-A4F3C474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891-503B-4538-B2D6-348EF3B2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7BF5-25AA-44C4-9067-90AF3AB50C95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تصویر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-328680" y="4054320"/>
            <a:ext cx="3986280" cy="2810160"/>
          </a:xfrm>
          <a:prstGeom prst="rect">
            <a:avLst/>
          </a:prstGeom>
          <a:ln w="0">
            <a:noFill/>
          </a:ln>
        </p:spPr>
      </p:pic>
      <p:pic>
        <p:nvPicPr>
          <p:cNvPr id="43" name="besm.wav" descr=""/>
          <p:cNvPicPr/>
          <p:nvPr/>
        </p:nvPicPr>
        <p:blipFill>
          <a:blip r:embed="rId3"/>
          <a:stretch/>
        </p:blipFill>
        <p:spPr>
          <a:xfrm>
            <a:off x="-200016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10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"/>
          <p:cNvSpPr/>
          <p:nvPr/>
        </p:nvSpPr>
        <p:spPr>
          <a:xfrm>
            <a:off x="6286680" y="2571840"/>
            <a:ext cx="2058840" cy="16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Lotus"/>
              </a:rPr>
              <a:t>دو رویکرد دربرا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2  Lotus"/>
              </a:rPr>
              <a:t>«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Lotus"/>
              </a:rPr>
              <a:t>نعیم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2  Lotu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28800" y="3624120"/>
            <a:ext cx="2058840" cy="1662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2  Lotus"/>
              </a:rPr>
              <a:t>«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Lotus"/>
              </a:rPr>
              <a:t>احساس مسئولیت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2  Lotu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Lotus"/>
              </a:rPr>
              <a:t>در پیشگاه صاحب نعی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500280" y="1571760"/>
            <a:ext cx="2059200" cy="16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Lotus"/>
              </a:rPr>
              <a:t>باور نداشت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2  Lotus"/>
              </a:rPr>
              <a:t>«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Lotus"/>
              </a:rPr>
              <a:t>جحیم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2  Lotu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500280" y="3624120"/>
            <a:ext cx="2059200" cy="1662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Lotus"/>
              </a:rPr>
              <a:t>باور داشت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2  Lotus"/>
              </a:rPr>
              <a:t>«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Lotus"/>
              </a:rPr>
              <a:t>جحیم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2  Lotu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928800" y="1571760"/>
            <a:ext cx="2058840" cy="16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3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2  Lotus"/>
              </a:rPr>
              <a:t>«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2  Lotus"/>
              </a:rPr>
              <a:t>کاثر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2  Lotu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7"/>
          <p:cNvCxnSpPr>
            <a:stCxn id="79" idx="1"/>
            <a:endCxn id="81" idx="3"/>
          </p:cNvCxnSpPr>
          <p:nvPr/>
        </p:nvCxnSpPr>
        <p:spPr>
          <a:xfrm flipH="1" flipV="1">
            <a:off x="5559480" y="2400120"/>
            <a:ext cx="72756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AutoShape 8"/>
          <p:cNvCxnSpPr>
            <a:stCxn id="79" idx="1"/>
            <a:endCxn id="82" idx="3"/>
          </p:cNvCxnSpPr>
          <p:nvPr/>
        </p:nvCxnSpPr>
        <p:spPr>
          <a:xfrm flipH="1">
            <a:off x="5559480" y="3400560"/>
            <a:ext cx="727560" cy="105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9"/>
          <p:cNvCxnSpPr>
            <a:stCxn id="81" idx="1"/>
            <a:endCxn id="83" idx="3"/>
          </p:cNvCxnSpPr>
          <p:nvPr/>
        </p:nvCxnSpPr>
        <p:spPr>
          <a:xfrm flipH="1" flipV="1">
            <a:off x="2987280" y="2400120"/>
            <a:ext cx="513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10"/>
          <p:cNvCxnSpPr>
            <a:stCxn id="82" idx="1"/>
            <a:endCxn id="80" idx="3"/>
          </p:cNvCxnSpPr>
          <p:nvPr/>
        </p:nvCxnSpPr>
        <p:spPr>
          <a:xfrm flipH="1" flipV="1">
            <a:off x="2987280" y="4455360"/>
            <a:ext cx="513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023920" y="2921040"/>
            <a:ext cx="509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-2620800" y="1557360"/>
            <a:ext cx="1438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بازداری از سرگرمی به تکاث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000080" y="3429000"/>
            <a:ext cx="7143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Elephant"/>
                <a:cs typeface="2  Badr"/>
              </a:rPr>
              <a:t>سرگرم فزون خواهی و افزون نمایی دارایی دنیوی خویش هستید و از خدا و قیامت غافل شده اید. بدانید که دوزخ حقیقت دارد و درباره نعمتها از شما سؤال خواهد ش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357120" y="4884840"/>
            <a:ext cx="471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ثُمَّ لَتُسْأَلُنَّ يَوْمَئِذٍ عَنِ النَّعِيمِ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٨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349360" y="642960"/>
            <a:ext cx="432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072040" y="1650960"/>
            <a:ext cx="2857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أَلْهَاكُمُ التَّكَاثُرُ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143000" y="1650960"/>
            <a:ext cx="356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حَتَّى زُرْتُمُ الْمَقَابِرَ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QuranTaha"/>
              </a:rPr>
              <a:t>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071960" y="2720880"/>
            <a:ext cx="415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كَل</a:t>
            </a: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ّ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ا سَوْفَ تَعْلَمُونَ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53880" y="2720880"/>
            <a:ext cx="456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QuranTah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ثُمَّ كَل</a:t>
            </a: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ّ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ا سَوْفَ تَعْلَمُونَ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٤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857760" y="3813120"/>
            <a:ext cx="444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كَل</a:t>
            </a: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ّ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ا لَوْ تَعْلَمُونَ عِلْمَ الْيَقِينِ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٥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28800" y="3840120"/>
            <a:ext cx="287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لَتَرَوُنَّ الْجَحِيمَ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٦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4643280" y="4884840"/>
            <a:ext cx="376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ثُمَّ لَتَرَوُنَّهَا عَيْنَ الْيَقِينِ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٧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279.MP3" descr=""/>
          <p:cNvPicPr/>
          <p:nvPr/>
        </p:nvPicPr>
        <p:blipFill>
          <a:blip r:embed="rId2"/>
          <a:stretch/>
        </p:blipFill>
        <p:spPr>
          <a:xfrm>
            <a:off x="109299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627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1" descr=""/>
          <p:cNvPicPr/>
          <p:nvPr/>
        </p:nvPicPr>
        <p:blipFill>
          <a:blip r:embed="rId2"/>
          <a:stretch/>
        </p:blipFill>
        <p:spPr>
          <a:xfrm>
            <a:off x="3554280" y="987480"/>
            <a:ext cx="2108160" cy="14875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1000080" y="2921040"/>
            <a:ext cx="7143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(normal text)"/>
                <a:cs typeface="B Lotus"/>
              </a:rPr>
              <a:t>داشته هاي ما را مايه شكر و نزديكي بيشتر به خودت قرار ده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(normal text)"/>
                <a:ea typeface="B Lotus"/>
              </a:rPr>
              <a:t> تا سبب غفلت از تو و قیامت نگرد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353880" y="828720"/>
            <a:ext cx="85410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903240" y="4925880"/>
            <a:ext cx="734400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Elephant"/>
                <a:cs typeface="2  Lotus"/>
              </a:rPr>
              <a:t>بدین ترتیب از مبدأ و معاد غافل شده ا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903240" y="1571760"/>
            <a:ext cx="7345440" cy="173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Elephant"/>
                <a:cs typeface="2  Lotus"/>
              </a:rPr>
              <a:t>فزون خواهی و افزون نمایی دنیوی برخی از آدمیان به اوج خود رسیده است که زیارت قبرهای مردگان را نیز دربرگرفته اس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03240" y="3260880"/>
            <a:ext cx="7344000" cy="173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Elephant"/>
                <a:cs typeface="2  Lotus"/>
              </a:rPr>
              <a:t>اینان حتی قبور اموات را در سیاهه تکاثر خود ثبت کرده و زیارت آن را دست مایه افزون نمایی خویش قرار داده ان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357120" y="4884840"/>
            <a:ext cx="471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ثُمَّ لَتُسْأَلُنَّ يَوْمَئِذٍ عَنِ النَّعِيمِ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٨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2349360" y="642960"/>
            <a:ext cx="432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بِسْمِ اللَّهِ الرَّحْمَنِ الرَّحِ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072040" y="1650960"/>
            <a:ext cx="2857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أَلْهَاكُمُ التَّكَاثُرُ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١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143000" y="1650960"/>
            <a:ext cx="356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حَتَّى زُرْتُمُ الْمَقَابِرَ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QuranTaha"/>
              </a:rPr>
              <a:t>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٢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071960" y="2720880"/>
            <a:ext cx="415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كَل</a:t>
            </a: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ّ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ا سَوْفَ تَعْلَمُونَ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٣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53880" y="2720880"/>
            <a:ext cx="456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QuranTah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ثُمَّ كَل</a:t>
            </a: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ّ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ا سَوْفَ تَعْلَمُونَ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٤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3857760" y="3813120"/>
            <a:ext cx="444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كَل</a:t>
            </a:r>
            <a:r>
              <a:rPr b="0" lang="fa-IR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ّ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ا لَوْ تَعْلَمُونَ عِلْمَ الْيَقِينِ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٥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928800" y="3840120"/>
            <a:ext cx="287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لَتَرَوُنَّ الْجَحِيمَ 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٦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4643280" y="4884840"/>
            <a:ext cx="376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QuranTaha"/>
              </a:rPr>
              <a:t>ثُمَّ لَتَرَوُنَّهَا عَيْنَ الْيَقِينِ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﴿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٧</a:t>
            </a:r>
            <a:r>
              <a:rPr b="0" lang="ar-SA" sz="3200" spc="-1" strike="noStrike">
                <a:solidFill>
                  <a:srgbClr val="0d7d10"/>
                </a:solidFill>
                <a:latin typeface="Traditional Arabic"/>
                <a:cs typeface="Traditional Arabic"/>
              </a:rPr>
              <a:t>﴾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9.MP3" descr=""/>
          <p:cNvPicPr/>
          <p:nvPr/>
        </p:nvPicPr>
        <p:blipFill>
          <a:blip r:embed="rId2"/>
          <a:stretch/>
        </p:blipFill>
        <p:spPr>
          <a:xfrm>
            <a:off x="109299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627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70" name="Text Box 2"/>
          <p:cNvSpPr/>
          <p:nvPr/>
        </p:nvSpPr>
        <p:spPr>
          <a:xfrm>
            <a:off x="2571840" y="928800"/>
            <a:ext cx="4048200" cy="857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أَلْهَاكمُ التَّكاثُرُ * حَتى زُرْتمُ الْمَقَابِ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4341960" y="1797120"/>
            <a:ext cx="485640" cy="703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009880" y="2500200"/>
            <a:ext cx="5205240" cy="735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كلاََّ سَوْفَ تَعْلَمُونَ * ثُمَّ كلاََّ سَوْفَ تَعْلَمُو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938840" y="3857760"/>
            <a:ext cx="2919240" cy="2071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كلاََّ لَوْ تَعْلَمُونَ عِلْمَ الْيَقِين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لَترََوُنَّ الجَْحِيم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ثُمَّ لَترََوُنهََّا عَينْ‏َ الْيَقِين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295280" y="3857760"/>
            <a:ext cx="2890800" cy="2071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ثُمَّ لَتُسَْلُنَّ يَوْمَئذٍ عَنِ النَّعِيم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متصل کننده پیکان مستقیم 8"/>
          <p:cNvCxnSpPr>
            <a:stCxn id="72" idx="2"/>
            <a:endCxn id="73" idx="0"/>
          </p:cNvCxnSpPr>
          <p:nvPr/>
        </p:nvCxnSpPr>
        <p:spPr>
          <a:xfrm>
            <a:off x="4612320" y="3234960"/>
            <a:ext cx="1786680" cy="62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متصل کننده پیکان مستقیم 10"/>
          <p:cNvCxnSpPr>
            <a:stCxn id="72" idx="2"/>
            <a:endCxn id="74" idx="0"/>
          </p:cNvCxnSpPr>
          <p:nvPr/>
        </p:nvCxnSpPr>
        <p:spPr>
          <a:xfrm flipH="1">
            <a:off x="2741040" y="3234960"/>
            <a:ext cx="1872360" cy="62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متصل کننده پیکان مستقیم 12"/>
          <p:cNvCxnSpPr>
            <a:stCxn id="73" idx="1"/>
            <a:endCxn id="74" idx="3"/>
          </p:cNvCxnSpPr>
          <p:nvPr/>
        </p:nvCxnSpPr>
        <p:spPr>
          <a:xfrm flipH="1" flipV="1">
            <a:off x="4185360" y="4893480"/>
            <a:ext cx="753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5:13Z</dcterms:modified>
  <cp:revision>38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