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841-3832-4A43-8450-B0C98BD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DB0-93C6-443A-B1C0-BF7704E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465A7-4F5F-48A5-9AC6-EFE0859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4BEE-FD89-4B8D-A13E-FA99290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67455-E721-408B-8C58-E9ABC83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D4653-7D8E-4788-95C7-B01C472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96C0B-ACED-4953-B1CD-F293038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604C-FE9D-42F0-A72F-7C270B8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1AA7E-D7BE-4383-90EC-058C460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6F4D-BD43-483E-BF9E-FE83B080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B6FDC-12FF-4165-AAF2-CD8F2E91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A719A-78F4-4ADE-BD20-50106B6D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7B2-B608-40C1-9101-6DBF7CA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56797-1153-44C9-BC48-FC9339B8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7BCA6-873D-4B5E-A9B7-61AF095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1C931-57F1-4A43-8E71-B544193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B1EF3-2727-4551-9933-FBF511F6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CA73-1B7E-47C7-A5A4-CDB5CD5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F84FC-299F-461B-95A9-A11B4AA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0B2DC-C0C1-4946-A678-4AB02C7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E39F1-E6F8-4F2C-9930-C573F81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5DD7D-78CD-48AE-9B4E-CC09721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A248F-A2BA-451A-A591-4FD74B7F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868-D571-43E0-8330-06D40D7C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6D575-E69C-4671-955D-CCA2E20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0CD17-FD19-4F0E-AB51-BA91EBE4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8257A-2B3D-482F-BE46-B1818A0D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3AA4-1A6C-44B4-972C-9A9FD18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7229E-14AD-412A-8097-95F606E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91134-E8B4-4DBF-B493-407A6BD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B8280-495C-4E0B-89AE-F70D60A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39AFD-541A-4E74-B0BC-D3B06B8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9A29A-3F1E-42A3-BDE8-9DE420B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3E8B-DC78-487F-9744-C48CD80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A00-83D7-42DD-8239-02F9224F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7A7E5-8FA0-44D5-A78E-71AB321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DA03C-2AFF-46A1-9E2F-2CBAA4D2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19DF-5880-4041-8DB3-424A5009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80A0B-89C7-445A-879E-53EAB666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49F2B-E199-4EAC-8A96-C4F6A9BF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E7C58-11A2-4921-8C81-C48E5C3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F7436-53CF-40F4-9A86-E680D2E3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9B6CB-A48A-4DCD-8F67-85870A4D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FF65-1BD1-4D37-BE68-7F8B6A9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E7835-0040-470E-BE79-5E3A0BE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9F59-08F6-4CFD-A1F6-B9D2A60C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10ABB-2E28-4890-834E-0E21678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14402-E4A2-433B-A354-481C889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039D8-ECA4-4634-A8DB-ECA8EC8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ECEFA-2DB5-4781-AE9F-0DD22684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8C49-CA4A-4EE2-9F92-688A3EF3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BD356-68B0-4937-8DFE-E5EF4803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29496-3097-42DF-B813-B7D83E5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4386A-5221-41F3-B660-C9CEEE4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12CCE-0D83-4542-B58B-43EA796C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0A7AB-96CD-4414-B386-C3ECBF55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96A0-B437-4577-B671-BF15737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616BE-1B23-42A5-9439-49641B6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359FC-ECE7-4C46-9BF2-A9DDBC3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F99A7-DFC3-4A24-B576-A7A3BB8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2D57D-DF7F-4741-99D4-C1E188D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22030-D9BF-427C-8622-B3CC6001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75DD5-1A4A-4046-91B1-F1357416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481B8-BE83-45F8-9D7A-B3E5072F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642A8-B543-4B70-9861-06D3791E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794BF-E626-4ED1-9945-6AAE851C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EB00D-DA94-4D12-B234-D981A73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6AF1-79BF-4FF6-8685-B21EFB8A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B6646-B7D9-4B72-B99D-98E2ABBD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A9CC0-E888-41B5-9E6C-18FEEA6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6AFB-5843-4B5D-9F54-6761FC5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ACBCB-872F-4869-8094-FF485C6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F023F-1228-4D99-8298-99640B3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4EEAD-760E-45D8-BF4D-136C98D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D15C8-3B44-40E6-95AA-374BC86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981A6-3885-4953-93C3-4427136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04CD6-E99B-4FA3-805F-46924143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65F39-FA39-408C-9143-17BD9BCD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B3B8-E01E-4BE9-854F-AA1F9D1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771D9-0091-4C7D-88C7-333BEA9B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932D9-BCC9-426B-A8C6-6A55A3C9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08DC8-19D4-4898-AE3D-D3256DC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5E8A6-410F-4B82-8B44-F6113FC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C7BA8-84E6-488C-B6E8-10C4A644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4CAEC-890B-4F0A-922D-7D68D5A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C5400-BB70-468B-822E-66D6085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59C4C-4D0B-4067-843F-D0F0585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B3E4C-007D-4303-B144-A17F7B2F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FF3DA-B369-4C5C-B704-7B51F2A1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308-F874-43E5-9D3A-351639B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9BD51-F89F-45CE-A16F-779C7999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1831B-1886-435C-9CBA-FB02F262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C195D-D243-41B1-A41A-1D70760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FDB98-8088-4C1B-8AF3-5924E6F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29380-780A-4E2A-949B-DCFBB6A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554A9-A4A7-4B84-9564-B1BC2D0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C978A-13E2-460E-988C-7B470A4C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CCF78-FDE9-408C-B9F1-4025967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D735F-AD11-4567-8087-E2CFC94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BB70C-A19F-4626-B2D5-35CC498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9D5-25C4-44BB-B327-7BDA7D2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6D692-3A89-40D5-95C2-1C8711D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76AE3-FC54-426C-8BD4-93B5EC9A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C2E5C-DBA4-4629-945C-7B9DB4FF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356C1-2BF0-476A-8156-DE79F2D7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7BCA3-86C7-411D-8AF3-EEA41BE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49824-C6E8-410D-AD59-7A5DFFB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054D7-5FC6-4545-89B7-87449E5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23B63-122A-4D02-B5EC-4C0C115C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3CC1A-5FFB-40E1-8946-C29409A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03F23-603D-4B72-AB1A-903D045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455-B91D-4EA2-884D-5FD3899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3061-F5EB-4746-9AEE-2ABC78D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E46F0-C0B6-4FBE-A4BB-A0432D8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926A8-F77A-4874-81F5-F63C773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A7D47-888E-4459-814E-1EBF73FD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A2A22-F36C-4A0B-8C2A-AC5A181A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15243-E2D7-4730-ABFF-C88756F6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E3E07-DBBF-4883-A3E0-F2616A41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12D7B-F300-468B-983B-B7819B5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D31EE-A1D6-4FC7-B504-3283C816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DD7C8-DCA5-4E5D-BA12-82680A4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74295-23FA-4EE3-A956-B57680F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683F-2DD7-4D05-9771-08241F8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B4B8C-272C-4280-8D74-A3FD1DA4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23D6A-3240-46DE-A5FD-30D4093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272BB-3307-4685-A1C4-DE77DAB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EEDF0-A86E-4015-9A66-79C6BB89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77F51-9BD9-4F3B-80CF-E3901AC0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71250-EBFB-4458-94C0-C8611A69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955CD-7142-45ED-A3B2-9E8DECB8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A6426-EAD4-44A7-AD6B-8708FDF1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CCFD9-874D-4914-AE88-6D381E5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FF761-C859-4426-A509-98BB632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6D39-C4E9-4B32-8E22-FAC31F3B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9FC12-A4A4-4D5A-96E7-26254249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5D13C-27CA-4ACD-9BD2-73A2C2E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65627-D33C-48B3-BCC0-5866F1E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EF7A1-653A-4958-B53C-61D0B9F4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C250F-5738-400E-9F06-DBA4B2B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AA5DC-DB45-45BB-B116-C68E161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E204D-1F86-42EA-9D4B-124CBD0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373B5-505D-40B9-81F2-BAE29C15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3874D-B8E8-4DFE-982B-7B41C589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3FBEE-4131-4D30-B636-F55C1431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7ED3-5B20-4165-8EB1-C0AE6AF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48ABB-1A6B-4432-9F80-3596C6AA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2B320-7615-4B3A-991C-0D28046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F8CCB-4A32-4AB7-8B42-5E6F4DD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73740-B54E-4911-B5FF-C4EF540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7E1B3-5676-4777-AEBA-D5CB717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AFB70-8D65-476F-A694-A26EEEB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A8004-5DA4-4869-A1F6-F68ADAF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74F9D-C421-4600-A6D2-77C5F3F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32D5F-59B5-41DE-A960-8C048C9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F0ACA-A202-465C-8524-69633F23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BC67-0B15-4DD5-BA7D-3653FBF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54F3B-CC4A-4F99-8F71-D3B8C107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EEEC-2520-4BC5-B9D8-7E65BB6F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ADB1-7DEB-497A-A6B6-A672F246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31FE-E124-4D97-8B17-C718EC72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4523-EFFB-4837-80BF-4DADC29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5F1E-6410-431C-A57A-DB35938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F0E-7DCC-40F8-A105-CBC88D0B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4A3F-2694-4502-B48F-7DC21BE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6299-FF8D-47BC-B1DE-35ECBD9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FC8B-BE2D-4E5D-8D32-17811E1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90A7-1DCD-4AF4-82D5-653FAC8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BE9A-0773-427F-BFE4-37F91F3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0E1A-12A7-43DC-AA65-EC9FB343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01FE-C766-493A-81E8-1676025F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1E71-E04C-4B8A-A1CE-CE554575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5992-5E3A-41A2-8089-AD9B58F1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65A2-3B0A-4C08-ACAF-275F290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268-0485-4F17-8B49-4D96FDC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4B28-6DC6-43AD-A98E-DC8E878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050F-29B7-4D46-BD99-DB606A9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77A3-A2E1-4781-B92B-1AE9CB8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E49C-CCE7-4793-9987-3F8DDC0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C6D3-247C-41B6-9B36-526E8D6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ED84-10CB-4265-9124-97FB2A4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F667-75FE-4A6B-AB36-D05EEEF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DE8F-3768-4F1B-B4A9-E133D461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F3D5-A31F-4E1B-9AE6-24FDB49F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F8CB-ACE0-414E-80B8-C71349D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B18-D8EE-466A-BCCD-A85A30E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0969-0BE1-4BA9-BDCF-526EF7E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4011-35DB-4CED-A638-7443A96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5951-FA42-4A6B-9EAF-FB07063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3C8D-A09E-4412-A103-6208F0B0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E5D1-4EB0-4BAB-A02A-7DCCF12F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2FAE-F9FB-4265-A174-5F57614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C7B6-214C-4D5B-958C-F20DE33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433F-BC16-4DCC-B95F-0001060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B8EA-4E3F-45BB-8F3E-41B268EE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1A00-6D62-4853-BCE7-985E4494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990-C81E-4864-B5F9-4C63372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3742-0E40-4C7E-B283-4EAED162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5B16-A316-4689-8E1A-B907EE4A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190F-5DEE-447E-84A1-3E8386F4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CE66-3058-489C-8F04-EC1C8BE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518B-CCB3-47AF-83F4-F22B8E7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6D6A-A42D-4587-84A7-2F415B02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9ABC-51C6-45C5-9D20-3A213C0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FCBD2-589B-4390-9444-14F9E41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14F6-9F08-4EF0-806F-3BDB9D4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DBDB-9216-429E-AEF5-CB52D24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C80-0548-47C7-8A27-A3CAC28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B67A-0785-4892-B039-DAB279B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8B29A-E53E-4E1B-BFEA-5F75469C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9E13-8F78-45BB-8BA7-815C25D1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9272-504A-4063-8C7F-B67573B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F160-8A8D-4666-9773-6DEC20D4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56D9-1F98-432B-BF1D-1C1E3E81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D5B4-FF95-465A-BB35-C0AF533C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5D8C-40B1-4AC0-98CA-C482F36F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C2CEF-6029-4385-9427-87ADA2E3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0CD04-178E-41FA-AD19-2C8A696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88C-6981-4A88-8C15-98D23A9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7B89-23D3-482B-95BA-7C3F43E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BC71-247B-4281-8BB8-40D5D53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CFF7-7C7A-48D9-995D-5AD7BE47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BFA9-2855-4265-88AF-3AA9E5E3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0578C-7B71-4C16-BBE3-C462AE1C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64A3-0290-41C7-A8DD-FDFAB3E4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0D46E-B44F-4FF1-8BB6-A47E9D1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6F8F-A264-45EE-A2C1-D88B3845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26C0-691A-4170-87A7-CA5979E1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DA944-0557-4EF4-879D-B6AEF97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7A4-B267-46BE-AF89-3B91D63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5E11-7052-41FB-A1E5-0635F5FA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0A15A-CDFD-4027-BC05-B32F6FB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F3FD0-B54E-4663-A4E7-8A50037D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D49F9-D9AD-467C-8A93-6822C47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ACF2F-0C10-42AF-91D0-6D2F1E93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D251-ECF1-4AD3-BA1C-EA44256B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ED3C8-1C9B-451E-8A16-421C569F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826B-E36D-4145-BF3C-9585753A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2A122-4058-49EA-8A56-D15C3A6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963A2-7AEC-4F0D-B5D7-E3600CD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11F8-2C96-4D84-A138-2628DB75DCD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025-5224-4B73-BF62-0FD22824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7D7B-D8B2-48F2-851B-D527C5E66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C9DC-282C-42E4-A9EB-3F07729BF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D7C-330A-452F-87BF-35DE97607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F42-CF41-4CBD-A3C9-D692507D4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697-52F9-4B06-AFE3-875E59A85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6CA-7DB2-494E-A96A-9369E9908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09C2-C881-4100-BF3A-1FE472775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52D5-9284-4C33-9B10-4B94C1397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735-F2E6-479C-996D-69ECFDABB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206B-C18B-4018-BA4F-6A2B2219853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8BB-B879-45E1-BD23-8FC49845E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BBB-C2D2-4ED9-87EC-C7B1E09162F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7C93-7CFB-424F-9D63-CC99F16D14E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1C4-7BD6-457D-B0DB-5D5FF7917F1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E04F-15B2-4737-A3A2-C96E533F15C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D65-345A-452E-A649-DCC9AC2C865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3B00-CF5E-4B7D-8779-D3A601F383C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DA9-BA6E-40ED-902F-667004A11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عکس 7" descr="دریا (17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1" name="Rounded Rectangle 5" descr=""/>
          <p:cNvPicPr/>
          <p:nvPr/>
        </p:nvPicPr>
        <p:blipFill>
          <a:blip r:embed="rId3"/>
          <a:stretch/>
        </p:blipFill>
        <p:spPr>
          <a:xfrm>
            <a:off x="-23760" y="5559480"/>
            <a:ext cx="9191520" cy="1371600"/>
          </a:xfrm>
          <a:prstGeom prst="rect">
            <a:avLst/>
          </a:prstGeom>
          <a:ln w="0">
            <a:noFill/>
          </a:ln>
        </p:spPr>
      </p:pic>
      <p:pic>
        <p:nvPicPr>
          <p:cNvPr id="822" name="besmfalaq.wav" descr=""/>
          <p:cNvPicPr/>
          <p:nvPr/>
        </p:nvPicPr>
        <p:blipFill>
          <a:blip r:embed="rId4"/>
          <a:stretch/>
        </p:blipFill>
        <p:spPr>
          <a:xfrm>
            <a:off x="1107288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5"/>
          <p:cNvSpPr/>
          <p:nvPr/>
        </p:nvSpPr>
        <p:spPr>
          <a:xfrm>
            <a:off x="1037520" y="147600"/>
            <a:ext cx="706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بسم اللّه الرّحمن الرّحی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26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0" name="گروه 4"/>
          <p:cNvGrpSpPr/>
          <p:nvPr/>
        </p:nvGrpSpPr>
        <p:grpSpPr>
          <a:xfrm>
            <a:off x="3143160" y="1268280"/>
            <a:ext cx="2857680" cy="1374840"/>
            <a:chOff x="3143160" y="1268280"/>
            <a:chExt cx="2857680" cy="1374840"/>
          </a:xfrm>
        </p:grpSpPr>
        <p:sp>
          <p:nvSpPr>
            <p:cNvPr id="871" name="Rectangle 5"/>
            <p:cNvSpPr/>
            <p:nvPr/>
          </p:nvSpPr>
          <p:spPr>
            <a:xfrm>
              <a:off x="3143160" y="1268280"/>
              <a:ext cx="2857680" cy="13748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3143160" y="1268280"/>
              <a:ext cx="2857680" cy="13748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" rIns="6840" tIns="6840" bIns="6840" anchor="ctr">
              <a:no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Elephant"/>
                  <a:cs typeface="2  Badr"/>
                </a:rPr>
                <a:t>از شر همه مخلوقات؛ و به طور خاص از شر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3" name="گروه 7" descr=""/>
          <p:cNvPicPr/>
          <p:nvPr/>
        </p:nvPicPr>
        <p:blipFill>
          <a:blip r:embed="rId2"/>
          <a:stretch/>
        </p:blipFill>
        <p:spPr>
          <a:xfrm>
            <a:off x="5730840" y="3676680"/>
            <a:ext cx="1986120" cy="1047600"/>
          </a:xfrm>
          <a:prstGeom prst="rect">
            <a:avLst/>
          </a:prstGeom>
          <a:ln w="0">
            <a:noFill/>
          </a:ln>
        </p:spPr>
      </p:pic>
      <p:pic>
        <p:nvPicPr>
          <p:cNvPr id="874" name="گروه 13" descr=""/>
          <p:cNvPicPr/>
          <p:nvPr/>
        </p:nvPicPr>
        <p:blipFill>
          <a:blip r:embed="rId3"/>
          <a:stretch/>
        </p:blipFill>
        <p:spPr>
          <a:xfrm>
            <a:off x="3591000" y="3676680"/>
            <a:ext cx="1981080" cy="1047600"/>
          </a:xfrm>
          <a:prstGeom prst="rect">
            <a:avLst/>
          </a:prstGeom>
          <a:ln w="0">
            <a:noFill/>
          </a:ln>
        </p:spPr>
      </p:pic>
      <p:pic>
        <p:nvPicPr>
          <p:cNvPr id="875" name="گروه 16" descr=""/>
          <p:cNvPicPr/>
          <p:nvPr/>
        </p:nvPicPr>
        <p:blipFill>
          <a:blip r:embed="rId4"/>
          <a:stretch/>
        </p:blipFill>
        <p:spPr>
          <a:xfrm>
            <a:off x="1427040" y="3676680"/>
            <a:ext cx="1986120" cy="1047600"/>
          </a:xfrm>
          <a:prstGeom prst="rect">
            <a:avLst/>
          </a:prstGeom>
          <a:ln w="0">
            <a:noFill/>
          </a:ln>
        </p:spPr>
      </p:pic>
      <p:cxnSp>
        <p:nvCxnSpPr>
          <p:cNvPr id="876" name="متصل کننده لولایی 21"/>
          <p:cNvCxnSpPr>
            <a:stCxn id="872" idx="2"/>
          </p:cNvCxnSpPr>
          <p:nvPr/>
        </p:nvCxnSpPr>
        <p:spPr>
          <a:xfrm flipH="1" rot="16200000">
            <a:off x="5110560" y="2103120"/>
            <a:ext cx="107244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7" name="متصل کننده لولایی 27"/>
          <p:cNvCxnSpPr>
            <a:stCxn id="872" idx="2"/>
          </p:cNvCxnSpPr>
          <p:nvPr/>
        </p:nvCxnSpPr>
        <p:spPr>
          <a:xfrm rot="5400000">
            <a:off x="2959920" y="2103120"/>
            <a:ext cx="107244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8" name="متصل کننده پیکان مستقیم 32"/>
          <p:cNvCxnSpPr>
            <a:stCxn id="872" idx="2"/>
          </p:cNvCxnSpPr>
          <p:nvPr/>
        </p:nvCxnSpPr>
        <p:spPr>
          <a:xfrm>
            <a:off x="4572000" y="2642760"/>
            <a:ext cx="864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4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7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7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7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4"/>
          <p:cNvSpPr/>
          <p:nvPr/>
        </p:nvSpPr>
        <p:spPr>
          <a:xfrm>
            <a:off x="-3425760" y="1989000"/>
            <a:ext cx="160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لزوم پناه بردن به خدا از شر آفریده های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527040" y="41497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از شر آفریده ها به پروردگار سپیده دم پناه بب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4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7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7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7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3" name="290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11"/>
          <p:cNvSpPr/>
          <p:nvPr/>
        </p:nvSpPr>
        <p:spPr>
          <a:xfrm>
            <a:off x="1214280" y="1214280"/>
            <a:ext cx="671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قُلْ أَعُوذُ بِرَبِّ الْفَلَقِ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مِنْ شَرِّ مَا خَلَق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غَاسِقٍ إِذَا وَقَب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النَّفَّاثَاتِ فِي الْعُقَدِ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حَاسِدٍ إِذَا حَسَد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33181" fill="hold"/>
                                        <p:tgtEl>
                                          <p:spTgt spid="8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-87480" y="2924280"/>
            <a:ext cx="92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7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7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7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0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4"/>
          <p:cNvSpPr/>
          <p:nvPr/>
        </p:nvSpPr>
        <p:spPr>
          <a:xfrm>
            <a:off x="-4502880" y="1785960"/>
            <a:ext cx="181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پروردگار سپیده دم که روشنایی را در دل تاریکی پدید آورد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804960" y="3548160"/>
            <a:ext cx="75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از شر آفریده هایت رهایی بخ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1428840" y="454824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از شر تاریکی و سحر و حسادت بدخواهان پناه د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0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Rectangle 4"/>
          <p:cNvSpPr/>
          <p:nvPr/>
        </p:nvSpPr>
        <p:spPr>
          <a:xfrm>
            <a:off x="1714680" y="264636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4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7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7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7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1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420840" y="1036800"/>
            <a:ext cx="81993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-87480" y="292428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7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7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7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4"/>
          <p:cNvSpPr/>
          <p:nvPr/>
        </p:nvSpPr>
        <p:spPr>
          <a:xfrm>
            <a:off x="1116000" y="2465280"/>
            <a:ext cx="6913440" cy="3063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Elephant"/>
                <a:cs typeface="2  Badr"/>
              </a:rPr>
              <a:t>دنیا پر از </a:t>
            </a: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آفریده هایی</a:t>
            </a:r>
            <a:r>
              <a:rPr b="1" lang="ar-SA" sz="2600" spc="-1" strike="noStrike">
                <a:solidFill>
                  <a:srgbClr val="000000"/>
                </a:solidFill>
                <a:latin typeface="Elephant"/>
                <a:ea typeface="2  Badr"/>
              </a:rPr>
              <a:t> است که شرّشان ما را تهدید می</a:t>
            </a:r>
            <a:r>
              <a:rPr b="1" lang="fa-IR" sz="26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Elephant"/>
                <a:cs typeface="2  Badr"/>
              </a:rPr>
              <a:t>کن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Elephant"/>
                <a:cs typeface="2  Badr"/>
              </a:rPr>
              <a:t>راه امان از شرّ مخلوقات الهی چیست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Elephant"/>
                <a:cs typeface="2  Badr"/>
              </a:rPr>
              <a:t>این پرسشی است که افکار حقیقت طلب را به خود مشغول میکن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5"/>
          <p:cNvSpPr/>
          <p:nvPr/>
        </p:nvSpPr>
        <p:spPr>
          <a:xfrm>
            <a:off x="2128680" y="2921040"/>
            <a:ext cx="488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5" name="290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11"/>
          <p:cNvSpPr/>
          <p:nvPr/>
        </p:nvSpPr>
        <p:spPr>
          <a:xfrm>
            <a:off x="1214280" y="1214280"/>
            <a:ext cx="671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قُلْ أَعُوذُ بِرَبِّ الْفَلَقِ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مِنْ شَرِّ مَا خَلَق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غَاسِقٍ إِذَا وَقَب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النَّفَّاثَاتِ فِي الْعُقَدِ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مِنْ شَرِّ حَاسِدٍ إِذَا حَسَدَ 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6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3181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4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تصویر 3" descr=""/>
          <p:cNvPicPr/>
          <p:nvPr/>
        </p:nvPicPr>
        <p:blipFill>
          <a:blip r:embed="rId1"/>
          <a:stretch/>
        </p:blipFill>
        <p:spPr>
          <a:xfrm>
            <a:off x="-6660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9"/>
          <p:cNvSpPr/>
          <p:nvPr/>
        </p:nvSpPr>
        <p:spPr>
          <a:xfrm>
            <a:off x="3741840" y="1143000"/>
            <a:ext cx="1528560" cy="803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2  Lotus"/>
              </a:rPr>
              <a:t>بگو پناه می</a:t>
            </a:r>
            <a:r>
              <a:rPr b="1" lang="en-US" sz="20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2  Lotus"/>
              </a:rPr>
              <a:t>بر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2  Lotus"/>
              </a:rPr>
              <a:t>قل أعو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1"/>
          <p:cNvSpPr/>
          <p:nvPr/>
        </p:nvSpPr>
        <p:spPr>
          <a:xfrm>
            <a:off x="5724360" y="2306520"/>
            <a:ext cx="1068480" cy="669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Lotus"/>
              </a:rPr>
              <a:t>به پروردگار سپیده</a:t>
            </a:r>
            <a:r>
              <a:rPr b="1" lang="en-US" sz="18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Lotus"/>
              </a:rPr>
              <a:t>د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6"/>
          <p:cNvSpPr/>
          <p:nvPr/>
        </p:nvSpPr>
        <p:spPr>
          <a:xfrm>
            <a:off x="5724360" y="3325680"/>
            <a:ext cx="1068480" cy="692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بِرَب الْفَلَق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2214720" y="2273400"/>
            <a:ext cx="1222200" cy="669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2  Lotus"/>
              </a:rPr>
              <a:t>از شر آنچه که آفری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2198520" y="3325680"/>
            <a:ext cx="1222560" cy="698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Elephant"/>
                <a:cs typeface="2  Badr"/>
              </a:rPr>
              <a:t>مِن شرِّ مَا خَلَق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4"/>
          <p:cNvSpPr/>
          <p:nvPr/>
        </p:nvSpPr>
        <p:spPr>
          <a:xfrm>
            <a:off x="3421080" y="4378320"/>
            <a:ext cx="915840" cy="129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وَ مِن شرِّ غَاسِقٍ إِذَا وَقَ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2351160" y="4378320"/>
            <a:ext cx="915840" cy="129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وَ مِن شرِّ النَّفَّثَتِ فى الْعُقَد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2"/>
          <p:cNvSpPr/>
          <p:nvPr/>
        </p:nvSpPr>
        <p:spPr>
          <a:xfrm>
            <a:off x="1282680" y="4378320"/>
            <a:ext cx="915840" cy="129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Elephant"/>
                <a:cs typeface="2  Badr"/>
              </a:rPr>
              <a:t>وَ مِن شرِّ حَاسِدٍ إِذَا حَسد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متصل کننده پیکان مستقیم 30"/>
          <p:cNvCxnSpPr>
            <a:endCxn id="853" idx="0"/>
          </p:cNvCxnSpPr>
          <p:nvPr/>
        </p:nvCxnSpPr>
        <p:spPr>
          <a:xfrm>
            <a:off x="5270400" y="1544760"/>
            <a:ext cx="99000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1" name="متصل کننده پیکان مستقیم 34"/>
          <p:cNvCxnSpPr>
            <a:endCxn id="854" idx="0"/>
          </p:cNvCxnSpPr>
          <p:nvPr/>
        </p:nvCxnSpPr>
        <p:spPr>
          <a:xfrm>
            <a:off x="6259320" y="2976480"/>
            <a:ext cx="1080" cy="349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2" name="متصل کننده پیکان مستقیم 36"/>
          <p:cNvCxnSpPr>
            <a:stCxn id="852" idx="1"/>
            <a:endCxn id="855" idx="0"/>
          </p:cNvCxnSpPr>
          <p:nvPr/>
        </p:nvCxnSpPr>
        <p:spPr>
          <a:xfrm flipH="1">
            <a:off x="2824920" y="1544760"/>
            <a:ext cx="916920" cy="72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3" name="متصل کننده پیکان مستقیم 38"/>
          <p:cNvCxnSpPr>
            <a:stCxn id="855" idx="2"/>
            <a:endCxn id="856" idx="0"/>
          </p:cNvCxnSpPr>
          <p:nvPr/>
        </p:nvCxnSpPr>
        <p:spPr>
          <a:xfrm flipH="1">
            <a:off x="2809440" y="2943360"/>
            <a:ext cx="16560" cy="38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4" name="متصل کننده پیکان مستقیم 40"/>
          <p:cNvCxnSpPr>
            <a:stCxn id="856" idx="2"/>
            <a:endCxn id="857" idx="0"/>
          </p:cNvCxnSpPr>
          <p:nvPr/>
        </p:nvCxnSpPr>
        <p:spPr>
          <a:xfrm>
            <a:off x="2809800" y="4024080"/>
            <a:ext cx="106920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5" name="متصل کننده پیکان مستقیم 42"/>
          <p:cNvCxnSpPr>
            <a:stCxn id="856" idx="2"/>
            <a:endCxn id="858" idx="0"/>
          </p:cNvCxnSpPr>
          <p:nvPr/>
        </p:nvCxnSpPr>
        <p:spPr>
          <a:xfrm>
            <a:off x="2809440" y="4024080"/>
            <a:ext cx="108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6" name="متصل کننده پیکان مستقیم 49"/>
          <p:cNvCxnSpPr>
            <a:endCxn id="859" idx="0"/>
          </p:cNvCxnSpPr>
          <p:nvPr/>
        </p:nvCxnSpPr>
        <p:spPr>
          <a:xfrm flipH="1">
            <a:off x="1739520" y="4024080"/>
            <a:ext cx="107064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1:21:58Z</dcterms:created>
  <dc:creator>YAALI</dc:creator>
  <dc:description/>
  <dc:language>en-US</dc:language>
  <cp:lastModifiedBy>ALI</cp:lastModifiedBy>
  <dcterms:modified xsi:type="dcterms:W3CDTF">2011-11-16T21:22:41Z</dcterms:modified>
  <cp:revision>67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