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EBFE-E354-4E2E-B482-BC7B9F1594AF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قرائت سور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86BA-E8A1-4BEC-86EB-96EE2F8B6B07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قرائت سور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1B0C-EF83-4B49-8C43-9EFC85089968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قرائت سور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574D-0CAC-4FD9-9D0C-C284B77CBB5E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قرائت سور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FA82-5F1B-4BF7-AAB9-8EFE3DC4A09C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قرائت سور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9F8B-2B6F-4505-BBF9-C18CD62A25D1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قرائت سور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48F3-21DF-43B9-B0A5-CBB52A1CB046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قرائت سور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DB5A-8E79-4900-83DA-2538768F0488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قرائت سور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9B3B-7861-45C5-9B33-B23182C460FA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قرائت سور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B801-8AF4-48B1-AF15-E963B19464D5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قرائت سور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3E8B-3598-4766-8DDD-AE645B7A8CD6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قرائت سور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9620-DB41-4A14-A36B-560D8C0586B0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قرائت سور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نگهدارنده مکان شماره اسلاید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AB83-D5ED-47B5-A23E-E8D99D2D888F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5CF2-BA8F-418C-8780-FE1FDA59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BEBD-2768-43B8-9AF5-7A7B7F46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7D2FD-E546-4C8A-92E8-100EA04C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805BD-63A8-4454-9AE5-800E38A0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2FE25-4E2E-4405-8EC8-45F29D9F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C7CB4-8CFA-4712-8B37-5D9E4B1E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84448-780F-4FF6-BA23-72A4AB82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BE60D-73CB-4384-9907-1AE9F65C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661AB-5135-4250-A707-EE669FD4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5B290-B811-452D-9252-5484F150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55440-2225-47DD-AB6F-DE83D93A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852C3-4C55-4B41-8C1E-0F89892B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454A-60DA-45A4-9CEC-48626CF5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AA4F5-38EE-4796-B9D6-5E4F41B0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2BC5A-2546-410B-8EC1-903AB24D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52241-B522-4238-A4C8-90F43583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50630-9F2D-4C33-81F3-78739B64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3FB73-AAC6-4BD0-B412-3858D6BE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8FBAE-A0E3-4261-BEB5-2D0B0BB4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CF6F1-BC71-478F-9E3B-8763BEB4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7A122-82D4-434B-AA51-1A058969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C92D6-1E82-4678-A504-3E3C5D32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546BC-B8C0-4B24-A5F5-67EA984C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BA89-4600-4C88-AB17-D47701B6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0E099-AAE4-4C13-BE61-669FCE14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C93B7-6DF9-454C-9E9A-3F611226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C5F29-C14C-4A25-A804-90F9B8E6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33293-5CFC-4B12-B914-F012A711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F3E12-F436-4771-9161-3D878DB2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C8E75-54EA-4030-8165-703462BD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996BC-8009-499C-B4A3-5B39177F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68492-7FEE-40C2-AC22-83A43130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97D94-AEC7-4145-AFD7-00AC50C7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90953-168F-470B-BCD9-0DE6A095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E2F9-E434-4270-B698-4FD91AB6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46CC9-A215-4874-A432-A85AD0D1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2BF0D-2ACA-4A24-BBA5-0BDE9BA1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C78E5-981C-47D5-8231-FC76ECB5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515B7-BD5E-4FAC-9AA6-BA198179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C6C0C-FE61-449E-9D5D-797E91E9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6EB2F-53D5-4418-9AE1-3A442742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546CF-E411-4B4B-B86D-73A0E9DC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A2843-9542-4EE3-8178-DFE6BCFE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B833C-233F-40E6-AD8C-4A8FC077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34FA8-E74A-4681-B805-3D3027F7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9B18-3B1F-49A3-8098-87DA0890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65A4A-0FC2-44A1-9AA0-35FFD4BD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A9D24-D012-4317-9D8D-1F9F4237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F8F51-D819-4CAC-A7AE-EC1D8702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4C2FC-8C4E-440E-B992-8338AE14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3FCAF-770E-47F5-96D8-BF07090B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50DE2-900F-4A23-A976-7CCC6633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73B325-1C97-432B-B33D-23705F4E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323FD6-CC75-404C-A8CD-DE5D1412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020E31-169E-44A5-B186-1B7A80AD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42DE5-4522-4268-9D16-A85A0E55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3BA7-54BE-4295-AE38-F62C9592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DDEA4-1E84-465A-BCAC-690BA036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55210-C870-4CCC-A803-7ADBC86A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F5A555-56F9-47BD-86C6-08FE3E22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C8E7AC-FF05-4ECA-8CF8-B3B4F750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F038F7-73F8-4D57-97CF-A8F0DF90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13C9EB-E9CB-407C-BFE8-D929C7CA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FF4DDF-EC75-4980-BE6D-8E9B480C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68FE-BE3E-4CDC-BB12-F64466F5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6C06-A878-4B35-A873-9C64C923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A734-80EE-4F4C-BB91-D7137A61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3231-E9B9-4583-A4DB-42787333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7E15-4A35-4B28-BE5A-73B72A9A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B0D0-96CF-4E5D-983F-DFF762B7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9D7A-28EB-4F15-A7DF-DDA7912D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B13F-497C-49E0-85C6-AB05EBE0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FF22-78A4-4E58-9EC8-9034BE82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BCBB-EBB3-451D-BFF0-E9320AD4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423FB-35D4-4278-B775-3E67B7A3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C5C22-589E-4FDA-A122-B4B04C35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8760E-C952-4CC6-B8E5-F741DCF3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CFE03-0FA0-41C6-8E53-D34629A1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232B7-85C1-42A8-839E-6D258E57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C24-1C5E-4A0C-92F8-D4511B83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1FB6B-1F05-49CA-A7E3-C2D78A8E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09B4E-6076-446D-9962-B1B5FF59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B408B-B4C9-4393-A8F5-D9402945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23C47-E816-4924-8FA4-6D6BEA27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27CA2-1633-48DE-ACEE-112EC387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8EF2B-0386-44F6-837C-DFF6FD9D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D44E5-F192-4CD7-AD6B-4B155DB4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A5DE9-4DC1-4CEF-BC36-82063EE7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2BDB6-B813-4E94-B4F0-34508D9D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C7F0E-95B9-43C7-909C-88B73536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1380-8134-4F76-AB91-9DEDCE44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4E4DD-B941-43C3-A390-2A1002BA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52E4C-D2F0-45B7-A7E8-EA99A618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D2B2B-B605-4001-A813-5B176781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63994-F9F1-4E21-ADA7-39CD5596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0C738-13AB-4968-A59B-E3B38D40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6A936-83D1-4092-9EDA-9A1ABFB9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29A45-C849-4B27-AAAA-0AA554E9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DAAB9-D6CC-42DB-B0FC-580C01A0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89656-2403-43F7-94EE-F8243249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84FBB-D61F-4BC2-8E23-42F51E06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7CF4-2C3F-41C2-A301-A85B4D12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1BEE6-8B18-484B-B18B-71E20638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B6C4A-D526-4A8C-922B-384AA2E0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6C518-DACF-42F8-A46E-76B9B559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6ED76-6EC5-4EA2-BD5A-C1FA0EA2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2C651-4FC3-4A08-BD16-F21A1859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09DF9-4E3B-45F6-AACC-11225957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ECF4E-93B4-44B3-9409-D22977DC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4837F-A8DF-452C-A10C-1CD03201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383F0-A9E0-4411-8F84-E7ED1B26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43BA8-44D6-46AA-BDF0-946C0AF3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B15C-79A9-4E9A-A9B8-A3D4BA75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E2926-8BCF-4776-9A93-6E2A2030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76427-D00F-4A6B-9445-9D5F976C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7293C-86AC-491E-B5C3-77281501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3729F-A0D7-4418-A487-5ADE5D7A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C8B50-4A24-4238-94D5-251960E6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C4BC8-5ACC-4999-9C6D-7808BEE0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B6FF3-46CC-4571-957E-8F613006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0B055-59D0-4362-B48D-1E533985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3D27C-EFEE-45A6-BE1E-E0CA2F34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E3C63-22B9-4C82-811A-96B4D96D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39B8-0A85-4833-84D5-5180389D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49641-9C87-40E9-8EB2-38CD37C9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C976A-4E0E-42CB-859B-1DBF2172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303F8-3517-4E19-A22B-5D0DE061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FA8DC-25A4-4F34-A7E4-6BD52167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49BE3-8F77-4825-AD7F-23D33603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D30AB-3CBC-46E7-B487-77296C81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0BC20-5729-419D-A666-7AD37737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E30AA-2B10-46C0-9653-2011D249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C1C26-8A1A-4F9B-9131-258AC0D7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84193-C34C-40D5-ADD4-D84ADC1C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E3D-C491-4786-82A4-F8BF4766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0E45E-4E75-4C77-958A-F0AA9A18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E1E4A-5806-46B6-998A-E2104801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6EA31-2130-4C28-895B-BB49A3D8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9E08F-C26B-4E25-B40B-C2E25B4A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9A0F8-DFF8-4873-A71B-70754A9F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2F6C1-3DB9-4854-B32A-F4954CD6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D669E-4464-4CDD-9D6F-D2C4C834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9545D-8829-42C1-924E-970AC354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67DB9-D748-4C7A-A69D-29389669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53BCE-E076-4648-8B01-A2101AF7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2D6C-20AE-455F-82A5-AB1CECFE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B5D62-1E20-4CC9-B406-27D66A70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BFEB0-C8D4-47A5-B3FE-B89D8EBB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AE110-EA3A-4AC4-B38E-51193FF4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ECD69-EC79-4861-B1CC-21BF630C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F7546-D4DF-46BE-AE93-3F756918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F781B-92CB-4636-8FAE-6C3ED5E7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274DC-73AE-42AB-ABB7-315A8976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3DA1A-39BB-412F-9F91-D785120E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B22CF-9824-4D80-8285-0AD0CD60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8C9C7-A9FB-42F2-AA41-F3E7F74D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D860-308D-41A0-811C-507D8EF7598F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BDEC-888E-4147-A91A-11B64506C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F769-3595-41DA-9C6F-C6D126AF9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BD79-EC5F-492D-B2F0-B276BD304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0D84-E376-4688-9E4B-39D89139B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3C23-30FF-44FF-875E-88D76F685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41F4-479C-479B-A216-2E411E9CF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8084-595F-4B1D-B87E-237E27A8A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EC22-3755-41FC-BB8B-2401DF64A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9ADC-168A-48CD-8889-C68C84D83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8E54-DB55-41DE-801B-0F35E3D3A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145A-8BF2-4072-A62A-7748BEB72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9D11-86A0-4048-BD9A-8A07CA551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ounded Rectangle 6"/>
          <p:cNvSpPr/>
          <p:nvPr/>
        </p:nvSpPr>
        <p:spPr>
          <a:xfrm>
            <a:off x="3571920" y="7286760"/>
            <a:ext cx="2428920" cy="5713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2" descr="C:\Users\Arax\Desktop\4-1304347837Hashieh 4 (595) copy.jpg"/>
          <p:cNvPicPr/>
          <p:nvPr/>
        </p:nvPicPr>
        <p:blipFill>
          <a:blip r:embed="rId2"/>
          <a:stretch/>
        </p:blipFill>
        <p:spPr>
          <a:xfrm>
            <a:off x="0" y="2554200"/>
            <a:ext cx="9144000" cy="185436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3"/>
          <p:cNvSpPr/>
          <p:nvPr/>
        </p:nvSpPr>
        <p:spPr>
          <a:xfrm>
            <a:off x="0" y="464184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2060"/>
                </a:solidFill>
                <a:latin typeface="Calibri"/>
                <a:cs typeface="B Titr"/>
              </a:rPr>
              <a:t>تدبر در سوره اخلا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besm-ikhlas.wav" descr=""/>
          <p:cNvPicPr/>
          <p:nvPr/>
        </p:nvPicPr>
        <p:blipFill>
          <a:blip r:embed="rId3"/>
          <a:stretch/>
        </p:blipFill>
        <p:spPr>
          <a:xfrm>
            <a:off x="10429920" y="785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6679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679"/>
                            </p:stCondLst>
                            <p:childTnLst>
                              <p:par>
                                <p:cTn id="1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44 -0.03565 L -0.02344 -0.39422 E">
                                      <p:cBhvr>
                                        <p:cTn id="14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679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768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400" spc="-1" strike="noStrike">
              <a:solidFill>
                <a:srgbClr val="000000"/>
              </a:solidFill>
              <a:latin typeface="Calibri"/>
              <a:ea typeface="2  Badr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933480" y="4105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1400" spc="-1" strike="noStrike">
              <a:solidFill>
                <a:srgbClr val="898989"/>
              </a:solidFill>
              <a:latin typeface="Calibri"/>
              <a:ea typeface="2  Badr"/>
            </a:endParaRPr>
          </a:p>
        </p:txBody>
      </p:sp>
      <p:pic>
        <p:nvPicPr>
          <p:cNvPr id="591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22"/>
          <p:cNvSpPr/>
          <p:nvPr/>
        </p:nvSpPr>
        <p:spPr>
          <a:xfrm>
            <a:off x="8674200" y="217440"/>
            <a:ext cx="1839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6"/>
          <p:cNvSpPr/>
          <p:nvPr/>
        </p:nvSpPr>
        <p:spPr>
          <a:xfrm>
            <a:off x="4776840" y="1560600"/>
            <a:ext cx="993600" cy="425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2  Badr"/>
              </a:rPr>
              <a:t>نامحدود اس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7"/>
          <p:cNvSpPr/>
          <p:nvPr/>
        </p:nvSpPr>
        <p:spPr>
          <a:xfrm>
            <a:off x="6276960" y="1560600"/>
            <a:ext cx="657360" cy="115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2  Badr"/>
              </a:rPr>
              <a:t>آن را که خدا میدانی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8"/>
          <p:cNvSpPr/>
          <p:nvPr/>
        </p:nvSpPr>
        <p:spPr>
          <a:xfrm>
            <a:off x="2062080" y="1560600"/>
            <a:ext cx="2352600" cy="425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2  Badr"/>
              </a:rPr>
              <a:t>که همان خدای «احد» اس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39"/>
          <p:cNvSpPr/>
          <p:nvPr/>
        </p:nvSpPr>
        <p:spPr>
          <a:xfrm>
            <a:off x="4782960" y="2135160"/>
            <a:ext cx="993960" cy="5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2  Badr"/>
              </a:rPr>
              <a:t>محدود اس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40"/>
          <p:cNvSpPr/>
          <p:nvPr/>
        </p:nvSpPr>
        <p:spPr>
          <a:xfrm>
            <a:off x="2062080" y="2135160"/>
            <a:ext cx="2382840" cy="5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2  Badr"/>
              </a:rPr>
              <a:t>که در ورای خود محدودکنندهای دارد و او به خدا بودن سزاوارتر اس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41"/>
          <p:cNvSpPr/>
          <p:nvPr/>
        </p:nvSpPr>
        <p:spPr>
          <a:xfrm>
            <a:off x="5205240" y="3071880"/>
            <a:ext cx="1713240" cy="2089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Badr"/>
              </a:rPr>
              <a:t>چنانکه معلوم است این روند تنها در وجود نامحدود متوقف میشود و در غیر این صورت تسلسل باطل است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2"/>
          <p:cNvSpPr/>
          <p:nvPr/>
        </p:nvSpPr>
        <p:spPr>
          <a:xfrm>
            <a:off x="3357720" y="3071880"/>
            <a:ext cx="1052280" cy="425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2  Badr"/>
              </a:rPr>
              <a:t>محدود اس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43"/>
          <p:cNvSpPr/>
          <p:nvPr/>
        </p:nvSpPr>
        <p:spPr>
          <a:xfrm>
            <a:off x="3359160" y="3900600"/>
            <a:ext cx="1062000" cy="12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2  Badr"/>
              </a:rPr>
              <a:t>که در ورای خود محدودکنندهای دارد و او به خدا بودن سزاوارتر اس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4"/>
          <p:cNvSpPr/>
          <p:nvPr/>
        </p:nvSpPr>
        <p:spPr>
          <a:xfrm>
            <a:off x="2093760" y="3071880"/>
            <a:ext cx="992520" cy="425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2  Badr"/>
              </a:rPr>
              <a:t>نامحدود اس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5"/>
          <p:cNvSpPr/>
          <p:nvPr/>
        </p:nvSpPr>
        <p:spPr>
          <a:xfrm>
            <a:off x="2071800" y="3900600"/>
            <a:ext cx="992160" cy="12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2  Badr"/>
              </a:rPr>
              <a:t>که همان خدای «احد» اس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متصل کننده پیکان مستقیم 4137"/>
          <p:cNvCxnSpPr>
            <a:stCxn id="594" idx="1"/>
            <a:endCxn id="593" idx="3"/>
          </p:cNvCxnSpPr>
          <p:nvPr/>
        </p:nvCxnSpPr>
        <p:spPr>
          <a:xfrm flipH="1" flipV="1">
            <a:off x="5770080" y="1772640"/>
            <a:ext cx="506880" cy="36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4" name="متصل کننده پیکان مستقیم 4139"/>
          <p:cNvCxnSpPr>
            <a:stCxn id="594" idx="1"/>
            <a:endCxn id="596" idx="3"/>
          </p:cNvCxnSpPr>
          <p:nvPr/>
        </p:nvCxnSpPr>
        <p:spPr>
          <a:xfrm flipH="1">
            <a:off x="5776200" y="2135520"/>
            <a:ext cx="50076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5" name="متصل کننده پیکان مستقیم 4145"/>
          <p:cNvCxnSpPr>
            <a:stCxn id="593" idx="1"/>
          </p:cNvCxnSpPr>
          <p:nvPr/>
        </p:nvCxnSpPr>
        <p:spPr>
          <a:xfrm flipH="1" flipV="1">
            <a:off x="4414680" y="1773000"/>
            <a:ext cx="362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6" name="متصل کننده پیکان مستقیم 4147"/>
          <p:cNvCxnSpPr>
            <a:stCxn id="596" idx="1"/>
            <a:endCxn id="597" idx="3"/>
          </p:cNvCxnSpPr>
          <p:nvPr/>
        </p:nvCxnSpPr>
        <p:spPr>
          <a:xfrm flipH="1" flipV="1">
            <a:off x="4444200" y="2423880"/>
            <a:ext cx="338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7" name="متصل کننده پیکان مستقیم 4149"/>
          <p:cNvCxnSpPr>
            <a:stCxn id="597" idx="2"/>
            <a:endCxn id="599" idx="0"/>
          </p:cNvCxnSpPr>
          <p:nvPr/>
        </p:nvCxnSpPr>
        <p:spPr>
          <a:xfrm>
            <a:off x="3254400" y="2711160"/>
            <a:ext cx="6292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8" name="متصل کننده پیکان مستقیم 4151"/>
          <p:cNvCxnSpPr>
            <a:stCxn id="597" idx="2"/>
            <a:endCxn id="601" idx="0"/>
          </p:cNvCxnSpPr>
          <p:nvPr/>
        </p:nvCxnSpPr>
        <p:spPr>
          <a:xfrm flipH="1">
            <a:off x="2589120" y="2711160"/>
            <a:ext cx="66564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9" name="متصل کننده پیکان مستقیم 4153"/>
          <p:cNvCxnSpPr>
            <a:stCxn id="599" idx="2"/>
            <a:endCxn id="600" idx="0"/>
          </p:cNvCxnSpPr>
          <p:nvPr/>
        </p:nvCxnSpPr>
        <p:spPr>
          <a:xfrm>
            <a:off x="3882960" y="3497400"/>
            <a:ext cx="720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0" name="متصل کننده پیکان مستقیم 4157"/>
          <p:cNvCxnSpPr>
            <a:stCxn id="601" idx="2"/>
            <a:endCxn id="602" idx="0"/>
          </p:cNvCxnSpPr>
          <p:nvPr/>
        </p:nvCxnSpPr>
        <p:spPr>
          <a:xfrm flipH="1">
            <a:off x="2566440" y="3497400"/>
            <a:ext cx="2268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1" name="Right Brace 4160"/>
          <p:cNvSpPr/>
          <p:nvPr/>
        </p:nvSpPr>
        <p:spPr>
          <a:xfrm>
            <a:off x="4643280" y="3071880"/>
            <a:ext cx="511200" cy="2089080"/>
          </a:xfrm>
          <a:custGeom>
            <a:avLst/>
            <a:gdLst>
              <a:gd name="textAreaLeft" fmla="*/ 0 w 511200"/>
              <a:gd name="textAreaRight" fmla="*/ 184680 w 511200"/>
              <a:gd name="textAreaTop" fmla="*/ 41040 h 2089080"/>
              <a:gd name="textAreaBottom" fmla="*/ 204804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3"/>
                  <a:pt x="10800" y="1366"/>
                </a:cubicBezTo>
                <a:lnTo>
                  <a:pt x="10800" y="9434"/>
                </a:lnTo>
                <a:cubicBezTo>
                  <a:pt x="10800" y="10117"/>
                  <a:pt x="16200" y="10800"/>
                  <a:pt x="21600" y="10800"/>
                </a:cubicBezTo>
                <a:cubicBezTo>
                  <a:pt x="16200" y="10800"/>
                  <a:pt x="10800" y="11483"/>
                  <a:pt x="10800" y="12166"/>
                </a:cubicBezTo>
                <a:lnTo>
                  <a:pt x="10800" y="20234"/>
                </a:lnTo>
                <a:cubicBezTo>
                  <a:pt x="10800" y="2091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2  Lotu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  <a:ea typeface="2  Lotus"/>
            </a:endParaRPr>
          </a:p>
        </p:txBody>
      </p:sp>
      <p:pic>
        <p:nvPicPr>
          <p:cNvPr id="614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2"/>
          <p:cNvSpPr/>
          <p:nvPr/>
        </p:nvSpPr>
        <p:spPr>
          <a:xfrm>
            <a:off x="6875640" y="2840040"/>
            <a:ext cx="928440" cy="1177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(normal text)"/>
                <a:cs typeface="2  Badr"/>
              </a:rPr>
              <a:t>قُل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Lotus"/>
              </a:rPr>
              <a:t>ای رسول ما! بگو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3995640" y="2359080"/>
            <a:ext cx="2413080" cy="961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(normal text)"/>
                <a:cs typeface="2  Badr"/>
              </a:rPr>
              <a:t>اللَّهُ الصَّمَد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Lotus"/>
              </a:rPr>
              <a:t>خدا صمد است (توحید افعال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4013280" y="3537000"/>
            <a:ext cx="2413080" cy="961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(normal text)"/>
                <a:cs typeface="2  Badr"/>
              </a:rPr>
              <a:t>لَمْ يَلِدْ وَ لَمْ يُولَد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Lotus"/>
              </a:rPr>
              <a:t>نزایید و زاییده نشد (نفی شرک در طو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4008600" y="1197000"/>
            <a:ext cx="2412720" cy="961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(normal text)"/>
                <a:cs typeface="2  Badr"/>
              </a:rPr>
              <a:t>هُوَ اللَّهُ أَحَد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Lotus"/>
              </a:rPr>
              <a:t>حقیقت این است که خدا احد است (توحید ذات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4013280" y="4724280"/>
            <a:ext cx="2413080" cy="962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(normal text)"/>
                <a:cs typeface="2  Badr"/>
              </a:rPr>
              <a:t>وَ لَمْ يَكُن لَّهُ كُفُوًا أَحَد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Lotus"/>
              </a:rPr>
              <a:t>و هیچکس همتای او نیست (نفی شرک در عرض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2556000" y="1401840"/>
            <a:ext cx="982440" cy="1512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Lotus"/>
              </a:rPr>
              <a:t>اثبات توحید ذاتی و افعال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2556000" y="3968640"/>
            <a:ext cx="982440" cy="1513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Lotus"/>
              </a:rPr>
              <a:t>نفی شرک در طول و عر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1328760" y="2855880"/>
            <a:ext cx="941400" cy="1212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Lotus"/>
              </a:rPr>
              <a:t>اثبات توحی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Lotus"/>
              </a:rPr>
              <a:t>و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2  Lotus"/>
              </a:rPr>
              <a:t>نفی شر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متصل کننده پیکان مستقیم 13"/>
          <p:cNvCxnSpPr>
            <a:endCxn id="618" idx="3"/>
          </p:cNvCxnSpPr>
          <p:nvPr/>
        </p:nvCxnSpPr>
        <p:spPr>
          <a:xfrm flipH="1" flipV="1">
            <a:off x="6420960" y="1677600"/>
            <a:ext cx="45504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4" name="متصل کننده پیکان مستقیم 15"/>
          <p:cNvCxnSpPr>
            <a:stCxn id="615" idx="1"/>
            <a:endCxn id="616" idx="3"/>
          </p:cNvCxnSpPr>
          <p:nvPr/>
        </p:nvCxnSpPr>
        <p:spPr>
          <a:xfrm flipH="1" flipV="1">
            <a:off x="6408000" y="2839680"/>
            <a:ext cx="46764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5" name="متصل کننده پیکان مستقیم 17"/>
          <p:cNvCxnSpPr>
            <a:stCxn id="615" idx="1"/>
            <a:endCxn id="617" idx="3"/>
          </p:cNvCxnSpPr>
          <p:nvPr/>
        </p:nvCxnSpPr>
        <p:spPr>
          <a:xfrm flipH="1">
            <a:off x="6426000" y="3429000"/>
            <a:ext cx="45000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6" name="متصل کننده پیکان مستقیم 19"/>
          <p:cNvCxnSpPr>
            <a:stCxn id="615" idx="1"/>
          </p:cNvCxnSpPr>
          <p:nvPr/>
        </p:nvCxnSpPr>
        <p:spPr>
          <a:xfrm flipH="1">
            <a:off x="6426000" y="3429000"/>
            <a:ext cx="450000" cy="17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7" name="متصل کننده پیکان مستقیم 21"/>
          <p:cNvCxnSpPr>
            <a:stCxn id="618" idx="1"/>
            <a:endCxn id="620" idx="3"/>
          </p:cNvCxnSpPr>
          <p:nvPr/>
        </p:nvCxnSpPr>
        <p:spPr>
          <a:xfrm flipH="1">
            <a:off x="3538080" y="1677960"/>
            <a:ext cx="470880" cy="48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8" name="متصل کننده پیکان مستقیم 23"/>
          <p:cNvCxnSpPr>
            <a:endCxn id="620" idx="3"/>
          </p:cNvCxnSpPr>
          <p:nvPr/>
        </p:nvCxnSpPr>
        <p:spPr>
          <a:xfrm flipH="1" flipV="1">
            <a:off x="3538080" y="2158560"/>
            <a:ext cx="45792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9" name="متصل کننده پیکان مستقیم 25"/>
          <p:cNvCxnSpPr>
            <a:stCxn id="617" idx="1"/>
            <a:endCxn id="621" idx="3"/>
          </p:cNvCxnSpPr>
          <p:nvPr/>
        </p:nvCxnSpPr>
        <p:spPr>
          <a:xfrm flipH="1">
            <a:off x="3537720" y="4017960"/>
            <a:ext cx="475560" cy="70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0" name="متصل کننده پیکان مستقیم 27"/>
          <p:cNvCxnSpPr>
            <a:stCxn id="619" idx="1"/>
          </p:cNvCxnSpPr>
          <p:nvPr/>
        </p:nvCxnSpPr>
        <p:spPr>
          <a:xfrm flipH="1" flipV="1">
            <a:off x="3537720" y="4723920"/>
            <a:ext cx="475560" cy="48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1" name="متصل کننده لولایی 37"/>
          <p:cNvCxnSpPr>
            <a:stCxn id="620" idx="1"/>
            <a:endCxn id="622" idx="0"/>
          </p:cNvCxnSpPr>
          <p:nvPr/>
        </p:nvCxnSpPr>
        <p:spPr>
          <a:xfrm flipV="1" rot="10800000">
            <a:off x="1799640" y="2158560"/>
            <a:ext cx="756360" cy="697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2" name="متصل کننده لولایی 39"/>
          <p:cNvCxnSpPr>
            <a:stCxn id="621" idx="1"/>
            <a:endCxn id="622" idx="2"/>
          </p:cNvCxnSpPr>
          <p:nvPr/>
        </p:nvCxnSpPr>
        <p:spPr>
          <a:xfrm rot="10800000">
            <a:off x="1799640" y="4068000"/>
            <a:ext cx="756360" cy="656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35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4"/>
          <p:cNvSpPr/>
          <p:nvPr/>
        </p:nvSpPr>
        <p:spPr>
          <a:xfrm>
            <a:off x="1619280" y="2921040"/>
            <a:ext cx="58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جهت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3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4"/>
          <p:cNvSpPr/>
          <p:nvPr/>
        </p:nvSpPr>
        <p:spPr>
          <a:xfrm>
            <a:off x="-1103760" y="1773360"/>
            <a:ext cx="1135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000000"/>
                </a:solidFill>
                <a:latin typeface="IranNastaliq"/>
                <a:cs typeface="IranNastaliq"/>
              </a:rPr>
              <a:t>اثبات توحید و نفی شر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5"/>
          <p:cNvSpPr/>
          <p:nvPr/>
        </p:nvSpPr>
        <p:spPr>
          <a:xfrm>
            <a:off x="1584360" y="407664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Elephant"/>
                <a:cs typeface="2  Badr"/>
              </a:rPr>
              <a:t>اثبات احدیت و صمدیت برای خدا و نفی زاییدن و زاییده شدن و همتا داشتن از ذات پاک ا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4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6"/>
          <p:cNvSpPr/>
          <p:nvPr/>
        </p:nvSpPr>
        <p:spPr>
          <a:xfrm>
            <a:off x="1891800" y="292104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8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6"/>
          <p:cNvSpPr/>
          <p:nvPr/>
        </p:nvSpPr>
        <p:spPr>
          <a:xfrm>
            <a:off x="2571840" y="4857840"/>
            <a:ext cx="399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QuranTaha"/>
              </a:rPr>
              <a:t>وَلَمْ یكُنْ لَهُ كُفُوًا أَحَدٌ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QuranTaha"/>
              </a:rPr>
              <a:t> </a:t>
            </a:r>
            <a:r>
              <a:rPr b="1" lang="ar-SA" sz="3200" spc="-1" strike="noStrike">
                <a:solidFill>
                  <a:srgbClr val="008000"/>
                </a:solidFill>
                <a:latin typeface="Times New Roman"/>
                <a:cs typeface="Traditional Arabic"/>
              </a:rPr>
              <a:t>﴿</a:t>
            </a:r>
            <a:r>
              <a:rPr b="1" lang="fa-IR" sz="3200" spc="-1" strike="noStrike">
                <a:solidFill>
                  <a:srgbClr val="008000"/>
                </a:solidFill>
                <a:latin typeface="Times New Roman"/>
                <a:ea typeface="Traditional Arabic"/>
              </a:rPr>
              <a:t>4</a:t>
            </a:r>
            <a:r>
              <a:rPr b="1" lang="ar-SA" sz="3200" spc="-1" strike="noStrike">
                <a:solidFill>
                  <a:srgbClr val="008000"/>
                </a:solidFill>
                <a:latin typeface="Times New Roman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2195640" y="1125360"/>
            <a:ext cx="439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QuranTaha"/>
              </a:rPr>
              <a:t>بِسْمِ اللَّهِ الرَّحْمَنِ الرَّحِیم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8"/>
          <p:cNvSpPr/>
          <p:nvPr/>
        </p:nvSpPr>
        <p:spPr>
          <a:xfrm>
            <a:off x="2844360" y="2143080"/>
            <a:ext cx="334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QuranTaha"/>
              </a:rPr>
              <a:t>قُلْ هُوَ اللَّهُ أَحَدٌ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QuranTaha"/>
              </a:rPr>
              <a:t> </a:t>
            </a:r>
            <a:r>
              <a:rPr b="1" lang="ar-SA" sz="3200" spc="-1" strike="noStrike">
                <a:solidFill>
                  <a:srgbClr val="008000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8000"/>
                </a:solidFill>
                <a:latin typeface="Times New Roman"/>
                <a:cs typeface="Traditional Arabic"/>
              </a:rPr>
              <a:t>١</a:t>
            </a:r>
            <a:r>
              <a:rPr b="1" lang="ar-SA" sz="3200" spc="-1" strike="noStrike">
                <a:solidFill>
                  <a:srgbClr val="008000"/>
                </a:solidFill>
                <a:latin typeface="Times New Roman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9"/>
          <p:cNvSpPr/>
          <p:nvPr/>
        </p:nvSpPr>
        <p:spPr>
          <a:xfrm>
            <a:off x="3155760" y="3016080"/>
            <a:ext cx="277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QuranTaha"/>
              </a:rPr>
              <a:t>اللَّهُ الصَّمَدُ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QuranTaha"/>
              </a:rPr>
              <a:t> </a:t>
            </a:r>
            <a:r>
              <a:rPr b="1" lang="ar-SA" sz="3200" spc="-1" strike="noStrike">
                <a:solidFill>
                  <a:srgbClr val="008000"/>
                </a:solidFill>
                <a:latin typeface="Times New Roman"/>
                <a:cs typeface="Traditional Arabic"/>
              </a:rPr>
              <a:t>﴿</a:t>
            </a:r>
            <a:r>
              <a:rPr b="1" lang="fa-IR" sz="3200" spc="-1" strike="noStrike">
                <a:solidFill>
                  <a:srgbClr val="008000"/>
                </a:solidFill>
                <a:latin typeface="Times New Roman"/>
                <a:ea typeface="Traditional Arabic"/>
              </a:rPr>
              <a:t>2</a:t>
            </a:r>
            <a:r>
              <a:rPr b="1" lang="ar-SA" sz="3200" spc="-1" strike="noStrike">
                <a:solidFill>
                  <a:srgbClr val="008000"/>
                </a:solidFill>
                <a:latin typeface="Times New Roman"/>
                <a:cs typeface="Traditional Arabic"/>
              </a:rPr>
              <a:t>﴾</a:t>
            </a:r>
            <a:r>
              <a:rPr b="0" lang="fa-IR" sz="3200" spc="-1" strike="noStrike">
                <a:solidFill>
                  <a:srgbClr val="008000"/>
                </a:solidFill>
                <a:latin typeface="Calibri"/>
                <a:ea typeface="Neiriz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0"/>
          <p:cNvSpPr/>
          <p:nvPr/>
        </p:nvSpPr>
        <p:spPr>
          <a:xfrm>
            <a:off x="2833200" y="3944880"/>
            <a:ext cx="351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QuranTaha"/>
              </a:rPr>
              <a:t>لَمْ یلِدْ وَلَمْ یولَدْ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QuranTaha"/>
              </a:rPr>
              <a:t> </a:t>
            </a:r>
            <a:r>
              <a:rPr b="1" lang="ar-SA" sz="3200" spc="-1" strike="noStrike">
                <a:solidFill>
                  <a:srgbClr val="008000"/>
                </a:solidFill>
                <a:latin typeface="Times New Roman"/>
                <a:cs typeface="Traditional Arabic"/>
              </a:rPr>
              <a:t>﴿</a:t>
            </a:r>
            <a:r>
              <a:rPr b="1" lang="fa-IR" sz="3200" spc="-1" strike="noStrike">
                <a:solidFill>
                  <a:srgbClr val="008000"/>
                </a:solidFill>
                <a:latin typeface="Times New Roman"/>
                <a:ea typeface="Traditional Arabic"/>
              </a:rPr>
              <a:t>3</a:t>
            </a:r>
            <a:r>
              <a:rPr b="1" lang="ar-SA" sz="3200" spc="-1" strike="noStrike">
                <a:solidFill>
                  <a:srgbClr val="008000"/>
                </a:solidFill>
                <a:latin typeface="Times New Roman"/>
                <a:cs typeface="Traditional Arabic"/>
              </a:rPr>
              <a:t>﴾</a:t>
            </a:r>
            <a:r>
              <a:rPr b="0" lang="fa-IR" sz="3200" spc="-1" strike="noStrike">
                <a:solidFill>
                  <a:srgbClr val="008000"/>
                </a:solidFill>
                <a:latin typeface="Calibri"/>
                <a:ea typeface="Neiriz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289.MP3" descr=""/>
          <p:cNvPicPr/>
          <p:nvPr/>
        </p:nvPicPr>
        <p:blipFill>
          <a:blip r:embed="rId2"/>
          <a:stretch/>
        </p:blipFill>
        <p:spPr>
          <a:xfrm>
            <a:off x="1100124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21792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8" name="Rectangle 5"/>
          <p:cNvSpPr/>
          <p:nvPr/>
        </p:nvSpPr>
        <p:spPr>
          <a:xfrm>
            <a:off x="3683160" y="2766960"/>
            <a:ext cx="177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دع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2400" spc="-1" strike="noStrike">
              <a:solidFill>
                <a:srgbClr val="000000"/>
              </a:solidFill>
              <a:latin typeface="Calibri"/>
              <a:ea typeface="2  Badr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2400" spc="-1" strike="noStrike">
              <a:solidFill>
                <a:srgbClr val="898989"/>
              </a:solidFill>
              <a:latin typeface="Calibri"/>
              <a:ea typeface="2  Badr"/>
            </a:endParaRPr>
          </a:p>
        </p:txBody>
      </p:sp>
      <p:pic>
        <p:nvPicPr>
          <p:cNvPr id="661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4"/>
          <p:cNvSpPr/>
          <p:nvPr/>
        </p:nvSpPr>
        <p:spPr>
          <a:xfrm>
            <a:off x="3286080" y="1428840"/>
            <a:ext cx="2559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IranNastaliq"/>
                <a:cs typeface="IranNastaliq"/>
              </a:rPr>
              <a:t>ای خدای بی همتا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5"/>
          <p:cNvSpPr/>
          <p:nvPr/>
        </p:nvSpPr>
        <p:spPr>
          <a:xfrm>
            <a:off x="2000160" y="2998800"/>
            <a:ext cx="514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(normal text)"/>
                <a:cs typeface="2  Badr"/>
              </a:rPr>
              <a:t>پرتو نورانی سوره اخلاص را در عقل و جان ما بتابا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1785960" y="4038480"/>
            <a:ext cx="557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(normal text)"/>
                <a:cs typeface="2  Badr"/>
              </a:rPr>
              <a:t>توفیق شناخت و معرفت واقعی خودت را به ما عنایت فرم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7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4"/>
          <p:cNvSpPr/>
          <p:nvPr/>
        </p:nvSpPr>
        <p:spPr>
          <a:xfrm>
            <a:off x="1146600" y="2644920"/>
            <a:ext cx="68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التماس دع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6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4"/>
          <p:cNvSpPr/>
          <p:nvPr/>
        </p:nvSpPr>
        <p:spPr>
          <a:xfrm>
            <a:off x="2012040" y="2921040"/>
            <a:ext cx="51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شناسه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0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1" name="نگهدارنده مکان محتوا 6" descr=""/>
          <p:cNvPicPr/>
          <p:nvPr/>
        </p:nvPicPr>
        <p:blipFill>
          <a:blip r:embed="rId2"/>
          <a:stretch/>
        </p:blipFill>
        <p:spPr>
          <a:xfrm>
            <a:off x="450720" y="871560"/>
            <a:ext cx="824256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4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4"/>
          <p:cNvSpPr/>
          <p:nvPr/>
        </p:nvSpPr>
        <p:spPr>
          <a:xfrm>
            <a:off x="2239920" y="2921040"/>
            <a:ext cx="466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فضای سخ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8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4"/>
          <p:cNvSpPr/>
          <p:nvPr/>
        </p:nvSpPr>
        <p:spPr>
          <a:xfrm>
            <a:off x="1285920" y="2428920"/>
            <a:ext cx="6553080" cy="3292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(normal text)"/>
                <a:cs typeface="B Lotus"/>
              </a:rPr>
              <a:t>گویا </a:t>
            </a:r>
            <a:r>
              <a:rPr b="1" lang="ar-SA" sz="2800" spc="-1" strike="noStrike">
                <a:solidFill>
                  <a:srgbClr val="000000"/>
                </a:solidFill>
                <a:latin typeface="(normal text)"/>
                <a:cs typeface="B Lotus"/>
              </a:rPr>
              <a:t>انسان حقیقت</a:t>
            </a:r>
            <a:r>
              <a:rPr b="1" lang="en-US" sz="2800" spc="-1" strike="noStrike">
                <a:solidFill>
                  <a:srgbClr val="000000"/>
                </a:solidFill>
                <a:latin typeface="(normal text)"/>
                <a:ea typeface="B Lotus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(normal text)"/>
                <a:cs typeface="B Lotus"/>
              </a:rPr>
              <a:t>جو در تکاپوی فطری خداجویی، دچار خطا </a:t>
            </a:r>
            <a:r>
              <a:rPr b="1" lang="fa-IR" sz="2800" spc="-1" strike="noStrike">
                <a:solidFill>
                  <a:srgbClr val="000000"/>
                </a:solidFill>
                <a:latin typeface="(normal text)"/>
                <a:cs typeface="B Lotus"/>
              </a:rPr>
              <a:t>گشته</a:t>
            </a:r>
            <a:r>
              <a:rPr b="1" lang="ar-SA" sz="2800" spc="-1" strike="noStrike">
                <a:solidFill>
                  <a:srgbClr val="000000"/>
                </a:solidFill>
                <a:latin typeface="(normal text)"/>
                <a:ea typeface="B Lotus"/>
              </a:rPr>
              <a:t> و مصداق حقیقی خدا را از مصادیق توهمی آن تشخیص </a:t>
            </a:r>
            <a:r>
              <a:rPr b="1" lang="fa-IR" sz="2800" spc="-1" strike="noStrike">
                <a:solidFill>
                  <a:srgbClr val="000000"/>
                </a:solidFill>
                <a:latin typeface="(normal text)"/>
                <a:cs typeface="B Lotus"/>
              </a:rPr>
              <a:t>نمی </a:t>
            </a:r>
            <a:r>
              <a:rPr b="1" lang="ar-SA" sz="2800" spc="-1" strike="noStrike">
                <a:solidFill>
                  <a:srgbClr val="000000"/>
                </a:solidFill>
                <a:latin typeface="(normal text)"/>
                <a:cs typeface="B Lotus"/>
              </a:rPr>
              <a:t>ده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2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6"/>
          <p:cNvSpPr/>
          <p:nvPr/>
        </p:nvSpPr>
        <p:spPr>
          <a:xfrm>
            <a:off x="1891800" y="2921040"/>
            <a:ext cx="536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قرائت سور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6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6"/>
          <p:cNvSpPr/>
          <p:nvPr/>
        </p:nvSpPr>
        <p:spPr>
          <a:xfrm>
            <a:off x="2571840" y="4857840"/>
            <a:ext cx="399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QuranTaha"/>
              </a:rPr>
              <a:t>وَلَمْ یكُنْ لَهُ كُفُوًا أَحَدٌ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QuranTaha"/>
              </a:rPr>
              <a:t> </a:t>
            </a:r>
            <a:r>
              <a:rPr b="1" lang="ar-SA" sz="3200" spc="-1" strike="noStrike">
                <a:solidFill>
                  <a:srgbClr val="008000"/>
                </a:solidFill>
                <a:latin typeface="Times New Roman"/>
                <a:cs typeface="Traditional Arabic"/>
              </a:rPr>
              <a:t>﴿</a:t>
            </a:r>
            <a:r>
              <a:rPr b="1" lang="fa-IR" sz="3200" spc="-1" strike="noStrike">
                <a:solidFill>
                  <a:srgbClr val="008000"/>
                </a:solidFill>
                <a:latin typeface="Times New Roman"/>
                <a:ea typeface="Traditional Arabic"/>
              </a:rPr>
              <a:t>4</a:t>
            </a:r>
            <a:r>
              <a:rPr b="1" lang="ar-SA" sz="3200" spc="-1" strike="noStrike">
                <a:solidFill>
                  <a:srgbClr val="008000"/>
                </a:solidFill>
                <a:latin typeface="Times New Roman"/>
                <a:cs typeface="Traditional Arabic"/>
              </a:rPr>
              <a:t>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2195640" y="1125360"/>
            <a:ext cx="439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QuranTaha"/>
              </a:rPr>
              <a:t>بِسْمِ اللَّهِ الرَّحْمَنِ الرَّحِیم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2844360" y="2143080"/>
            <a:ext cx="334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QuranTaha"/>
              </a:rPr>
              <a:t>قُلْ هُوَ اللَّهُ أَحَدٌ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QuranTaha"/>
              </a:rPr>
              <a:t> </a:t>
            </a:r>
            <a:r>
              <a:rPr b="1" lang="ar-SA" sz="3200" spc="-1" strike="noStrike">
                <a:solidFill>
                  <a:srgbClr val="008000"/>
                </a:solidFill>
                <a:latin typeface="Times New Roman"/>
                <a:cs typeface="Traditional Arabic"/>
              </a:rPr>
              <a:t>﴿</a:t>
            </a:r>
            <a:r>
              <a:rPr b="1" lang="ar-SA" sz="3200" spc="-1" strike="noStrike">
                <a:solidFill>
                  <a:srgbClr val="008000"/>
                </a:solidFill>
                <a:latin typeface="Times New Roman"/>
                <a:cs typeface="Traditional Arabic"/>
              </a:rPr>
              <a:t>١</a:t>
            </a:r>
            <a:r>
              <a:rPr b="1" lang="ar-SA" sz="3200" spc="-1" strike="noStrike">
                <a:solidFill>
                  <a:srgbClr val="008000"/>
                </a:solidFill>
                <a:latin typeface="Times New Roman"/>
                <a:cs typeface="Traditional Arabic"/>
              </a:rPr>
              <a:t>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3155760" y="3016080"/>
            <a:ext cx="277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QuranTaha"/>
              </a:rPr>
              <a:t>اللَّهُ الصَّمَدُ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QuranTaha"/>
              </a:rPr>
              <a:t> </a:t>
            </a:r>
            <a:r>
              <a:rPr b="1" lang="ar-SA" sz="3200" spc="-1" strike="noStrike">
                <a:solidFill>
                  <a:srgbClr val="008000"/>
                </a:solidFill>
                <a:latin typeface="Times New Roman"/>
                <a:cs typeface="Traditional Arabic"/>
              </a:rPr>
              <a:t>﴿</a:t>
            </a:r>
            <a:r>
              <a:rPr b="1" lang="fa-IR" sz="3200" spc="-1" strike="noStrike">
                <a:solidFill>
                  <a:srgbClr val="008000"/>
                </a:solidFill>
                <a:latin typeface="Times New Roman"/>
                <a:ea typeface="Traditional Arabic"/>
              </a:rPr>
              <a:t>2</a:t>
            </a:r>
            <a:r>
              <a:rPr b="1" lang="ar-SA" sz="3200" spc="-1" strike="noStrike">
                <a:solidFill>
                  <a:srgbClr val="008000"/>
                </a:solidFill>
                <a:latin typeface="Times New Roman"/>
                <a:cs typeface="Traditional Arabic"/>
              </a:rPr>
              <a:t>﴾</a:t>
            </a:r>
            <a:r>
              <a:rPr b="0" lang="fa-IR" sz="3200" spc="-1" strike="noStrike">
                <a:solidFill>
                  <a:srgbClr val="008000"/>
                </a:solidFill>
                <a:latin typeface="Calibri"/>
                <a:ea typeface="Neiriz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2833200" y="3944880"/>
            <a:ext cx="351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QuranTaha"/>
              </a:rPr>
              <a:t>لَمْ یلِدْ وَلَمْ یولَدْ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QuranTaha"/>
              </a:rPr>
              <a:t> </a:t>
            </a:r>
            <a:r>
              <a:rPr b="1" lang="ar-SA" sz="3200" spc="-1" strike="noStrike">
                <a:solidFill>
                  <a:srgbClr val="008000"/>
                </a:solidFill>
                <a:latin typeface="Times New Roman"/>
                <a:cs typeface="Traditional Arabic"/>
              </a:rPr>
              <a:t>﴿</a:t>
            </a:r>
            <a:r>
              <a:rPr b="1" lang="fa-IR" sz="3200" spc="-1" strike="noStrike">
                <a:solidFill>
                  <a:srgbClr val="008000"/>
                </a:solidFill>
                <a:latin typeface="Times New Roman"/>
                <a:ea typeface="Traditional Arabic"/>
              </a:rPr>
              <a:t>3</a:t>
            </a:r>
            <a:r>
              <a:rPr b="1" lang="ar-SA" sz="3200" spc="-1" strike="noStrike">
                <a:solidFill>
                  <a:srgbClr val="008000"/>
                </a:solidFill>
                <a:latin typeface="Times New Roman"/>
                <a:cs typeface="Traditional Arabic"/>
              </a:rPr>
              <a:t>﴾</a:t>
            </a:r>
            <a:r>
              <a:rPr b="0" lang="fa-IR" sz="3200" spc="-1" strike="noStrike">
                <a:solidFill>
                  <a:srgbClr val="008000"/>
                </a:solidFill>
                <a:latin typeface="Calibri"/>
                <a:ea typeface="Neiriz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289.MP3" descr=""/>
          <p:cNvPicPr/>
          <p:nvPr/>
        </p:nvPicPr>
        <p:blipFill>
          <a:blip r:embed="rId2"/>
          <a:stretch/>
        </p:blipFill>
        <p:spPr>
          <a:xfrm>
            <a:off x="1100124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1792" fill="hold"/>
                                        <p:tgtEl>
                                          <p:spTgt spid="5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5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4"/>
          <p:cNvSpPr/>
          <p:nvPr/>
        </p:nvSpPr>
        <p:spPr>
          <a:xfrm>
            <a:off x="1092240" y="292104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d0d0d"/>
                </a:solidFill>
                <a:latin typeface="Calibri"/>
                <a:cs typeface="DecoType Naskh Extensions"/>
              </a:rPr>
              <a:t>سیر هدایتی سور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600" spc="-1" strike="noStrike">
              <a:solidFill>
                <a:srgbClr val="000000"/>
              </a:solidFill>
              <a:latin typeface="Calibri"/>
              <a:ea typeface="2  Badr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1600" spc="-1" strike="noStrike">
              <a:solidFill>
                <a:srgbClr val="898989"/>
              </a:solidFill>
              <a:latin typeface="Calibri"/>
              <a:ea typeface="2  Badr"/>
            </a:endParaRPr>
          </a:p>
        </p:txBody>
      </p:sp>
      <p:pic>
        <p:nvPicPr>
          <p:cNvPr id="579" name="تصویر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6"/>
          <p:cNvSpPr/>
          <p:nvPr/>
        </p:nvSpPr>
        <p:spPr>
          <a:xfrm>
            <a:off x="6443640" y="3044880"/>
            <a:ext cx="977760" cy="768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Elephant"/>
                <a:cs typeface="2  Badr"/>
              </a:rPr>
              <a:t>عالم هستی، ی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3814920" y="2389320"/>
            <a:ext cx="1844640" cy="823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Elephant"/>
                <a:cs typeface="2  Badr"/>
              </a:rPr>
              <a:t>خالق و هستی بخشی دار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1628640" y="2389320"/>
            <a:ext cx="1411560" cy="823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Elephant"/>
                <a:cs typeface="2  Badr"/>
              </a:rPr>
              <a:t>خالق و هستی</a:t>
            </a:r>
            <a:r>
              <a:rPr b="1" lang="en-US" sz="1600" spc="-1" strike="noStrike">
                <a:solidFill>
                  <a:srgbClr val="000000"/>
                </a:solidFill>
                <a:latin typeface="Elephant"/>
                <a:ea typeface="2  Badr"/>
              </a:rPr>
              <a:t> </a:t>
            </a:r>
            <a:r>
              <a:rPr b="1" lang="fa-IR" sz="1600" spc="-1" strike="noStrike">
                <a:solidFill>
                  <a:srgbClr val="000000"/>
                </a:solidFill>
                <a:latin typeface="Elephant"/>
                <a:cs typeface="2  Badr"/>
              </a:rPr>
              <a:t>بخش، خداست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3814920" y="3813120"/>
            <a:ext cx="1844640" cy="839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Elephant"/>
                <a:cs typeface="2  Badr"/>
              </a:rPr>
              <a:t>هستی را از خود دارد و خالق و هستی بخشی ندار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1628640" y="3813120"/>
            <a:ext cx="1411560" cy="839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Elephant"/>
                <a:ea typeface="2  Badr"/>
              </a:rPr>
              <a:t>(العیاذبالله) عالم هستی خداست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5" name="متصل کننده پیکان مستقیم 22"/>
          <p:cNvCxnSpPr>
            <a:stCxn id="580" idx="1"/>
            <a:endCxn id="581" idx="3"/>
          </p:cNvCxnSpPr>
          <p:nvPr/>
        </p:nvCxnSpPr>
        <p:spPr>
          <a:xfrm flipH="1" flipV="1">
            <a:off x="5659200" y="2800080"/>
            <a:ext cx="78480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6" name="متصل کننده پیکان مستقیم 24"/>
          <p:cNvCxnSpPr>
            <a:endCxn id="583" idx="3"/>
          </p:cNvCxnSpPr>
          <p:nvPr/>
        </p:nvCxnSpPr>
        <p:spPr>
          <a:xfrm flipH="1">
            <a:off x="5659200" y="3428640"/>
            <a:ext cx="78480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7" name="متصل کننده پیکان مستقیم 26"/>
          <p:cNvCxnSpPr>
            <a:stCxn id="581" idx="1"/>
            <a:endCxn id="582" idx="3"/>
          </p:cNvCxnSpPr>
          <p:nvPr/>
        </p:nvCxnSpPr>
        <p:spPr>
          <a:xfrm flipH="1" flipV="1">
            <a:off x="3039840" y="2799720"/>
            <a:ext cx="77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8" name="متصل کننده پیکان مستقیم 28"/>
          <p:cNvCxnSpPr>
            <a:stCxn id="583" idx="1"/>
            <a:endCxn id="584" idx="3"/>
          </p:cNvCxnSpPr>
          <p:nvPr/>
        </p:nvCxnSpPr>
        <p:spPr>
          <a:xfrm flipH="1">
            <a:off x="3039840" y="4231800"/>
            <a:ext cx="77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07:20:49Z</dcterms:created>
  <dc:creator>YAALI</dc:creator>
  <dc:description/>
  <dc:language>en-US</dc:language>
  <cp:lastModifiedBy>ALI</cp:lastModifiedBy>
  <dcterms:modified xsi:type="dcterms:W3CDTF">2011-11-16T21:23:17Z</dcterms:modified>
  <cp:revision>44</cp:revision>
  <dc:subject/>
  <dc:title>ارائه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