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4F4-B3CA-4E83-AECB-508CFE38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2F6-B2DB-49C4-9941-FB27EDE1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185-6464-4837-A9CB-F07EE6B7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513-F10C-48A6-9FAC-BA4571F8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7E6-A898-492E-BBBB-B7A2F6C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BAA-3D83-4108-8469-BEC50C32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93C-C93C-40EF-92B0-9CB70D0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9F1-628A-46B6-BD59-F8ECAA1A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433-3B1D-4FBF-A75E-42BE0C3D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B70-8B93-4BC1-AE92-FC4EB52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0B9-CD5D-4709-B58E-6E3156F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A29-7899-476B-9342-8420A75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85DA-958B-4632-AB00-704D173AAD0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-71280" y="3714840"/>
            <a:ext cx="4246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Calibri"/>
                <a:cs typeface="DecoType Naskh Variants"/>
              </a:rPr>
              <a:t>تدبر د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Calibri"/>
                <a:cs typeface="DecoType Naskh Variants"/>
              </a:rPr>
              <a:t>سوره مبارک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Calibri"/>
                <a:cs typeface="DecoType Naskh Variants"/>
              </a:rPr>
              <a:t>عص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sm.wav" descr=""/>
          <p:cNvPicPr/>
          <p:nvPr/>
        </p:nvPicPr>
        <p:blipFill>
          <a:blip r:embed="rId2"/>
          <a:stretch/>
        </p:blipFill>
        <p:spPr>
          <a:xfrm>
            <a:off x="104299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-1050480" y="1916280"/>
            <a:ext cx="112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هشدار: انسان در خسران</a:t>
            </a:r>
            <a:r>
              <a:rPr b="0" lang="fa-IR" sz="8000" spc="-1" strike="noStrike">
                <a:solidFill>
                  <a:srgbClr val="000000"/>
                </a:solidFill>
                <a:latin typeface="IranNastaliq"/>
                <a:ea typeface="IranNastaliq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3860640"/>
            <a:ext cx="691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با گذر زمان، سرمایه عمر از کف می رود و انسان دچار خسران می گردد؛ مگر کسانی که ایمان آورده، عمل صالح انجام دهند و همدیگر را به حق و صبر سفارش کنند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2  Bad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14200" y="4587840"/>
            <a:ext cx="87868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ل</a:t>
            </a: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ّ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 الَّذِينَ آمَنُوا وَعَمِلُوا الصَّالِحَاتِ وَتَوَاصَوْا بِالْحَقِّ وَتَوَاصَوْا بِالصَّبْرِ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862360" y="1214280"/>
            <a:ext cx="341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630600" y="2287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وَالْعَصْر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643120" y="3351240"/>
            <a:ext cx="3781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نَّ الإنْسَانَ لَفِي خُسْرٍ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280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751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3683160" y="278604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934920" y="2786040"/>
            <a:ext cx="7274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توفيق استفاده هرچه بيشتر و بهتر از سرمايه گرانبهاي عمر را به م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ارزاني د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934920" y="4572000"/>
            <a:ext cx="7274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از جمله زيانكاراني كه با هدر رفتن عمر هر لحظه بر زيانش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افزوده مي شود قرار مد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28800" y="114300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96840" y="689040"/>
            <a:ext cx="88948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928800" y="4118040"/>
            <a:ext cx="74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این عمر پا به پای گذر زمان در حال سپری شدن و تاجرِ مسافر غافل اس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928800" y="2857680"/>
            <a:ext cx="745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عمر او سرمایه اوست که باید در مقابل آن، رضایت پروردگار و بهشت برین را به دست آور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00080" y="171468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انسان برای تجارت به این دنیای خاکی سفر کرده است و جز مدت زمانی کوتاه، فرصت ندار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28800" y="5261040"/>
            <a:ext cx="746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دیری نمیگذرد که این فرصت محدود به پایان میرسد و دست تاجر از این سرمایه خالی میشو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14200" y="4587840"/>
            <a:ext cx="87868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ل</a:t>
            </a:r>
            <a:r>
              <a:rPr b="0" lang="fa-IR" sz="2800" spc="-1" strike="noStrike">
                <a:solidFill>
                  <a:srgbClr val="000000"/>
                </a:solidFill>
                <a:latin typeface="Neirizi"/>
                <a:cs typeface="QuranTaha"/>
              </a:rPr>
              <a:t>ّ</a:t>
            </a: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ا الَّذِينَ آمَنُوا وَعَمِلُوا الصَّالِحَاتِ وَتَوَاصَوْا بِالْحَقِّ وَتَوَاصَوْا بِالصَّبْرِ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862360" y="1214280"/>
            <a:ext cx="341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بِسْمِ اللَّهِ الرَّحْمَنِ الرَّحِ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630600" y="2287440"/>
            <a:ext cx="188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وَالْعَصْرِ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643120" y="3351240"/>
            <a:ext cx="3781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Neirizi"/>
                <a:cs typeface="QuranTaha"/>
              </a:rPr>
              <a:t>إِنَّ الإنْسَانَ لَفِي خُسْرٍ 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280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751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6948360" y="3219480"/>
            <a:ext cx="1481400" cy="170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 الْعَصْ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14240" y="2914560"/>
            <a:ext cx="3571920" cy="2300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إِلا الَّذِينَ ءَامَنُواوَ عَمِلُوا الصلِحَت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 تَوَاصوْا بِالْحَقّ‏ِ وَ تَوَاصوْا بِالصب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714920" y="3214800"/>
            <a:ext cx="1857240" cy="1714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إِنَّ الْانسَانَ لَفِى خُسْر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متصل کننده پیکان مستقیم 7"/>
          <p:cNvCxnSpPr>
            <a:stCxn id="66" idx="1"/>
            <a:endCxn id="68" idx="3"/>
          </p:cNvCxnSpPr>
          <p:nvPr/>
        </p:nvCxnSpPr>
        <p:spPr>
          <a:xfrm flipH="1" flipV="1">
            <a:off x="6571440" y="4071240"/>
            <a:ext cx="376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متصل کننده پیکان مستقیم 9"/>
          <p:cNvCxnSpPr>
            <a:stCxn id="68" idx="1"/>
            <a:endCxn id="67" idx="3"/>
          </p:cNvCxnSpPr>
          <p:nvPr/>
        </p:nvCxnSpPr>
        <p:spPr>
          <a:xfrm flipH="1" flipV="1">
            <a:off x="4285440" y="4065120"/>
            <a:ext cx="4294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5:03Z</dcterms:modified>
  <cp:revision>3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