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B2F5-C066-4FBC-9A10-89A5F0EEB79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A92-7518-42A6-A594-9BE622C652B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C49F-BD94-4440-B4D8-CACD747372B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E6E-3DD1-4F5B-9FE2-9FE9F6ED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ED9-00F5-481A-8F0F-C12403B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308-626C-4D08-8C80-9854E0A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4ED-F556-48C2-B574-8F89E13A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4D7-ED88-46B3-8035-C5366DD8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E4B-B1B2-468E-8B2D-6A1DB5B9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097-63D2-4E70-88ED-4855D02B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C88-35A5-48DA-BE09-DA805C7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DE1-5FC7-4BA8-B244-19F33048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5B8-6E6E-4AB9-965B-D22C9D5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683-B2AB-424D-A38F-EDD5798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274-1669-4E05-A5A3-689BD16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371-11AD-49FA-9AAF-53681CE2238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-92160" y="5254560"/>
            <a:ext cx="9382320" cy="1590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Calibri"/>
                <a:cs typeface="Mj_Zobeir"/>
              </a:rPr>
              <a:t>بسم الله  الرحمن الرحی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BESM.wav" descr=""/>
          <p:cNvPicPr/>
          <p:nvPr/>
        </p:nvPicPr>
        <p:blipFill>
          <a:blip r:embed="rId3"/>
          <a:stretch/>
        </p:blipFill>
        <p:spPr>
          <a:xfrm>
            <a:off x="1042992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665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6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643720" y="1071720"/>
            <a:ext cx="2286000" cy="104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الْفَجْ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643720" y="2286000"/>
            <a:ext cx="2286000" cy="104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لَيَالٍ عَشْر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643720" y="3500280"/>
            <a:ext cx="2286000" cy="1047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الشَّفْعِ وَالْوَتْ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643720" y="4714920"/>
            <a:ext cx="2286000" cy="104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اللَّيْلِ إِذَا يَسْ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260360" y="2857680"/>
            <a:ext cx="350064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هَلْ فِي ذَلِكَ قَسَمٌ لِذِي حِجْر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761000" y="1143000"/>
            <a:ext cx="811080" cy="4572000"/>
          </a:xfrm>
          <a:custGeom>
            <a:avLst/>
            <a:gdLst>
              <a:gd name="textAreaLeft" fmla="*/ 518400 w 811080"/>
              <a:gd name="textAreaRight" fmla="*/ 811440 w 811080"/>
              <a:gd name="textAreaTop" fmla="*/ 113760 h 4572000"/>
              <a:gd name="textAreaBottom" fmla="*/ 44582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9"/>
                  <a:pt x="10800" y="1718"/>
                </a:cubicBezTo>
                <a:lnTo>
                  <a:pt x="10800" y="9082"/>
                </a:lnTo>
                <a:cubicBezTo>
                  <a:pt x="10800" y="9941"/>
                  <a:pt x="5400" y="10800"/>
                  <a:pt x="0" y="10800"/>
                </a:cubicBezTo>
                <a:cubicBezTo>
                  <a:pt x="5400" y="10800"/>
                  <a:pt x="10800" y="11659"/>
                  <a:pt x="10800" y="12518"/>
                </a:cubicBezTo>
                <a:lnTo>
                  <a:pt x="10800" y="19882"/>
                </a:lnTo>
                <a:cubicBezTo>
                  <a:pt x="10800" y="207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714680" y="387828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سوگند به میـعادهـای دل بریدن از دنیا در راستای تأکید بر جهت هدایتی سو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-3238200" y="1844640"/>
            <a:ext cx="1562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سوگند برای تأکید جهت هدایتی سور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571840" y="3936960"/>
            <a:ext cx="388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6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928800" y="1181160"/>
            <a:ext cx="7286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تَرَ كَيْفَ فَعَلَ رَبُّكَ بِعَادٍ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رَمَ ذَاتِ الْعِمَادِ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الَّتِي لَمْ يُخْلَقْ مِثْلُهَا فِي الْبِلادِ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ثَمُودَ الَّذِينَ جَابُوا الصَّخْرَ بِالْوَادِ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فِرْعَوْنَ ذِي الأوْتَادِ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نَ طَغَوْا فِي الْبِلادِ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كْثَرُوا فِيهَا الْفَسَادَ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صَبَّ عَلَيْهِمْ رَبُّكَ سَوْطَ عَذَابٍ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رَبَّكَ لَبِالْمِرْصَادِ 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3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6-14.wav" descr=""/>
          <p:cNvPicPr/>
          <p:nvPr/>
        </p:nvPicPr>
        <p:blipFill>
          <a:blip r:embed="rId2"/>
          <a:stretch/>
        </p:blipFill>
        <p:spPr>
          <a:xfrm>
            <a:off x="10215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5555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643040" y="2644920"/>
            <a:ext cx="5857920" cy="228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2  Lotus"/>
              </a:rPr>
              <a:t>  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طغیانگری و گسترش فساد از سو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دنیاگر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0"/>
          <p:cNvSpPr/>
          <p:nvPr/>
        </p:nvSpPr>
        <p:spPr>
          <a:xfrm>
            <a:off x="5432400" y="1071720"/>
            <a:ext cx="84132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َاد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5432400" y="3475080"/>
            <a:ext cx="841320" cy="780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فِرعَ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786720" y="2000160"/>
            <a:ext cx="1143000" cy="142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َلَمْ تَرَ كَيْفَ فَعَلَ رَبُّكَ بِ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5435640" y="2289240"/>
            <a:ext cx="84276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ثَمود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857680" y="4757760"/>
            <a:ext cx="3368520" cy="102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َصَبَّ عَلَيْهِمْ رَبُّكَ سَوْطَ عَذَاب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ِنَّ رَبَّكَ لَبِالْمِرْصَاد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2789280" y="1071720"/>
            <a:ext cx="168444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ِرَمَ ذَاتِ الْعِمَاد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َّتِي لَمْ يُخْلَقْ مِثْلُهَا فِي الْبِلاد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789280" y="2286000"/>
            <a:ext cx="168444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َّذِينَ جَابُواْ الصَّخْرَ بِالْوَاد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2789280" y="3475080"/>
            <a:ext cx="1684440" cy="780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ذِى الْأَوْتَاد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143000" y="2000160"/>
            <a:ext cx="1143000" cy="142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َّذِينَ طَغَواْ فىِ الْبِلاَد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َأَكْثَرُواْ فِيهَا الْفَسَاد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متصل کننده پیکان مستقیم 43"/>
          <p:cNvCxnSpPr>
            <a:stCxn id="117" idx="1"/>
            <a:endCxn id="115" idx="3"/>
          </p:cNvCxnSpPr>
          <p:nvPr/>
        </p:nvCxnSpPr>
        <p:spPr>
          <a:xfrm flipH="1" flipV="1">
            <a:off x="6273000" y="1571040"/>
            <a:ext cx="5137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متصل کننده پیکان مستقیم 45"/>
          <p:cNvCxnSpPr>
            <a:stCxn id="117" idx="1"/>
            <a:endCxn id="118" idx="3"/>
          </p:cNvCxnSpPr>
          <p:nvPr/>
        </p:nvCxnSpPr>
        <p:spPr>
          <a:xfrm flipH="1">
            <a:off x="6278040" y="2714760"/>
            <a:ext cx="5090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متصل کننده پیکان مستقیم 47"/>
          <p:cNvCxnSpPr>
            <a:stCxn id="117" idx="1"/>
            <a:endCxn id="116" idx="3"/>
          </p:cNvCxnSpPr>
          <p:nvPr/>
        </p:nvCxnSpPr>
        <p:spPr>
          <a:xfrm flipH="1">
            <a:off x="6273000" y="2713680"/>
            <a:ext cx="51372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متصل کننده پیکان مستقیم 49"/>
          <p:cNvCxnSpPr>
            <a:stCxn id="115" idx="1"/>
            <a:endCxn id="120" idx="3"/>
          </p:cNvCxnSpPr>
          <p:nvPr/>
        </p:nvCxnSpPr>
        <p:spPr>
          <a:xfrm flipH="1" flipV="1">
            <a:off x="4473000" y="1571400"/>
            <a:ext cx="959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متصل کننده پیکان مستقیم 51"/>
          <p:cNvCxnSpPr>
            <a:stCxn id="118" idx="1"/>
            <a:endCxn id="121" idx="3"/>
          </p:cNvCxnSpPr>
          <p:nvPr/>
        </p:nvCxnSpPr>
        <p:spPr>
          <a:xfrm flipH="1" flipV="1">
            <a:off x="4473360" y="2714400"/>
            <a:ext cx="9626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متصل کننده پیکان مستقیم 53"/>
          <p:cNvCxnSpPr>
            <a:stCxn id="116" idx="1"/>
            <a:endCxn id="122" idx="3"/>
          </p:cNvCxnSpPr>
          <p:nvPr/>
        </p:nvCxnSpPr>
        <p:spPr>
          <a:xfrm flipH="1" flipV="1">
            <a:off x="4473000" y="3865320"/>
            <a:ext cx="959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Left Brace 54"/>
          <p:cNvSpPr/>
          <p:nvPr/>
        </p:nvSpPr>
        <p:spPr>
          <a:xfrm>
            <a:off x="2289240" y="1143000"/>
            <a:ext cx="353880" cy="3117960"/>
          </a:xfrm>
          <a:custGeom>
            <a:avLst/>
            <a:gdLst>
              <a:gd name="textAreaLeft" fmla="*/ 226080 w 353880"/>
              <a:gd name="textAreaRight" fmla="*/ 354240 w 353880"/>
              <a:gd name="textAreaTop" fmla="*/ 9000 h 3117960"/>
              <a:gd name="textAreaBottom" fmla="*/ 3108960 h 311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"/>
                  <a:pt x="10800" y="204"/>
                </a:cubicBezTo>
                <a:lnTo>
                  <a:pt x="10800" y="10693"/>
                </a:lnTo>
                <a:cubicBezTo>
                  <a:pt x="10800" y="10795"/>
                  <a:pt x="5400" y="10897"/>
                  <a:pt x="0" y="10897"/>
                </a:cubicBezTo>
                <a:cubicBezTo>
                  <a:pt x="5400" y="10897"/>
                  <a:pt x="10800" y="10999"/>
                  <a:pt x="10800" y="11101"/>
                </a:cubicBezTo>
                <a:lnTo>
                  <a:pt x="10800" y="21396"/>
                </a:lnTo>
                <a:cubicBezTo>
                  <a:pt x="10800" y="2149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شکل 56"/>
          <p:cNvCxnSpPr>
            <a:stCxn id="123" idx="2"/>
            <a:endCxn id="119" idx="1"/>
          </p:cNvCxnSpPr>
          <p:nvPr/>
        </p:nvCxnSpPr>
        <p:spPr>
          <a:xfrm flipH="1" rot="16200000">
            <a:off x="1363680" y="3778920"/>
            <a:ext cx="184392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شکل 58"/>
          <p:cNvCxnSpPr>
            <a:stCxn id="117" idx="2"/>
            <a:endCxn id="119" idx="3"/>
          </p:cNvCxnSpPr>
          <p:nvPr/>
        </p:nvCxnSpPr>
        <p:spPr>
          <a:xfrm rot="5400000">
            <a:off x="5869800" y="3784680"/>
            <a:ext cx="1843920" cy="113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1214280" y="4221000"/>
            <a:ext cx="6643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عذاب سخت و دردناک، سرنوشتی است که پروردگار برای دنیازدگان طغیانگر رقم زده است؛ چرا که او در کمینگاه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-1059480" y="1700280"/>
            <a:ext cx="1126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هدید دنیاگرایان طغیانگ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237760" y="1925640"/>
            <a:ext cx="46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500200" y="3936960"/>
            <a:ext cx="4132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811800" y="2874960"/>
            <a:ext cx="75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س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928800" y="1071720"/>
            <a:ext cx="72864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الإنْسَانُ إِذَا مَا ابْتَلاهُ رَبُّهُ فَأَكْرَمَهُ وَنَعَّمَهُ فَيَقُولُ رَبِّي أَكْرَمَنِ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إِذَا مَا ابْتَلاهُ فَقَدَرَ عَلَيْهِ رِزْقَهُ فَيَقُولُ رَبِّي أَهَانَنِ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كَلا بَل لا تُكْرِمُونَ الْيَتِيمَ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لا تَحَاضُّونَ عَلَى طَعَامِ الْمِسْكِينِ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تَأْكُلُونَ التُّرَاثَ أَكْلا لَمًّا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تُحِبُّونَ الْمَالَ حُبًّا جَمًّا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ذَا دُكَّتِ الأرْضُ دَكًّا دَكًّا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جَاءَ رَبُّكَ وَالْمَلَكُ صَفًّا صَفًّا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جِيءَ يَوْمَئِذٍ بِجَهَنَّمَ يَوْمَئِذٍ يَتَذَكَّرُ الإنْسَانُ وَأَنَّى لَهُ الذِّكْرَى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 يَا لَيْتَنِي قَدَّمْتُ لِحَيَاتِي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َيَوْمَئِذٍ لا يُعَذِّبُ عَذَابَهُ أَحَد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لا يُوثِقُ وَثَاقَهُ أَحَد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5-26.wav" descr=""/>
          <p:cNvPicPr/>
          <p:nvPr/>
        </p:nvPicPr>
        <p:blipFill>
          <a:blip r:embed="rId2"/>
          <a:stretch/>
        </p:blipFill>
        <p:spPr>
          <a:xfrm>
            <a:off x="10215720" y="142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117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400" y="2921040"/>
            <a:ext cx="900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1214280" y="2263680"/>
            <a:ext cx="6643800" cy="374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2  Lotus"/>
              </a:rPr>
              <a:t>  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وجود نظام فکری و عملی دنیا محور؛ نظامی که اهل آن برای مال دنیا ارزش اصالی قائلند، و بر همین اساس رفتار غلط خود را سامان داده ا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110880" y="2921040"/>
            <a:ext cx="892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تصویر 1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572400" cy="7286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5786280" y="4143240"/>
            <a:ext cx="2238480" cy="72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إِذَا مَا ابْتَلَئهُ فَقَدَرَ عَلَيْهِ رِزْقَه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فَيَقُولُ رَبىّ‏ِ أَهَانَن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358040" y="3143160"/>
            <a:ext cx="696960" cy="663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فَأَمَّا الْانسَان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86280" y="1928880"/>
            <a:ext cx="2238480" cy="72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إِذَا مَا ابْتَلَئهُ رَبُّهُ فَأَكْرمَهُ وَ نَعَّمَه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B Badr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فَيَقُولُ رَبىّ‏ِ أَكْرَمَن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824360" y="1596960"/>
            <a:ext cx="554040" cy="66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کلّا بَ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214800" y="2428920"/>
            <a:ext cx="1112760" cy="753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وَتَأْكُلُونَ التُّرَاثَ أَكْلا لَمًّ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822920" y="4583160"/>
            <a:ext cx="554040" cy="72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کلّا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214800" y="1500120"/>
            <a:ext cx="1112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وَلا تَحَاضُّونَ عَلَى طَعَامِ الْمِسْكِين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214800" y="714240"/>
            <a:ext cx="1112760" cy="68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لا تُكْرِمُونَ الْيَتِيم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14800" y="3786120"/>
            <a:ext cx="1122120" cy="68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إِذَا دُكَّتِ الأرْضُ دَكًّا دَكًّا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214800" y="4583160"/>
            <a:ext cx="1122120" cy="68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وَجَاءَ رَبُّكَ وَالْمَلَكُ صَفًّا صَفًّ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214800" y="5429160"/>
            <a:ext cx="1122120" cy="68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وَجِيءَ يَوْمَئِذٍ بِجَهَنَّم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285920" y="1500120"/>
            <a:ext cx="1158840" cy="92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وَتُحِبُّونَ الْمَالَ حُبًّا جَمًّ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1285920" y="3500280"/>
            <a:ext cx="1158840" cy="128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يَوْمَئِذٍ يَتَذَكَّرُ الإنْسَانُ وَأَنَّى لَهُ الذِّكْرَى * يَقُولُ يَا لَيْتَنِي قَدَّمْتُ لِحَيَاتِ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285920" y="4929120"/>
            <a:ext cx="1158840" cy="1130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B Badr"/>
              </a:rPr>
              <a:t>فَيَوْمَئِذٍ لا يُعَذِّبُ عَذَابَهُ أَحَدٌ * وَلا يُوثِقُ وَثَاقَهُ أَحَد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متصل کننده پیکان مستقیم 17"/>
          <p:cNvCxnSpPr>
            <a:stCxn id="154" idx="0"/>
            <a:endCxn id="155" idx="2"/>
          </p:cNvCxnSpPr>
          <p:nvPr/>
        </p:nvCxnSpPr>
        <p:spPr>
          <a:xfrm flipH="1" flipV="1">
            <a:off x="6904800" y="2648880"/>
            <a:ext cx="80244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متصل کننده پیکان مستقیم 19"/>
          <p:cNvCxnSpPr>
            <a:stCxn id="154" idx="2"/>
            <a:endCxn id="153" idx="0"/>
          </p:cNvCxnSpPr>
          <p:nvPr/>
        </p:nvCxnSpPr>
        <p:spPr>
          <a:xfrm flipH="1">
            <a:off x="6904800" y="3807000"/>
            <a:ext cx="802440" cy="33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Left Brace 20"/>
          <p:cNvSpPr/>
          <p:nvPr/>
        </p:nvSpPr>
        <p:spPr>
          <a:xfrm>
            <a:off x="5143680" y="1928880"/>
            <a:ext cx="642600" cy="2928960"/>
          </a:xfrm>
          <a:custGeom>
            <a:avLst/>
            <a:gdLst>
              <a:gd name="textAreaLeft" fmla="*/ 410760 w 642600"/>
              <a:gd name="textAreaRight" fmla="*/ 642960 w 642600"/>
              <a:gd name="textAreaTop" fmla="*/ 88560 h 2928960"/>
              <a:gd name="textAreaBottom" fmla="*/ 284040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7"/>
                  <a:pt x="10800" y="2094"/>
                </a:cubicBezTo>
                <a:lnTo>
                  <a:pt x="10800" y="8807"/>
                </a:lnTo>
                <a:cubicBezTo>
                  <a:pt x="10800" y="9854"/>
                  <a:pt x="5400" y="10901"/>
                  <a:pt x="0" y="10901"/>
                </a:cubicBezTo>
                <a:cubicBezTo>
                  <a:pt x="5400" y="10901"/>
                  <a:pt x="10800" y="11948"/>
                  <a:pt x="10800" y="12995"/>
                </a:cubicBezTo>
                <a:lnTo>
                  <a:pt x="10800" y="19506"/>
                </a:lnTo>
                <a:cubicBezTo>
                  <a:pt x="10800" y="2055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متصل کننده پیکان مستقیم 22"/>
          <p:cNvCxnSpPr>
            <a:stCxn id="156" idx="2"/>
            <a:endCxn id="158" idx="0"/>
          </p:cNvCxnSpPr>
          <p:nvPr/>
        </p:nvCxnSpPr>
        <p:spPr>
          <a:xfrm flipH="1">
            <a:off x="5098680" y="2260440"/>
            <a:ext cx="2160" cy="23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1" name="متصل کننده پیکان مستقیم 24"/>
          <p:cNvCxnSpPr>
            <a:stCxn id="156" idx="1"/>
            <a:endCxn id="160" idx="3"/>
          </p:cNvCxnSpPr>
          <p:nvPr/>
        </p:nvCxnSpPr>
        <p:spPr>
          <a:xfrm flipH="1" flipV="1">
            <a:off x="4327200" y="1055160"/>
            <a:ext cx="49752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متصل کننده پیکان مستقیم 26"/>
          <p:cNvCxnSpPr>
            <a:stCxn id="156" idx="1"/>
            <a:endCxn id="159" idx="3"/>
          </p:cNvCxnSpPr>
          <p:nvPr/>
        </p:nvCxnSpPr>
        <p:spPr>
          <a:xfrm flipH="1" flipV="1">
            <a:off x="4327200" y="1891800"/>
            <a:ext cx="49752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متصل کننده پیکان مستقیم 28"/>
          <p:cNvCxnSpPr>
            <a:stCxn id="156" idx="1"/>
            <a:endCxn id="157" idx="3"/>
          </p:cNvCxnSpPr>
          <p:nvPr/>
        </p:nvCxnSpPr>
        <p:spPr>
          <a:xfrm flipH="1">
            <a:off x="4327200" y="1928880"/>
            <a:ext cx="497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متصل کننده پیکان مستقیم 30"/>
          <p:cNvCxnSpPr>
            <a:stCxn id="158" idx="1"/>
            <a:endCxn id="161" idx="3"/>
          </p:cNvCxnSpPr>
          <p:nvPr/>
        </p:nvCxnSpPr>
        <p:spPr>
          <a:xfrm flipH="1" flipV="1">
            <a:off x="4336560" y="4126680"/>
            <a:ext cx="48672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متصل کننده پیکان مستقیم 32"/>
          <p:cNvCxnSpPr>
            <a:stCxn id="158" idx="1"/>
            <a:endCxn id="162" idx="3"/>
          </p:cNvCxnSpPr>
          <p:nvPr/>
        </p:nvCxnSpPr>
        <p:spPr>
          <a:xfrm flipH="1" flipV="1">
            <a:off x="4336560" y="4923720"/>
            <a:ext cx="48672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متصل کننده پیکان مستقیم 34"/>
          <p:cNvCxnSpPr>
            <a:stCxn id="158" idx="1"/>
            <a:endCxn id="163" idx="3"/>
          </p:cNvCxnSpPr>
          <p:nvPr/>
        </p:nvCxnSpPr>
        <p:spPr>
          <a:xfrm flipH="1">
            <a:off x="4336560" y="4942440"/>
            <a:ext cx="48672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متصل کننده مستقیم 36"/>
          <p:cNvSpPr/>
          <p:nvPr/>
        </p:nvSpPr>
        <p:spPr>
          <a:xfrm flipV="1">
            <a:off x="3774960" y="4468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eft Brace 37"/>
          <p:cNvSpPr/>
          <p:nvPr/>
        </p:nvSpPr>
        <p:spPr>
          <a:xfrm>
            <a:off x="2857680" y="78588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47520 h 2357280"/>
              <a:gd name="textAreaBottom" fmla="*/ 230976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eft Brace 38"/>
          <p:cNvSpPr/>
          <p:nvPr/>
        </p:nvSpPr>
        <p:spPr>
          <a:xfrm>
            <a:off x="2857680" y="3786120"/>
            <a:ext cx="357120" cy="2357640"/>
          </a:xfrm>
          <a:custGeom>
            <a:avLst/>
            <a:gdLst>
              <a:gd name="textAreaLeft" fmla="*/ 228240 w 357120"/>
              <a:gd name="textAreaRight" fmla="*/ 357480 w 357120"/>
              <a:gd name="textAreaTop" fmla="*/ 64800 h 2357640"/>
              <a:gd name="textAreaBottom" fmla="*/ 229284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9"/>
                  <a:pt x="10800" y="1898"/>
                </a:cubicBezTo>
                <a:lnTo>
                  <a:pt x="10800" y="8902"/>
                </a:lnTo>
                <a:cubicBezTo>
                  <a:pt x="10800" y="9851"/>
                  <a:pt x="5400" y="10800"/>
                  <a:pt x="0" y="10800"/>
                </a:cubicBezTo>
                <a:cubicBezTo>
                  <a:pt x="5400" y="10800"/>
                  <a:pt x="10800" y="11749"/>
                  <a:pt x="10800" y="12698"/>
                </a:cubicBezTo>
                <a:lnTo>
                  <a:pt x="10800" y="19702"/>
                </a:lnTo>
                <a:cubicBezTo>
                  <a:pt x="10800" y="2065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متصل کننده پیکان مستقیم 40"/>
          <p:cNvCxnSpPr>
            <a:stCxn id="178" idx="1"/>
            <a:endCxn id="164" idx="3"/>
          </p:cNvCxnSpPr>
          <p:nvPr/>
        </p:nvCxnSpPr>
        <p:spPr>
          <a:xfrm flipH="1">
            <a:off x="2444040" y="1962720"/>
            <a:ext cx="41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متصل کننده پیکان مستقیم 43"/>
          <p:cNvCxnSpPr>
            <a:stCxn id="179" idx="1"/>
            <a:endCxn id="165" idx="3"/>
          </p:cNvCxnSpPr>
          <p:nvPr/>
        </p:nvCxnSpPr>
        <p:spPr>
          <a:xfrm flipH="1" flipV="1">
            <a:off x="2444040" y="4142520"/>
            <a:ext cx="413640" cy="82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متصل کننده پیکان مستقیم 45"/>
          <p:cNvCxnSpPr>
            <a:stCxn id="179" idx="1"/>
            <a:endCxn id="166" idx="3"/>
          </p:cNvCxnSpPr>
          <p:nvPr/>
        </p:nvCxnSpPr>
        <p:spPr>
          <a:xfrm flipH="1">
            <a:off x="2444040" y="4965840"/>
            <a:ext cx="4136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689040" y="762120"/>
            <a:ext cx="770580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س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1214280" y="3860640"/>
            <a:ext cx="6715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توبیخ و انذار کسانی که برای مال دنیا ارزش اصالی قائلند و از حیثیت ابتلایی و امتحانیِ انعام و امساک الهی غفلت میورز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-2849040" y="1571760"/>
            <a:ext cx="147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وبیخ نظام فکری و عملی دنیامحو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1935000" y="1925640"/>
            <a:ext cx="527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چهار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546280" y="3952800"/>
            <a:ext cx="4051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7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509400" y="2874960"/>
            <a:ext cx="812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چهار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214800" y="4622760"/>
            <a:ext cx="2714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ادْخُلِ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جَنَّتِي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٣٠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1"/>
          <p:cNvSpPr/>
          <p:nvPr/>
        </p:nvSpPr>
        <p:spPr>
          <a:xfrm>
            <a:off x="2299680" y="1500120"/>
            <a:ext cx="4471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يَا أَيَّتُهَا النَّفْسُ الْمُطْمَئِنَّةُ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٢٧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2"/>
          <p:cNvSpPr/>
          <p:nvPr/>
        </p:nvSpPr>
        <p:spPr>
          <a:xfrm>
            <a:off x="1853640" y="2527200"/>
            <a:ext cx="542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ارْجِعِي إِلَى رَبِّكِ رَاضِيَةً مَرْضِيَّةً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٢٨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3"/>
          <p:cNvSpPr/>
          <p:nvPr/>
        </p:nvSpPr>
        <p:spPr>
          <a:xfrm>
            <a:off x="2698200" y="3551400"/>
            <a:ext cx="3711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َادْخُلِي فِي عِبَادِي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٢٩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27-30.wav" descr=""/>
          <p:cNvPicPr/>
          <p:nvPr/>
        </p:nvPicPr>
        <p:blipFill>
          <a:blip r:embed="rId2"/>
          <a:stretch/>
        </p:blipFill>
        <p:spPr>
          <a:xfrm>
            <a:off x="1050120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7" dur="24523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-164160" y="2921040"/>
            <a:ext cx="94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چهار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02" name="Rectangle 3"/>
          <p:cNvSpPr/>
          <p:nvPr/>
        </p:nvSpPr>
        <p:spPr>
          <a:xfrm>
            <a:off x="1071720" y="1500120"/>
            <a:ext cx="3571560" cy="85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ارْجِعِي إِلَى رَبِّكِ رَاضِيَةً مَرْضِيَّة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071720" y="3000240"/>
            <a:ext cx="3571560" cy="857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فَادْخُلِي فِي عِبَادِ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071720" y="4429080"/>
            <a:ext cx="3562200" cy="85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ادْخُلِي جَنَّت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357880" y="3000240"/>
            <a:ext cx="2643120" cy="857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يَا أَيَّتُهَا النَّفْسُ الْمُطْمَئِنَّة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متصل کننده پیکان مستقیم 28"/>
          <p:cNvCxnSpPr>
            <a:stCxn id="205" idx="1"/>
            <a:endCxn id="202" idx="3"/>
          </p:cNvCxnSpPr>
          <p:nvPr/>
        </p:nvCxnSpPr>
        <p:spPr>
          <a:xfrm flipH="1" flipV="1">
            <a:off x="4642560" y="1926720"/>
            <a:ext cx="715320" cy="150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متصل کننده پیکان مستقیم 30"/>
          <p:cNvCxnSpPr>
            <a:stCxn id="205" idx="1"/>
            <a:endCxn id="203" idx="3"/>
          </p:cNvCxnSpPr>
          <p:nvPr/>
        </p:nvCxnSpPr>
        <p:spPr>
          <a:xfrm flipH="1" flipV="1">
            <a:off x="4642560" y="3428640"/>
            <a:ext cx="7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متصل کننده پیکان مستقیم 32"/>
          <p:cNvCxnSpPr>
            <a:stCxn id="205" idx="1"/>
            <a:endCxn id="204" idx="3"/>
          </p:cNvCxnSpPr>
          <p:nvPr/>
        </p:nvCxnSpPr>
        <p:spPr>
          <a:xfrm flipH="1">
            <a:off x="4633200" y="3427920"/>
            <a:ext cx="72468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1386000" y="2690640"/>
            <a:ext cx="63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چهار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2286000" y="16970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شارت به نفس مطمئن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357200" y="4005360"/>
            <a:ext cx="64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ngsana New"/>
                <a:cs typeface="2  Badr"/>
              </a:rPr>
              <a:t>اطمینان و آرامش برخاسته از نگرش ابتلایی به دنیا، مایه آرامش و سعادت در عرصه مع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57120" y="446040"/>
            <a:ext cx="8429760" cy="60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ْفَجْر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لَيَالٍ عَشْر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شَّفْعِ وَالْوَتْر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سْر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هَلْ فِي ذَلِكَ قَسَمٌ لِذِي حِجْر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تَرَ كَيْفَ فَعَلَ رَبُّكَ بِعَاد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إِرَمَ ذَاتِ الْعِم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الَّتِي لَمْ يُخْلَقْ مِثْلُهَا فِي الْبِل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ثَمُودَ الَّذِينَ جَابُوا الصَّخْرَ بِالْو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فِرْعَوْنَ ذِي الأوْت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نَ طَغَوْا فِي الْبِل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أَكْثَرُوا فِيهَا الْفَسَادَ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صَبَّ عَلَيْهِمْ رَبُّكَ سَوْطَ عَذَاب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رَبَّكَ لَبِالْمِرْص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الإنْسَانُ إِذَا مَا ابْتَلاهُ رَبُّهُ فَأَكْرَمَهُ وَنَعَّمَهُ فَيَقُولُ رَبِّي أَكْرَمَن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0001160" y="285840"/>
            <a:ext cx="8429760" cy="671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إِذَا مَا ابْتَلاهُ فَقَدَرَ عَلَيْهِ رِزْقَهُ فَيَقُولُ رَبِّي أَهَانَن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كَلا بَل لا تُكْرِمُونَ الْيَتِيمَ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لا تَحَاضُّونَ عَلَى طَعَامِ الْمِسْكِين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تَأْكُلُونَ التُّرَاثَ أَكْلا لَم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تُحِبُّونَ الْمَالَ حُبًّا جَم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ذَا دُكَّتِ الأرْضُ دَكًّا دَك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جَاءَ رَبُّكَ وَالْمَلَكُ صَفًّا صَف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جِيءَ يَوْمَئِذٍ بِجَهَنَّمَ يَوْمَئِذٍ يَتَذَكَّرُ الإنْسَانُ وَأَنَّى لَهُ الذِّكْرَى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 يَا لَيْتَنِي قَدَّمْتُ لِحَيَاتِي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يَوْمَئِذٍ لا يُعَذِّبُ عَذَابَهُ أَحَدٌ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لا يُوثِقُ وَثَاقَهُ أَحَدٌ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يَا أَيَّتُهَا النَّفْسُ الْمُطْمَئِنَّةُ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ارْجِعِي إِلَى رَبِّكِ رَاضِيَةً مَرْضِيَّةً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ادْخُلِي فِي عِبَادِي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دْخُلِي جَنَّتِي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-15.wav" descr=""/>
          <p:cNvPicPr/>
          <p:nvPr/>
        </p:nvPicPr>
        <p:blipFill>
          <a:blip r:embed="rId2"/>
          <a:stretch/>
        </p:blipFill>
        <p:spPr>
          <a:xfrm>
            <a:off x="1328724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16-30.wav" descr=""/>
          <p:cNvPicPr/>
          <p:nvPr/>
        </p:nvPicPr>
        <p:blipFill>
          <a:blip r:embed="rId3"/>
          <a:stretch/>
        </p:blipFill>
        <p:spPr>
          <a:xfrm>
            <a:off x="12501720" y="-108000"/>
            <a:ext cx="2854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21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2657"/>
                            </p:stCondLst>
                            <p:childTnLst>
                              <p:par>
                                <p:cTn id="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1.04688 0.00185 E">
                                      <p:cBhvr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4657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008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214280" y="2786040"/>
            <a:ext cx="6643800" cy="201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Lotus"/>
              </a:rPr>
              <a:t> طغیانگری و گسترش فساد در روی زمین از سوی دنیاگران بر پایه نظام فکری و عملی دنیا مح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_s1032"/>
          <p:cNvSpPr/>
          <p:nvPr/>
        </p:nvSpPr>
        <p:spPr>
          <a:xfrm>
            <a:off x="1500120" y="1143000"/>
            <a:ext cx="6156360" cy="120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توبیخ و انذار نسبت به دنیاگرای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دلبستگی  و حب شدید مال دنیا، منشأ شکست در امتحان الهی و ریشه طغیان و کفران عاقبت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2  Bad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سوز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47"/>
          <p:cNvSpPr/>
          <p:nvPr/>
        </p:nvSpPr>
        <p:spPr>
          <a:xfrm>
            <a:off x="6516720" y="3271680"/>
            <a:ext cx="1490760" cy="24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سوگند برای تأکید جهت هدایتی سور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Calibri"/>
                <a:cs typeface="2  Badr"/>
              </a:rPr>
              <a:t>سوگند به میـعادهـای دل بریدن از دنیا در راستای تأکید بر جهت هدایتی سوره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_s1057"/>
          <p:cNvSpPr/>
          <p:nvPr/>
        </p:nvSpPr>
        <p:spPr>
          <a:xfrm>
            <a:off x="4716360" y="3271680"/>
            <a:ext cx="1492200" cy="24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هدید دنیاگرایان طغیان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Calibri"/>
                <a:cs typeface="2  Badr"/>
              </a:rPr>
              <a:t>عذاب سخت و دردناک، سرنوشتی است که پروردگار برای دنیازدگان طغیانگر رقم زده است؛ چرا که او در کمینگاه است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_s1067"/>
          <p:cNvSpPr/>
          <p:nvPr/>
        </p:nvSpPr>
        <p:spPr>
          <a:xfrm>
            <a:off x="2843280" y="3271680"/>
            <a:ext cx="1493640" cy="24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5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وبیخ نظام فکری و عملی دنیامح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Calibri"/>
                <a:cs typeface="2  Badr"/>
              </a:rPr>
              <a:t>توبیخ و انذار کسانی که برای مال دنیا ارزش اصالی قائلند و از حیثیت ابتلایی و امتحانیِ انعام و امساک الهی غفلت میورزند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77"/>
          <p:cNvSpPr/>
          <p:nvPr/>
        </p:nvSpPr>
        <p:spPr>
          <a:xfrm>
            <a:off x="1042920" y="3284640"/>
            <a:ext cx="1490760" cy="24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27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ngsana New"/>
                <a:cs typeface="2  Badr"/>
              </a:rPr>
              <a:t>بشارت به نفس مطمئ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Angsana New"/>
                <a:cs typeface="2  Badr"/>
              </a:rPr>
              <a:t>اطمینان و آرامش برخاسته از نگرش ابتلایی به دنیا، مایه آرامش و سعادت در عرصه معاد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متصل کننده پیکان مستقیم 9"/>
          <p:cNvCxnSpPr>
            <a:stCxn id="222" idx="0"/>
            <a:endCxn id="221" idx="2"/>
          </p:cNvCxnSpPr>
          <p:nvPr/>
        </p:nvCxnSpPr>
        <p:spPr>
          <a:xfrm flipH="1" flipV="1">
            <a:off x="4578120" y="2349000"/>
            <a:ext cx="268488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متصل کننده پیکان مستقیم 11"/>
          <p:cNvCxnSpPr>
            <a:stCxn id="223" idx="0"/>
            <a:endCxn id="221" idx="2"/>
          </p:cNvCxnSpPr>
          <p:nvPr/>
        </p:nvCxnSpPr>
        <p:spPr>
          <a:xfrm flipH="1" flipV="1">
            <a:off x="4578120" y="2349000"/>
            <a:ext cx="88488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متصل کننده پیکان مستقیم 13"/>
          <p:cNvCxnSpPr>
            <a:stCxn id="224" idx="0"/>
            <a:endCxn id="221" idx="2"/>
          </p:cNvCxnSpPr>
          <p:nvPr/>
        </p:nvCxnSpPr>
        <p:spPr>
          <a:xfrm flipV="1">
            <a:off x="3589920" y="2349000"/>
            <a:ext cx="98820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متصل کننده پیکان مستقیم 15"/>
          <p:cNvCxnSpPr>
            <a:stCxn id="225" idx="0"/>
            <a:endCxn id="221" idx="2"/>
          </p:cNvCxnSpPr>
          <p:nvPr/>
        </p:nvCxnSpPr>
        <p:spPr>
          <a:xfrm flipV="1">
            <a:off x="1786320" y="2349000"/>
            <a:ext cx="279144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357120" y="446040"/>
            <a:ext cx="8429760" cy="60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ْفَجْر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لَيَالٍ عَشْر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شَّفْعِ وَالْوَتْر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سْر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هَلْ فِي ذَلِكَ قَسَمٌ لِذِي حِجْر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تَرَ كَيْفَ فَعَلَ رَبُّكَ بِعَاد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إِرَمَ ذَاتِ الْعِم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الَّتِي لَمْ يُخْلَقْ مِثْلُهَا فِي الْبِل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ثَمُودَ الَّذِينَ جَابُوا الصَّخْرَ بِالْو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فِرْعَوْنَ ذِي الأوْت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نَ طَغَوْا فِي الْبِل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أَكْثَرُوا فِيهَا الْفَسَادَ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صَبَّ عَلَيْهِمْ رَبُّكَ سَوْطَ عَذَابٍ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رَبَّكَ لَبِالْمِرْصَاد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الإنْسَانُ إِذَا مَا ابْتَلاهُ رَبُّهُ فَأَكْرَمَهُ وَنَعَّمَهُ فَيَقُولُ رَبِّي أَكْرَمَن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0001160" y="285840"/>
            <a:ext cx="8429760" cy="671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إِذَا مَا ابْتَلاهُ فَقَدَرَ عَلَيْهِ رِزْقَهُ فَيَقُولُ رَبِّي أَهَانَن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كَلا بَل لا تُكْرِمُونَ الْيَتِيمَ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لا تَحَاضُّونَ عَلَى طَعَامِ الْمِسْكِينِ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تَأْكُلُونَ التُّرَاثَ أَكْلا لَم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تُحِبُّونَ الْمَالَ حُبًّا جَم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ذَا دُكَّتِ الأرْضُ دَكًّا دَك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جَاءَ رَبُّكَ وَالْمَلَكُ صَفًّا صَفًّا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جِيءَ يَوْمَئِذٍ بِجَهَنَّمَ يَوْمَئِذٍ يَتَذَكَّرُ الإنْسَانُ وَأَنَّى لَهُ الذِّكْرَى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 يَا لَيْتَنِي قَدَّمْتُ لِحَيَاتِي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يَوْمَئِذٍ لا يُعَذِّبُ عَذَابَهُ أَحَدٌ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لا يُوثِقُ وَثَاقَهُ أَحَدٌ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يَا أَيَّتُهَا النَّفْسُ الْمُطْمَئِنَّةُ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٧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ارْجِعِي إِلَى رَبِّكِ رَاضِيَةً مَرْضِيَّةً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٨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9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فَادْخُلِي فِي عِبَادِي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٩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QuranTaha"/>
              </a:rPr>
              <a:t>وَادْخُلِي جَنَّتِي 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٠</a:t>
            </a:r>
            <a:r>
              <a:rPr b="1" lang="ar-SA" sz="2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1-15.wav" descr=""/>
          <p:cNvPicPr/>
          <p:nvPr/>
        </p:nvPicPr>
        <p:blipFill>
          <a:blip r:embed="rId2"/>
          <a:stretch/>
        </p:blipFill>
        <p:spPr>
          <a:xfrm>
            <a:off x="1328724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6" name="16-30.wav" descr=""/>
          <p:cNvPicPr/>
          <p:nvPr/>
        </p:nvPicPr>
        <p:blipFill>
          <a:blip r:embed="rId3"/>
          <a:stretch/>
        </p:blipFill>
        <p:spPr>
          <a:xfrm>
            <a:off x="12501720" y="-108000"/>
            <a:ext cx="2854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92157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92657"/>
                            </p:stCondLst>
                            <p:childTnLst>
                              <p:par>
                                <p:cTn id="8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1.04688 0.00185 E">
                                      <p:cBhvr>
                                        <p:cTn id="83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4657"/>
                            </p:stCondLst>
                            <p:childTnLst>
                              <p:par>
                                <p:cTn id="8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1" dur="12008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3105720" y="1071720"/>
            <a:ext cx="256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راله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000080" y="1984320"/>
            <a:ext cx="707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(normal text)"/>
                <a:cs typeface="2  Lotus"/>
              </a:rPr>
              <a:t>آنچه خودت براي آزمايش ما به ما عطا فرموده</a:t>
            </a:r>
            <a:r>
              <a:rPr b="1" lang="en-US" sz="26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fa-IR" sz="2600" spc="-1" strike="noStrike">
                <a:solidFill>
                  <a:srgbClr val="000000"/>
                </a:solidFill>
                <a:latin typeface="(normal text)"/>
                <a:cs typeface="2  Lotus"/>
              </a:rPr>
              <a:t>اي را مايه دلبستگي و حب دنيا قرار مده و ما را در اين امتحان پيروز گردا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908520" y="3192480"/>
            <a:ext cx="94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000080" y="4556160"/>
            <a:ext cx="70722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(normal text)"/>
                <a:cs typeface="2  Lotus"/>
              </a:rPr>
              <a:t>نفس</a:t>
            </a:r>
            <a:r>
              <a:rPr b="1" lang="en-US" sz="2600" spc="-1" strike="noStrike">
                <a:solidFill>
                  <a:srgbClr val="000000"/>
                </a:solidFill>
                <a:latin typeface="(normal text)"/>
                <a:ea typeface="2  Lotus"/>
              </a:rPr>
              <a:t> </a:t>
            </a:r>
            <a:r>
              <a:rPr b="1" lang="fa-IR" sz="2600" spc="-1" strike="noStrike">
                <a:solidFill>
                  <a:srgbClr val="000000"/>
                </a:solidFill>
                <a:latin typeface="(normal text)"/>
                <a:cs typeface="2  Lotus"/>
              </a:rPr>
              <a:t>هاي ما را نيز نفس مطمئنه قرار ده تا به بهشت رضاي تو و جمع بندگان شايسته تو، دعوت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_s1037"/>
          <p:cNvSpPr/>
          <p:nvPr/>
        </p:nvSpPr>
        <p:spPr>
          <a:xfrm>
            <a:off x="2905200" y="3643200"/>
            <a:ext cx="1511280" cy="1209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B Zar"/>
              </a:rPr>
              <a:t>سیاق س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15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9"/>
          <p:cNvSpPr/>
          <p:nvPr/>
        </p:nvSpPr>
        <p:spPr>
          <a:xfrm>
            <a:off x="4594320" y="3643200"/>
            <a:ext cx="1511280" cy="1209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B Zar"/>
              </a:rPr>
              <a:t>سیاق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61"/>
          <p:cNvSpPr/>
          <p:nvPr/>
        </p:nvSpPr>
        <p:spPr>
          <a:xfrm>
            <a:off x="6361200" y="3643200"/>
            <a:ext cx="1511280" cy="1209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B Zar"/>
              </a:rPr>
              <a:t>سیاق ا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69"/>
          <p:cNvSpPr/>
          <p:nvPr/>
        </p:nvSpPr>
        <p:spPr>
          <a:xfrm>
            <a:off x="1139760" y="3643200"/>
            <a:ext cx="1511280" cy="1209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B Zar"/>
              </a:rPr>
              <a:t>سیاق چهار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27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B Zar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79"/>
          <p:cNvSpPr/>
          <p:nvPr/>
        </p:nvSpPr>
        <p:spPr>
          <a:xfrm>
            <a:off x="2643120" y="1714680"/>
            <a:ext cx="3810240" cy="817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IranNastaliq"/>
                <a:cs typeface="B Jadid"/>
              </a:rPr>
              <a:t>سوره مبارکه ف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متصل کننده پیکان مستقیم 28"/>
          <p:cNvCxnSpPr>
            <a:stCxn id="68" idx="2"/>
            <a:endCxn id="66" idx="0"/>
          </p:cNvCxnSpPr>
          <p:nvPr/>
        </p:nvCxnSpPr>
        <p:spPr>
          <a:xfrm>
            <a:off x="4547160" y="2532240"/>
            <a:ext cx="2569320" cy="11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متصل کننده پیکان مستقیم 30"/>
          <p:cNvCxnSpPr>
            <a:stCxn id="68" idx="2"/>
            <a:endCxn id="65" idx="0"/>
          </p:cNvCxnSpPr>
          <p:nvPr/>
        </p:nvCxnSpPr>
        <p:spPr>
          <a:xfrm>
            <a:off x="4547160" y="2532240"/>
            <a:ext cx="802440" cy="11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متصل کننده پیکان مستقیم 32"/>
          <p:cNvCxnSpPr>
            <a:stCxn id="68" idx="2"/>
            <a:endCxn id="64" idx="0"/>
          </p:cNvCxnSpPr>
          <p:nvPr/>
        </p:nvCxnSpPr>
        <p:spPr>
          <a:xfrm flipH="1">
            <a:off x="3660120" y="2532240"/>
            <a:ext cx="888120" cy="11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متصل کننده پیکان مستقیم 34"/>
          <p:cNvCxnSpPr>
            <a:stCxn id="68" idx="2"/>
            <a:endCxn id="67" idx="0"/>
          </p:cNvCxnSpPr>
          <p:nvPr/>
        </p:nvCxnSpPr>
        <p:spPr>
          <a:xfrm flipH="1">
            <a:off x="1894680" y="2532240"/>
            <a:ext cx="2653560" cy="11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897280" y="3936960"/>
            <a:ext cx="334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2696400" y="907920"/>
            <a:ext cx="37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656520" y="1681200"/>
            <a:ext cx="187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الْفَجْرِ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١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317400" y="2500200"/>
            <a:ext cx="246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لَيَالٍ عَشْرٍ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٢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143520" y="3459240"/>
            <a:ext cx="290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الشَّفْعِ وَالْوَتْرِ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٣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135960" y="4294080"/>
            <a:ext cx="2940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اللَّيْلِ إِذَا يَسْرِ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٤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152800" y="5160960"/>
            <a:ext cx="48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QuranTaha"/>
              </a:rPr>
              <a:t>هَلْ فِي ذَلِكَ قَسَمٌ لِذِي حِجْرٍ 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٥</a:t>
            </a:r>
            <a:r>
              <a:rPr b="1" lang="ar-SA" sz="2800" spc="-1" strike="noStrike">
                <a:solidFill>
                  <a:srgbClr val="00602b"/>
                </a:solidFill>
                <a:latin typeface="Times New Roman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1-5.wav" descr=""/>
          <p:cNvPicPr/>
          <p:nvPr/>
        </p:nvPicPr>
        <p:blipFill>
          <a:blip r:embed="rId2"/>
          <a:stretch/>
        </p:blipFill>
        <p:spPr>
          <a:xfrm>
            <a:off x="102870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205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1:58Z</dcterms:modified>
  <cp:revision>113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