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425-A29C-4369-947C-45218F7E71F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203-EC1C-477F-AB85-0C9262246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623-25E4-4136-AFCA-7A72422DED9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57B-4133-4F80-A2F9-34887892E2D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8D2-7082-4082-903E-2E6EA765F72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0017-EA28-47EF-98C8-511E69C0F20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شناسه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0FF-3211-4380-AAF1-783757C4B58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021E-3E90-41F4-8AAE-51F167B647D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AED-73AC-4094-B8D4-2BDB3D90C72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3093-C000-423B-8D88-581EBF9F2CA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فضای سخ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16F6-9BBC-4AF5-A1AE-A9FFE2D2B63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FB4-4B27-4F55-BD5C-2E982FF8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84C-35E2-4A8B-A0BE-01867026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96DA-D8A4-412E-B883-757CEBA3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A7781-7978-4AD6-9187-B3DFF82B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58B11-77A4-44A5-B252-5EA5F4F7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15DA6-983C-4EC1-9536-FA277D3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B0544-9047-4328-B2A0-2E85F87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CE21F-4216-4AA7-B899-FC641CA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19FD-1460-4C71-A388-9C3D3673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8BE67-AA91-4D35-AA8B-6E2E0B9F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253C7-8EB2-4AD0-ACCC-8EC411ED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23E73-770E-48B0-AD71-647F5329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460-659B-45BA-BFF7-921F6799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AB52B-7A23-452D-9B26-3D93C0F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A8D4C-E78E-44CD-BD77-9CA2641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1AB0D-0616-427F-A678-82A698A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4CB1A-8178-4A53-9F2A-7FD9ECB4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78446-252F-4D81-9433-148C9944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96A1-A97C-4E5E-8CAD-50BE743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A1363-FF75-4F5F-BBE0-F841028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13E4D-39E4-4D33-808C-6DBA55C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C2B58-E25D-4FCB-91E9-81040C2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A510A-331A-44FC-8AB7-0152FC27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7E7-D950-4F6B-A821-D4027573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6DD9B-3953-454B-9766-4A9BEF58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E159-8C4B-43EF-8663-38A0D58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5E0F-CC76-4078-9187-1E34B49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E7668-3843-47A6-B8C1-78A1C15C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A491-9CB4-4929-B96C-FD655902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9F44-A596-454C-8AE7-48EEBE7F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D02F7-8B33-4AD4-A4C0-FEADB95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5752-43E5-4E3A-B903-03EE80B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3230-C95B-46BC-9D41-04B7B57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D33B6-FD7B-4835-9F62-BEA3D7D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1545-2B9A-4D86-8800-EFBB3772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67ABF-9E31-4F85-A647-D32CA286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EFCD5-9AF3-40CA-AFF1-F43DCDA3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9B6D-DBA8-495A-BE27-069C2F1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BE65-274A-462F-A5CE-6CD868A5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18E24-B85D-4974-8E7B-156B925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A08A-2506-4CAB-AF26-D60386F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5BCB5-5C20-4959-9D36-88826BA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8AC6-4A5E-436C-944D-D618BF10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5D15B-75CA-41EA-BD7F-86F3612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62BD1-185C-439C-BE45-C5ED093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E0AB-6FAC-4A5E-B692-C614FEB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F8E14-C660-4DC4-BFFB-965DD52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D6C3F-8E69-4CA4-8E90-B287319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B650D-448E-43E7-8B1B-DDBFF2B6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39489-604E-434A-BD6C-5317E738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D83B8-6F0A-48BE-ADB7-45CACE3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1258A-2168-49A3-B89F-EE6870F8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2B6C5-7FF9-4162-A10F-11AE8A0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7ECC5-AF05-4841-A892-8AB537A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F1607-D7A1-4C47-85CD-7F2D68DC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58A9B-A68F-4645-955A-A042B84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E94-F19C-465B-9C72-BF98A64E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67F84-CDE7-46BD-B363-784438C0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F0420-4081-4353-A71D-82A0B16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5437A-6968-41A7-96CA-A45ED60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70D7C-04AD-4926-9A9F-BF21FD7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E4C0B-0A55-4227-B7D9-3D6008A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3C683-2DD4-4697-BDEE-F3CCA5A0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242F1-DC5C-4ABB-B13B-1615A488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05B18-395D-4C94-8CE8-A2BA40C1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368D4-CBB3-47BE-95A9-955CDD6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19972-D31D-4BB0-9F07-2A4ADFA6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BA46-5D76-4F3E-B40A-EDE285F8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6975E-487C-4C88-B2B6-C4864B6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EDC9C-75FB-4AF6-9EBB-8A73F89B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B9654-9108-4234-95BE-1B183A0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AAF7F-3DAC-4074-B690-B4EB1B6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5B47A-5CCA-46A9-80E0-4A91048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82C61-99D9-44CB-8307-E4DB4D2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73144-52E3-4D2B-9190-6693230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3C2B3-60AA-40AE-ACD4-8F6C0EF0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86715-BE76-4717-928E-DF555762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B08B-AA01-4CDF-A7B5-6BD6C990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7C4-F9CB-4615-BEB4-4A638AB7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B875-3FCE-4677-8B9D-8FCF5F0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AC6-6842-468C-9C52-A783E17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4EA-BEED-4504-9266-5E4EF8F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4D6-BD1D-435A-9271-71C498F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D61-07FF-4D3B-97BE-11B6430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7EC8-7FB9-49D6-BE58-457A3A2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1EB3-6A98-4532-ADFD-44DDAAC7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8017-88F5-4E2D-B853-90FB57CC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5624-6FF7-4FF2-A297-25080395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5F0D-D88B-49FC-852D-D76882A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03F9-1C5B-4FB7-9A87-4603ABB3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570F-E887-481B-8284-765AAF08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FAA-FC81-4039-A5C5-8AA1910E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5A5B-1406-48F1-B159-939CA92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04FB-B5CD-44A4-8A89-A0DF502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70DF-1A07-4C57-882E-F025B3E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A0F0-E10E-470D-8F4F-F405739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D12B-1D4E-4472-82BF-D1FB90F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2878-AD1D-4C65-86FA-71C0BC5D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5FEF-781B-4D33-94C2-C1B96313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41F1-9E60-4D9A-B7A8-8502BF69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C5D6-9140-4A0D-9E61-B8F32BC7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9C89-2C5F-46AD-B3EC-17779908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9B7-FD40-4BDE-A7A8-CF25A97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8C0E-5D22-48AF-9BF8-7E4D8CFC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062F-E432-440E-8CAC-DBDE37DD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FA65-28E9-40FC-A12E-900DE95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4C40-5920-4C98-9493-18D20E0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AC44-E38A-4FEA-B662-CF7B17B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B998-39BC-4C1F-B01D-8A54B4C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D191-ED48-421F-B456-9CFBEA54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FE56-317D-497E-A33C-B81A8676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821E-E227-4ADC-93B6-67E4D26F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FF10-366F-4E94-87DC-F02470AB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3B4-5128-4ECE-8577-D18E16F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8325-7A13-4AF9-BBC3-DDECDD9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ABD0-D417-4487-9B55-C0BAD56E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344E-2A86-4B54-AF8C-23012F7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E4F5-D725-4CF9-820A-EB5C5F2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6DD8-BABB-4546-BA98-B57141B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214E-839D-4D8C-BDF9-5CEE5F9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2C02-B826-4332-AE1B-ACF6572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D20E-8A80-4CA5-A4EF-75A3685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044FF-18A7-4EC3-A520-AD0C52D5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8AE3-F4E9-4C80-BBE7-9473F182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9AF-CEB9-41A9-8665-CD679CA9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2610F-BD6D-4061-9217-35FAA15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FECA-5B3A-45F5-8915-F1D5E672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109C-0A20-4FF6-9DA2-6F7C08E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5DEE2-7EF5-4EF5-BC39-C79B9A8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EEA2-8130-411F-B427-67764A6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9E11-B3F3-455F-8D35-E26492A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E589-8051-45B2-8BDE-89524594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B150-7F59-45AB-9A2E-B2396D4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E43B-12AD-4425-9F33-E7C4362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B0C07-A729-4E91-9112-4833DB6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A1B-B16A-4ACC-A94F-F740D10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2A6D-2EFF-4230-94D3-4BAF15BD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E285-F439-4CDD-A79C-C51D3251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02FB-F69C-4C3A-A74E-FBFFC2C2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D858-0B35-453D-8C34-78511CA1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BFBA-2142-4B46-85FF-F72F7E0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DB6E-7663-49F6-9C39-8A92447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3C27-2051-415A-8ED9-9942C737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894A-91E3-4AD8-8CEA-56EE800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F4167-C89C-450F-A1FD-4EE83F7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A8B5C-3EC2-44B9-9158-3B4AE13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FE3-1F9D-4E67-A10E-DABA75B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F303-B761-4193-9B3D-BD08623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B472D-E55F-41E4-808E-80A806C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32F3-CF62-46DF-A365-9B2164C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9AB7-F365-47DD-9CFF-32731854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1566-DB0A-4826-B55E-F4EA3FEE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3F15F-7CEC-462B-8921-A85C45BB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66EA-9BBF-4973-81C2-4F4963B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8C9B-739B-4E1F-97D7-94CB14B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ABE7C-77E6-40DD-8F3F-2103CB8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42D7-F1A2-4E70-9B62-CF74F99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455-AB20-41E1-8ADC-F0852DB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933D-92E3-4C6B-9663-E472A01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F05C-C99C-4968-96CF-93AD91D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1AE8-566D-4D6C-A9B7-623AF22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79C1-9153-43F3-B20E-04F42054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D0A2-7973-43F8-AC29-D56704C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E56BB-7522-43F4-B728-614CCC3E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E6C6C-6D9C-4305-9C29-3DE4628A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56147-10E0-44D7-A590-74002AA5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6EE31-8670-4F1C-84E1-1C5F998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C5A7C-5DE5-484A-AA0A-290818D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99E-9469-4255-BD1D-13FE927A8EE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9AD-95AA-4801-B160-599ECE7A7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E3E-3E4F-4A7C-AC65-8626C50E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7B6F-AA91-4264-8B28-AB18D565B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FEBA-6009-4FA1-9817-535A0825E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53E9-31C5-4422-9BB6-E38ACA54C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07F-F0BD-4D99-B192-9B817C67D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054-22A2-438C-99FE-0BBF6906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886-76E2-4E4A-8965-5DC5B1DC5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851-FED2-4C33-989C-A299CE559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F6C-4C23-4725-939C-966A90213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00B-FED7-413D-BE95-D35764A6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7B8-15FD-497D-88A0-EDA7C5D78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5C09-A393-4724-A527-6044F905D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6d9f1"/>
                </a:solidFill>
                <a:latin typeface="Calibri"/>
                <a:cs typeface="B Nazanin"/>
              </a:rPr>
              <a:t>تدبّر در سوره نا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1824120" y="2093760"/>
            <a:ext cx="57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Mj_Granada Outline"/>
              </a:rPr>
              <a:t>بِسْمِ اللَّهِ الرَّحْمَنِ الرَّحِ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besm.wav" descr=""/>
          <p:cNvPicPr/>
          <p:nvPr/>
        </p:nvPicPr>
        <p:blipFill>
          <a:blip r:embed="rId2"/>
          <a:stretch/>
        </p:blipFill>
        <p:spPr>
          <a:xfrm>
            <a:off x="-1785960" y="214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679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679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7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7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7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4"/>
          <p:cNvSpPr/>
          <p:nvPr/>
        </p:nvSpPr>
        <p:spPr>
          <a:xfrm>
            <a:off x="-3507120" y="1989000"/>
            <a:ext cx="161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لزوم پناه بردن به خدا از شر وسوسه</a:t>
            </a:r>
            <a:r>
              <a:rPr b="0" lang="en-US" sz="72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گر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527040" y="41497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از شر وسوسه</a:t>
            </a:r>
            <a:r>
              <a:rPr b="1" lang="en-US" sz="2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گران جن و انس به پروردگار، فرمانروا و معبود مرد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پناه بب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7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7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9" name="Content Placeholder 2"/>
          <p:cNvSpPr/>
          <p:nvPr/>
        </p:nvSpPr>
        <p:spPr>
          <a:xfrm>
            <a:off x="4857840" y="2438280"/>
            <a:ext cx="3581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قُلْ أَعُوذُ بِرَبِّ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ontent Placeholder 2"/>
          <p:cNvSpPr/>
          <p:nvPr/>
        </p:nvSpPr>
        <p:spPr>
          <a:xfrm>
            <a:off x="2857680" y="2438280"/>
            <a:ext cx="221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َلِكِ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Content Placeholder 2"/>
          <p:cNvSpPr/>
          <p:nvPr/>
        </p:nvSpPr>
        <p:spPr>
          <a:xfrm>
            <a:off x="1000080" y="25146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لَهِ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Content Placeholder 2"/>
          <p:cNvSpPr/>
          <p:nvPr/>
        </p:nvSpPr>
        <p:spPr>
          <a:xfrm>
            <a:off x="4686480" y="374004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ِنْ شَرِّ الْوَسْوَاسِ الْخَنَّاسِ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ontent Placeholder 2"/>
          <p:cNvSpPr/>
          <p:nvPr/>
        </p:nvSpPr>
        <p:spPr>
          <a:xfrm>
            <a:off x="71280" y="3711600"/>
            <a:ext cx="4724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 يُوَسْوِسُ فِي صُدُورِ النَّاسِ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ontent Placeholder 2"/>
          <p:cNvSpPr/>
          <p:nvPr/>
        </p:nvSpPr>
        <p:spPr>
          <a:xfrm>
            <a:off x="3083040" y="467676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ِنَ ا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لْ</a:t>
            </a: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جِنَّةِ وَ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2544840" y="114300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</a:t>
            </a:r>
            <a:r>
              <a:rPr b="0" lang="fa-IR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لهِ</a:t>
            </a:r>
            <a:r>
              <a:rPr b="0" lang="ar-SA" sz="3200" spc="-1" strike="noStrike">
                <a:solidFill>
                  <a:srgbClr val="000000"/>
                </a:solidFill>
                <a:latin typeface="Neirizi"/>
                <a:ea typeface="QuranTaha"/>
              </a:rPr>
              <a:t> الرَّحْمَنِ الرَّحِيمِ</a:t>
            </a:r>
            <a:r>
              <a:rPr b="0" lang="en-US" sz="3200" spc="-1" strike="noStrike">
                <a:solidFill>
                  <a:srgbClr val="000000"/>
                </a:solidFill>
                <a:latin typeface="Neirizi"/>
                <a:ea typeface="QuranTah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291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50161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2"/>
          <p:cNvSpPr/>
          <p:nvPr/>
        </p:nvSpPr>
        <p:spPr>
          <a:xfrm>
            <a:off x="-87480" y="2924280"/>
            <a:ext cx="92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7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7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7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400" spc="-1" strike="noStrike">
              <a:solidFill>
                <a:srgbClr val="000000"/>
              </a:solidFill>
              <a:latin typeface="Calibri"/>
              <a:ea typeface="2  Badr"/>
            </a:endParaRPr>
          </a:p>
        </p:txBody>
      </p:sp>
      <p:pic>
        <p:nvPicPr>
          <p:cNvPr id="651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4036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10"/>
          <p:cNvSpPr/>
          <p:nvPr/>
        </p:nvSpPr>
        <p:spPr>
          <a:xfrm>
            <a:off x="3801240" y="9079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یا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993600" y="17733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به حق محمّد و آل محمّد</a:t>
            </a:r>
            <a:r>
              <a:rPr b="1" lang="fa-IR" sz="1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1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به ما توفیق فهم و تدبّر در کلام دلنشینت را عنایت فرم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2"/>
          <p:cNvSpPr/>
          <p:nvPr/>
        </p:nvSpPr>
        <p:spPr>
          <a:xfrm>
            <a:off x="2575080" y="2576520"/>
            <a:ext cx="38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پروردگار مردم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1656720" y="328464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فرمانروای مطلق آدمیان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4"/>
          <p:cNvSpPr/>
          <p:nvPr/>
        </p:nvSpPr>
        <p:spPr>
          <a:xfrm>
            <a:off x="1824480" y="399240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 ای اله و معبود انسان ها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5"/>
          <p:cNvSpPr/>
          <p:nvPr/>
        </p:nvSpPr>
        <p:spPr>
          <a:xfrm>
            <a:off x="2714760" y="49417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از شر وسوسه گران جن و انس پناه 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2"/>
          <p:cNvSpPr/>
          <p:nvPr/>
        </p:nvSpPr>
        <p:spPr>
          <a:xfrm>
            <a:off x="-87480" y="2349360"/>
            <a:ext cx="92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-108000" y="292104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7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7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96720" y="743040"/>
            <a:ext cx="82407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2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7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7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7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2"/>
          <p:cNvSpPr/>
          <p:nvPr/>
        </p:nvSpPr>
        <p:spPr>
          <a:xfrm>
            <a:off x="1322280" y="177336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جنّیان و آدمیانی در دلهای مردم نفوذ کرده، ایشان را وسوسه می کنند و در زیر نقاب خیرخواهی، آنان را به بدی ها و زشتی ها فرا می خوان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1322280" y="386064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این شرّی بزرگ و تهدیدی جدّی در مسیر سعادت ابدی است و مردم نیازمند راهی برای نجات هست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2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7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7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Content Placeholder 2"/>
          <p:cNvSpPr/>
          <p:nvPr/>
        </p:nvSpPr>
        <p:spPr>
          <a:xfrm>
            <a:off x="4857840" y="2438280"/>
            <a:ext cx="3581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قُلْ أَعُوذُ بِرَبِّ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ontent Placeholder 2"/>
          <p:cNvSpPr/>
          <p:nvPr/>
        </p:nvSpPr>
        <p:spPr>
          <a:xfrm>
            <a:off x="2857680" y="2438280"/>
            <a:ext cx="2214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َلِكِ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ontent Placeholder 2"/>
          <p:cNvSpPr/>
          <p:nvPr/>
        </p:nvSpPr>
        <p:spPr>
          <a:xfrm>
            <a:off x="1000080" y="25146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لَهِ 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ontent Placeholder 2"/>
          <p:cNvSpPr/>
          <p:nvPr/>
        </p:nvSpPr>
        <p:spPr>
          <a:xfrm>
            <a:off x="4686480" y="374004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ِنْ شَرِّ الْوَسْوَاسِ الْخَنَّاسِ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Content Placeholder 2"/>
          <p:cNvSpPr/>
          <p:nvPr/>
        </p:nvSpPr>
        <p:spPr>
          <a:xfrm>
            <a:off x="71280" y="3711600"/>
            <a:ext cx="4724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 يُوَسْوِسُ فِي صُدُورِ النَّاسِ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ea typeface="Traditional Arabic"/>
              </a:rPr>
              <a:t> 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Content Placeholder 2"/>
          <p:cNvSpPr/>
          <p:nvPr/>
        </p:nvSpPr>
        <p:spPr>
          <a:xfrm>
            <a:off x="3083040" y="467676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ِنَ ا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لْ</a:t>
            </a: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جِنَّةِ وَ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لنَّاسِ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8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itle 1"/>
          <p:cNvSpPr/>
          <p:nvPr/>
        </p:nvSpPr>
        <p:spPr>
          <a:xfrm>
            <a:off x="2544840" y="114300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</a:t>
            </a:r>
            <a:r>
              <a:rPr b="0" lang="fa-IR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لهِ</a:t>
            </a:r>
            <a:r>
              <a:rPr b="0" lang="ar-SA" sz="3200" spc="-1" strike="noStrike">
                <a:solidFill>
                  <a:srgbClr val="000000"/>
                </a:solidFill>
                <a:latin typeface="Neirizi"/>
                <a:ea typeface="QuranTaha"/>
              </a:rPr>
              <a:t> الرَّحْمَنِ الرَّحِيمِ</a:t>
            </a:r>
            <a:r>
              <a:rPr b="0" lang="en-US" sz="3200" spc="-1" strike="noStrike">
                <a:solidFill>
                  <a:srgbClr val="000000"/>
                </a:solidFill>
                <a:latin typeface="Neirizi"/>
                <a:ea typeface="QuranTah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291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161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2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7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7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000000"/>
              </a:solidFill>
              <a:latin typeface="Calibri"/>
              <a:ea typeface="2  Badr"/>
            </a:endParaRPr>
          </a:p>
        </p:txBody>
      </p:sp>
      <p:pic>
        <p:nvPicPr>
          <p:cNvPr id="612" name="نگهدارنده مکان محتوا 3" descr=""/>
          <p:cNvPicPr/>
          <p:nvPr/>
        </p:nvPicPr>
        <p:blipFill>
          <a:blip r:embed="rId1"/>
          <a:stretch/>
        </p:blipFill>
        <p:spPr>
          <a:xfrm>
            <a:off x="-108000" y="2700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5065560" y="2639880"/>
            <a:ext cx="2017800" cy="56196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ea typeface="2  Lotus"/>
              </a:rPr>
              <a:t> به خد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1843200" y="2643120"/>
            <a:ext cx="2071440" cy="56196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Lotus"/>
              </a:rPr>
              <a:t>از شر وسوس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6792840" y="3443400"/>
            <a:ext cx="863640" cy="90468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بِرَب النَّ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5638680" y="3443400"/>
            <a:ext cx="865440" cy="90468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مَلِكِ النَّ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486320" y="3443400"/>
            <a:ext cx="863640" cy="90468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إِلَه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النَّ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1414440" y="3429000"/>
            <a:ext cx="2928960" cy="156996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مِن شرِّ الْوَسوَاسِ الخَْنَّاس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816360" y="1413000"/>
            <a:ext cx="1298520" cy="1073160"/>
          </a:xfrm>
          <a:prstGeom prst="rect">
            <a:avLst/>
          </a:prstGeom>
          <a:gradFill rotWithShape="0">
            <a:gsLst>
              <a:gs pos="0">
                <a:srgbClr val="8caee8"/>
              </a:gs>
              <a:gs pos="100000">
                <a:srgbClr val="e2e9f7"/>
              </a:gs>
            </a:gsLst>
            <a:lin ang="16200000"/>
          </a:gradFill>
          <a:ln w="9360">
            <a:solidFill>
              <a:srgbClr val="4774ab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Lotus"/>
              </a:rPr>
              <a:t>بگو پناه می بر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قل أعو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متصل کننده مستقیم 4"/>
          <p:cNvSpPr/>
          <p:nvPr/>
        </p:nvSpPr>
        <p:spPr>
          <a:xfrm>
            <a:off x="5114880" y="1949400"/>
            <a:ext cx="96048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متصل کننده مستقیم 13"/>
          <p:cNvSpPr/>
          <p:nvPr/>
        </p:nvSpPr>
        <p:spPr>
          <a:xfrm flipH="1">
            <a:off x="2879640" y="1948680"/>
            <a:ext cx="93672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متصل کننده مستقیم 15"/>
          <p:cNvSpPr/>
          <p:nvPr/>
        </p:nvSpPr>
        <p:spPr>
          <a:xfrm>
            <a:off x="6074640" y="3201840"/>
            <a:ext cx="11494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تصل کننده مستقیم 17"/>
          <p:cNvSpPr/>
          <p:nvPr/>
        </p:nvSpPr>
        <p:spPr>
          <a:xfrm flipH="1">
            <a:off x="6071760" y="3201840"/>
            <a:ext cx="324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متصل کننده مستقیم 21"/>
          <p:cNvSpPr/>
          <p:nvPr/>
        </p:nvSpPr>
        <p:spPr>
          <a:xfrm flipH="1">
            <a:off x="4917600" y="3201840"/>
            <a:ext cx="115740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متصل کننده مستقیم 23"/>
          <p:cNvSpPr/>
          <p:nvPr/>
        </p:nvSpPr>
        <p:spPr>
          <a:xfrm>
            <a:off x="2879640" y="320508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1241280" y="4030560"/>
            <a:ext cx="27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ى يُوَسوِس فى صدُورِ النَّاس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5"/>
          <p:cNvSpPr/>
          <p:nvPr/>
        </p:nvSpPr>
        <p:spPr>
          <a:xfrm>
            <a:off x="2001240" y="4540320"/>
            <a:ext cx="24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مِنَ الْجِنَّةِ وَ النَّ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8:11:26Z</dcterms:created>
  <dc:creator>YAALI</dc:creator>
  <dc:description/>
  <dc:language>en-US</dc:language>
  <cp:lastModifiedBy>ALI</cp:lastModifiedBy>
  <dcterms:modified xsi:type="dcterms:W3CDTF">2011-11-16T21:22:27Z</dcterms:modified>
  <cp:revision>119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