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8FF-3852-48AD-A0C3-A1B31D01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DCC-D393-4109-9046-3D84DD62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19D4-AC3C-4B09-9644-FB15344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515B1-7C62-43CD-BA7B-F96E5956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42CC6-99B5-488A-9C73-1AE26F0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A5B62-B364-477C-9AE2-C910254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451DA-43F5-446C-86F3-BCED80EF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60359-4273-483F-9DEB-51C10FD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3A621-FF35-45CB-B994-EDE9BC3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D20EB-0F53-4791-BB5E-57317E36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62C37-C4B3-403F-AE18-A76B70BA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26C1E-2253-478A-B9EA-00356358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101-29C6-47BA-84B9-3CF1F211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AAC2F-9863-4E33-9125-A244963A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46435-36A4-4C32-BD3E-9AFA875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342C2-E9DE-4B63-B1E4-B330DF6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F489-0292-482A-B16D-126B8DC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43DBA-5695-48B2-9AB6-BA842AD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9306-E977-4EEF-BD96-7852AC9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8D0C-4EBF-4A1A-BCEF-A9EE80A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2C68E-CD61-4C02-BE6D-2820418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61EE4-F5D6-4BC9-B924-F4EBB3FD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A77FC-23F6-4284-900F-0A5F0CEE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933-C390-4D94-8028-249F6DD9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43765-065D-4862-A0A9-C0088F2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DD14-8B27-46D4-A9DD-195134EB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A2A08-14F1-4707-8419-81967AED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1936-E163-4C04-BBCD-C44421FE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C796F-0F43-43AB-9FFA-9AFDA0C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94FBF-86D4-4085-B9B5-C2603A94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255FD-62C0-4667-A94A-A88C8C19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116C-981E-4C43-BBF7-404849C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277AD-E02F-4F13-AED3-1BC0D3B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C928F-FCD8-4814-884E-ACF4ACC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F6A-99C7-483F-B57B-28F80888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8A2AF-AC7A-45B7-894C-B4387895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A871F-1696-41F8-9B87-8C8E0C03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B49EF-FBC4-40BB-8E89-1542B934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7349E-5D26-4EA6-8902-AC778411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88F69-2328-43B3-AC27-D1C4A9E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6C108-AAB8-495C-B209-2C7C13D4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74B3A-FCC5-4F60-9DB6-1772498A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EF7A1-3309-4D3A-A81A-A60954D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87E8D-C7BA-4CF6-96CC-5139875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1EEB4-3E7C-469D-A38F-C21667BD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B84E-8B22-4837-B4C1-F33DB8CD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6B0CE-4E86-49D3-B2DB-EC76702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52695-FF0C-42C5-844B-A56A883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D5B76-FFAE-481A-88E6-49709D0E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BFEBD-BEA0-40A5-9CD1-86556F94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77AA7-F54B-4B7C-9FAE-2A6AAD80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003BC-D9F2-408E-BBDD-A867AF5C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1BA3B-8773-44F2-8916-853E3D0E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23BA4-C9EA-4D72-8368-9A3B0217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B1701-DCBD-4E57-905F-393AA1DF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D3A85-500F-47D1-824E-739C3D7B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7A8-A403-4ABD-AEF8-AE5F743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55C0D-2135-4E7D-9AE6-C457B0AF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55BEE-5707-46B4-92B0-CA2FE03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99691-8B88-4086-B810-0E8C23F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37A82-C1D0-4204-A1FB-0637A66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72F09-FF29-4873-989D-7768F3FA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FE331-1180-467A-AD0A-E12667D4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435F4-0115-4C0C-B0E8-3A1B9D91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C606-2109-4E51-87A9-CA49412A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32F1-8752-4875-A6AF-2211B09A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511F-6457-4C78-B0FB-DFE0011F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A8FD-4BD1-4875-B12A-0B061FA7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105-D71F-4DB6-8A99-E336D38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BA6D-3BB9-489F-B29C-148313C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B980-5CB6-4EC6-B919-4A0B0A3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1BD1-60E4-4288-857E-2C6F5E7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C982-189F-4EC3-B1CE-93B55018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9623-A04B-40DB-BA2A-BF5FB71E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F5B3-B2F3-4670-9ED1-80890414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397D-FDC8-47CC-B480-B36B0B32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CBB4-8EB9-44D1-B9F9-460D02FE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5DBF-9B20-4065-9AB7-E4261AC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6B25-5C66-410B-AC14-63D5B80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DD9-59DF-46F7-ABB9-E122BE3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CB87-C0F3-4D5C-B4AA-F32356C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9767-5D58-41A3-BE32-B296467B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02FD-E721-48C2-B710-87F1723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4EF1-70EB-4B31-8114-4584856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9389-C187-4F18-B1CC-A3CB41C6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0F50-4B93-4AF7-A5A3-E0F7174D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4A6D-F3E0-4EF2-B5BD-3B07934D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BCF8-3063-42B7-9074-66D0598C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770F-CFB2-40F7-8936-8AA07599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93DB-4A30-49A9-BC59-A8FD3C69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77C-CA1F-4981-A888-51C710D8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BF90-7AC9-4D48-9A3F-A8ADF534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48CC-DBF6-43B4-BCFA-4250B7C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01D4-FB3A-498C-B94A-3AE0B55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1BAE-B117-42F1-BFD2-B9E26A5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8370-94BB-4A00-84D5-87005E2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5A06-71EC-40FA-BB57-3C2E1A2B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8219-056A-427D-B4E2-9BF003A9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C756-2C15-4CE0-9381-1F270959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F0E4B-3AC6-428C-9F1C-70957902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6CF2-3D71-4350-88E2-3A94F42C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993-ADEF-4953-A5FC-94E08091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4D88-EC33-46D2-95F6-8065BE1E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7A47-7B79-4BEF-BAA4-D90E0275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9159-19E4-4BBB-ABD6-909AEA2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8FD5-821F-43B9-94BB-C379926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28B9-DDA4-4E93-8EC7-7CA39C51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EC05D-14FF-4E5C-AA2A-65507AB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112E8-416A-40BD-BCE0-EAF0EFB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335A-EC1B-4322-A3A5-8B2E115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3595-FFD8-4FCD-8492-F634D516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8750-0CB5-49B2-B4A1-AF85C7E9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A6B-457C-4244-9A7F-70E45636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A1FCE-9A59-4806-BCA8-6617BBEA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5B5E-4600-4D96-A3C7-EC8ED2E2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226B-D9C2-4AC1-B75F-7217BA1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527FB-368E-49B4-B4AF-78DD7D2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03B3-F145-47D9-9D88-0584DB5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72E2-9CDD-4C09-8FBA-243B08B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32BC-C527-4F37-BF83-A4C4104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4A5B-FD3E-419A-A095-254EA0D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4D565-79C4-40EB-BB88-5A59C6F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B983-BCB9-421A-8674-B2BE15EA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640-78FA-4353-8931-6B03DF3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510D4-929A-4EDA-8A4C-FA5CA17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62FEB-F5B8-4383-808A-45B4F35B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A865-4613-4B18-AF76-C1E261C8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8C51-86A1-4432-82B7-E8557D5E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CEB97-A571-423F-AE22-166AF0D8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15B21-CCF1-42AB-8D51-0C5555A7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A0BD-7C8B-4C99-A1DC-7BD03223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60BD-87EC-43A6-897F-EBC63AD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89E19-8171-4513-90AB-669482B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4B5D-68DB-4C6D-A945-85CD7C7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044-3C79-44AC-93F6-88C6D03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81D8-DC32-4EFD-8DD9-6B11D2D0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EEDC-E326-48A0-8298-F36796A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7B2B-7F4D-4040-ABB1-161BF44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6421-2043-48A2-AC9C-AA8A3737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4B8F-836D-4CA4-815A-BEC55F0F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EA75F-7B9E-470F-AC64-53FEF175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C8A63-34C5-4A9D-B941-B3976231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A77B6-CB77-4B56-81DB-2A6793A1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06C8-8EC5-48CC-9F90-93612D9B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9BB7-5ED6-47FC-B054-5A039D67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887-07AB-42B2-BA1A-38CBE9BF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6734-4138-4BD8-89A3-7D09375E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6058-0902-40EB-946A-8580AC3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6895C-E4FD-45F8-B3C1-5FC486D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0EBBE-3B05-4AA0-81C2-20FF6F0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09FB-1F87-40E9-AC23-EB6340B3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7E8C-E288-49DA-BE73-2CDE4CD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BFE2-E7EE-48D2-894D-E9F1A6D5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1C56C-C0C3-46FD-A2D7-7227939D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F3CB4-1703-4E24-9656-A71ABB84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037F4-FAB3-46C9-92B5-FFF9C5E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F180-4576-4670-B87E-84DED5AE070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D79-92EE-4EF0-B57C-81CC9DB62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FC13-74AF-4213-AC6B-C59B27F9F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7E6-538F-4893-A5A6-B2F19E2FB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8A3-8F6A-4E18-8079-0E2C8F9D8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5C5-B3E8-47BE-B319-F0FA5A9A6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9B10-F6B7-4197-AAB1-A24F514EE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C305-1851-4774-89A3-D86B68B6F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BACD-55A4-4025-9A7B-9AA182AA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A041-AFF2-4FD1-9F9F-F6D265712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39F-ED2A-4FD5-B544-D1AE10866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A4E-6978-4711-ADB9-6D5BB78E5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DA79-ED24-4A3B-AFE6-57453B7B9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Arax\Desktop\4-1304347837Hashieh 4 (595) copy.jpg"/>
          <p:cNvPicPr/>
          <p:nvPr/>
        </p:nvPicPr>
        <p:blipFill>
          <a:blip r:embed="rId2"/>
          <a:stretch/>
        </p:blipFill>
        <p:spPr>
          <a:xfrm>
            <a:off x="0" y="2365200"/>
            <a:ext cx="9144000" cy="18558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46418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0000"/>
                </a:solidFill>
                <a:latin typeface="Calibri"/>
                <a:cs typeface="Mj_Granada Outline"/>
              </a:rPr>
              <a:t>تدبر در سوره مبارکه مس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besm-masad.wav" descr=""/>
          <p:cNvPicPr/>
          <p:nvPr/>
        </p:nvPicPr>
        <p:blipFill>
          <a:blip r:embed="rId3"/>
          <a:stretch/>
        </p:blipFill>
        <p:spPr>
          <a:xfrm>
            <a:off x="1078704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28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28"/>
                            </p:stCondLst>
                            <p:childTnLst>
                              <p:par>
                                <p:cTn id="13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"/>
          <p:cNvSpPr/>
          <p:nvPr/>
        </p:nvSpPr>
        <p:spPr>
          <a:xfrm>
            <a:off x="642960" y="714240"/>
            <a:ext cx="7848720" cy="76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أکید بر شکست اقدامات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بولهب  و تباهی شخصیتش در دشمنی با خد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000080" y="4286160"/>
            <a:ext cx="7272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2  Badr"/>
              </a:rPr>
              <a:t>همه کسانی که مال و جاهشان را در دشمنی با خدا به کار می گیر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2  Badr"/>
              </a:rPr>
              <a:t>و همه پشتیبانان ایشان به شکست و تباهی محکوم ا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2685960" y="4762440"/>
            <a:ext cx="3772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فِی جِیدِهَا حَبْلٌ مِنْ مَسَدٍ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2672640" y="1387440"/>
            <a:ext cx="379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اللَّهِ الرَّحْمَنِ الرَّحِیم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4297680" y="2695680"/>
            <a:ext cx="425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تَبَّتْ یدَا أَبِی لَهَبٍ وَتَبَّ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raditional Arabi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255240" y="2695680"/>
            <a:ext cx="49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َا أَغْنَى عَنْهُ مَالُهُ وَمَا كَسَبَ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0" lang="en-US" sz="2800" spc="-1" strike="noStrike">
                <a:solidFill>
                  <a:srgbClr val="0d7d1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4041360" y="3767040"/>
            <a:ext cx="425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سَیصْلَى نَارًا ذَاتَ لَهَبٍ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en-US" sz="28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761400" y="3767040"/>
            <a:ext cx="394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وَامْرَأَتُهُ حَمَّالَةَ الْحَطَبِ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288.MP3" descr=""/>
          <p:cNvPicPr/>
          <p:nvPr/>
        </p:nvPicPr>
        <p:blipFill>
          <a:blip r:embed="rId2"/>
          <a:stretch/>
        </p:blipFill>
        <p:spPr>
          <a:xfrm>
            <a:off x="1050120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4167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"/>
          <p:cNvSpPr/>
          <p:nvPr/>
        </p:nvSpPr>
        <p:spPr>
          <a:xfrm>
            <a:off x="-1928520" y="984240"/>
            <a:ext cx="1302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خدای قادر و ای عزیز شکست</a:t>
            </a:r>
            <a:r>
              <a:rPr b="0" lang="en-US" sz="6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ناپذیر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1857240" y="2349360"/>
            <a:ext cx="54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هیمنه پوشالی ابولهب های عصر ما را در هم شک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928800" y="31352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آنان را از رسیدن به اهداف شومشان در راه دشمنی با اسلام و قرآن عزیز مأیوس بگر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928800" y="434988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سردسته ابولهب های این عصر، آمریکا و اسرائیل جنایتکار را محو و نابود ک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928800" y="55389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ما را در شناخت و ایستادگی در برابر ابولهب های زمان خود یاری بفر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450720" y="731880"/>
            <a:ext cx="82425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2"/>
          <p:cNvSpPr/>
          <p:nvPr/>
        </p:nvSpPr>
        <p:spPr>
          <a:xfrm>
            <a:off x="611280" y="422748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پشت صحنه آتش زبانه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کش دشمنی او با خدا، هیزم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کشی قهار است. او همسر ابولهب است و می‌کوشد که آتش کینه او به خاموشی نگراید و شعله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ورتر گردد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ea typeface="2  Bad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611280" y="264312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تمام توانش را در دشمنی با خدا به کار گرفته، مال و جاهش را در این جهت سامان دهی می ک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4"/>
          <p:cNvSpPr/>
          <p:nvPr/>
        </p:nvSpPr>
        <p:spPr>
          <a:xfrm>
            <a:off x="2685960" y="4762440"/>
            <a:ext cx="3772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فِی جِیدِهَا حَبْلٌ مِنْ مَسَدٍ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2672640" y="1387440"/>
            <a:ext cx="379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اللَّهِ الرَّحْمَنِ الرَّحِیم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4297680" y="2695680"/>
            <a:ext cx="425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تَبَّتْ یدَا أَبِی لَهَبٍ وَتَبَّ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raditional Arabi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255240" y="2695680"/>
            <a:ext cx="49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مَا أَغْنَى عَنْهُ مَالُهُ وَمَا كَسَبَ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0" lang="en-US" sz="2800" spc="-1" strike="noStrike">
                <a:solidFill>
                  <a:srgbClr val="0d7d10"/>
                </a:solidFill>
                <a:latin typeface="Neirizi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4041360" y="3767040"/>
            <a:ext cx="425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سَیصْلَى نَارًا ذَاتَ لَهَبٍ</a:t>
            </a:r>
            <a:r>
              <a:rPr b="0" lang="en-US" sz="2800" spc="-1" strike="noStrike">
                <a:solidFill>
                  <a:srgbClr val="000000"/>
                </a:solidFill>
                <a:latin typeface="Neirizi"/>
                <a:ea typeface="QuranTaha"/>
              </a:rPr>
              <a:t> 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r>
              <a:rPr b="1" lang="en-US" sz="2800" spc="-1" strike="noStrike">
                <a:solidFill>
                  <a:srgbClr val="0d7d10"/>
                </a:solidFill>
                <a:latin typeface="Times New Roman"/>
                <a:ea typeface="Traditional Arab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761400" y="3767040"/>
            <a:ext cx="394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وَامْرَأَتُهُ حَمَّالَةَ الْحَطَبِ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288.MP3" descr=""/>
          <p:cNvPicPr/>
          <p:nvPr/>
        </p:nvPicPr>
        <p:blipFill>
          <a:blip r:embed="rId2"/>
          <a:stretch/>
        </p:blipFill>
        <p:spPr>
          <a:xfrm>
            <a:off x="1050120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1671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1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8" name="Text Box 2"/>
          <p:cNvSpPr/>
          <p:nvPr/>
        </p:nvSpPr>
        <p:spPr>
          <a:xfrm>
            <a:off x="3611520" y="919080"/>
            <a:ext cx="1920960" cy="1214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تأكيد بر ناکارآمدی اقدام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و تباهی شخصیت ابوله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5537160" y="2521080"/>
            <a:ext cx="1655640" cy="107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َبَّت يَدَا أَبى لَهَب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ناکارآمدی اقدامات ابوله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075040" y="2521080"/>
            <a:ext cx="1536480" cy="107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وَ تَب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تباهی شخصیت ابوله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5537160" y="3817800"/>
            <a:ext cx="1655640" cy="11383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مَا أَغْنى عَنْه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او را به اهدافش نرسا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1214280" y="3857760"/>
            <a:ext cx="3267360" cy="2052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سيَصلى نَاراً ذَات لهََب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وَ امْرَأَتُهُ حَمَّالَةَ الْحَطبِ فى جِيدِهَا حَبْلٌ مِّن مَّسد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به آتش درآمدن او و همسرش که پشتیبان او در دشمنی با خدا بود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6541920" y="5181480"/>
            <a:ext cx="1300320" cy="689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مَالُه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ثروت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4881600" y="5181480"/>
            <a:ext cx="1299960" cy="689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وَ مَا كس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جاه و قدرت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متصل کننده مستقیم 10"/>
          <p:cNvSpPr/>
          <p:nvPr/>
        </p:nvSpPr>
        <p:spPr>
          <a:xfrm>
            <a:off x="5541840" y="1552680"/>
            <a:ext cx="822600" cy="9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متصل کننده مستقیم 12"/>
          <p:cNvSpPr/>
          <p:nvPr/>
        </p:nvSpPr>
        <p:spPr>
          <a:xfrm flipH="1">
            <a:off x="2843280" y="1525680"/>
            <a:ext cx="76824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متصل کننده پیکان مستقیم 15"/>
          <p:cNvCxnSpPr>
            <a:stCxn id="559" idx="1"/>
            <a:endCxn id="560" idx="3"/>
          </p:cNvCxnSpPr>
          <p:nvPr/>
        </p:nvCxnSpPr>
        <p:spPr>
          <a:xfrm flipH="1">
            <a:off x="3610800" y="3060360"/>
            <a:ext cx="19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8" name="متصل کننده پیکان مستقیم 17"/>
          <p:cNvCxnSpPr>
            <a:stCxn id="560" idx="2"/>
            <a:endCxn id="562" idx="0"/>
          </p:cNvCxnSpPr>
          <p:nvPr/>
        </p:nvCxnSpPr>
        <p:spPr>
          <a:xfrm>
            <a:off x="2842200" y="3600000"/>
            <a:ext cx="5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9" name="متصل کننده پیکان مستقیم 19"/>
          <p:cNvCxnSpPr>
            <a:stCxn id="559" idx="2"/>
            <a:endCxn id="561" idx="0"/>
          </p:cNvCxnSpPr>
          <p:nvPr/>
        </p:nvCxnSpPr>
        <p:spPr>
          <a:xfrm>
            <a:off x="6364080" y="360036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0" name="متصل کننده مستقیم 21"/>
          <p:cNvSpPr/>
          <p:nvPr/>
        </p:nvSpPr>
        <p:spPr>
          <a:xfrm>
            <a:off x="6364440" y="4956120"/>
            <a:ext cx="82836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متصل کننده مستقیم 25"/>
          <p:cNvSpPr/>
          <p:nvPr/>
        </p:nvSpPr>
        <p:spPr>
          <a:xfrm flipH="1">
            <a:off x="5532120" y="4956120"/>
            <a:ext cx="83196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1:56:55Z</dcterms:created>
  <dc:creator>YAALI</dc:creator>
  <dc:description/>
  <dc:language>en-US</dc:language>
  <cp:lastModifiedBy>ALI</cp:lastModifiedBy>
  <dcterms:modified xsi:type="dcterms:W3CDTF">2011-11-16T21:23:30Z</dcterms:modified>
  <cp:revision>33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