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4AF-F22B-4A00-ACFD-91C1524A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659-6F67-4C79-BF5C-0E76869E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AD3-8E18-473F-8CD4-2485158F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F2F-9D52-45F8-9319-9A372335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D16-912C-420F-B07E-939731E5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7C6-8974-4C49-AB8F-EA3F7592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291-918B-4056-89FA-54AF54FF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B3E-BD2B-4C41-96C1-1399F9D9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5AF-71FD-4E0D-ADC2-EAA7CB5B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C36-0B2A-4A84-B684-9396BF31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FA7-DF86-42EE-AC96-4C2706F6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DC3-81EA-4F3E-A25F-F251FCB0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DD02-4E96-4349-A232-217D6849C3C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6778800" y="1474920"/>
            <a:ext cx="2693880" cy="5389560"/>
          </a:xfrm>
          <a:prstGeom prst="rect">
            <a:avLst/>
          </a:prstGeom>
          <a:ln w="0">
            <a:noFill/>
          </a:ln>
        </p:spPr>
      </p:pic>
      <p:pic>
        <p:nvPicPr>
          <p:cNvPr id="43" name="besm.wav" descr=""/>
          <p:cNvPicPr/>
          <p:nvPr/>
        </p:nvPicPr>
        <p:blipFill>
          <a:blip r:embed="rId3"/>
          <a:stretch/>
        </p:blipFill>
        <p:spPr>
          <a:xfrm>
            <a:off x="-17146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874.999969482422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5214960" y="1643040"/>
            <a:ext cx="2928960" cy="12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2  Lotus"/>
              </a:rPr>
              <a:t>پیامبر اعظم</a:t>
            </a:r>
            <a:r>
              <a:rPr b="0" lang="fa-IR" sz="2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03400" y="2428920"/>
            <a:ext cx="3325680" cy="12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2  Lotus"/>
              </a:rPr>
              <a:t>رهبران دینی در هر زم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14960" y="3333600"/>
            <a:ext cx="29289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2  Lotus"/>
              </a:rPr>
              <a:t>پیروان آن حضر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03400" y="4116240"/>
            <a:ext cx="3325680" cy="11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2  Lotus"/>
              </a:rPr>
              <a:t>پیروان آ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6"/>
          <p:cNvCxnSpPr>
            <a:stCxn id="93" idx="2"/>
            <a:endCxn id="95" idx="0"/>
          </p:cNvCxnSpPr>
          <p:nvPr/>
        </p:nvCxnSpPr>
        <p:spPr>
          <a:xfrm flipH="1">
            <a:off x="6679440" y="2857680"/>
            <a:ext cx="1080" cy="47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7"/>
          <p:cNvCxnSpPr>
            <a:stCxn id="94" idx="2"/>
            <a:endCxn id="96" idx="0"/>
          </p:cNvCxnSpPr>
          <p:nvPr/>
        </p:nvCxnSpPr>
        <p:spPr>
          <a:xfrm flipH="1">
            <a:off x="2765160" y="3681360"/>
            <a:ext cx="216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8"/>
          <p:cNvCxnSpPr>
            <a:stCxn id="95" idx="1"/>
            <a:endCxn id="96" idx="3"/>
          </p:cNvCxnSpPr>
          <p:nvPr/>
        </p:nvCxnSpPr>
        <p:spPr>
          <a:xfrm flipH="1">
            <a:off x="4428360" y="3946680"/>
            <a:ext cx="786600" cy="75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AutoShape 9"/>
          <p:cNvCxnSpPr>
            <a:stCxn id="93" idx="1"/>
            <a:endCxn id="94" idx="3"/>
          </p:cNvCxnSpPr>
          <p:nvPr/>
        </p:nvCxnSpPr>
        <p:spPr>
          <a:xfrm flipH="1">
            <a:off x="4428360" y="2248560"/>
            <a:ext cx="786600" cy="80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2286000" y="24591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-3350160" y="1357200"/>
            <a:ext cx="1584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قویت جبهه ایمان دربرابر ابرقدرت نمای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28800" y="4187880"/>
            <a:ext cx="7358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دشمنان حق و حقیقت نیز عاقبت خود را در این آینه شفاف نظاره کن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28800" y="2830680"/>
            <a:ext cx="7358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رسول خدا</a:t>
            </a:r>
            <a:r>
              <a:rPr b="0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2  Badr"/>
              </a:rPr>
              <a:t>، </a:t>
            </a:r>
            <a:r>
              <a:rPr b="0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رهبران الهی و همه مؤمنان، رفتار خدا با اصحاب فیل را ببینند و دربرابر ابرقدرت نمایان احساس ضعف نکنن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7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214720" y="4773600"/>
            <a:ext cx="47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َجَعَلَهُمْ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كَعَصْفٍ مَأْكُولٍ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324520" y="1500120"/>
            <a:ext cx="44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39760" y="221472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أَلَمْ تَرَ كَيْفَ فَعَلَ رَبُّكَ بِأَصْحَابِ الْفِيلِ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834200" y="2844720"/>
            <a:ext cx="53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أَلَمْ يَجْعَلْ كَيْدَهُمْ فِي تَضْلِيلٍ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972440" y="3500280"/>
            <a:ext cx="50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أَرْسَلَ عَلَيْهِمْ طَيْرًا أَبَابِيل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957320" y="4130640"/>
            <a:ext cx="51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تَرْمِيهِمْ بِحِجَارَةٍ مِنْ سِجِّيلٍ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282.MP3" descr=""/>
          <p:cNvPicPr/>
          <p:nvPr/>
        </p:nvPicPr>
        <p:blipFill>
          <a:blip r:embed="rId2"/>
          <a:stretch/>
        </p:blipFill>
        <p:spPr>
          <a:xfrm>
            <a:off x="110728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882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1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-911160" y="4130640"/>
            <a:ext cx="108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(normal text)"/>
                <a:cs typeface="2  Badr"/>
              </a:rPr>
              <a:t>دشمنان اسلام را نيز در هر زمان و مكاني نابود بفرم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85920" y="1500120"/>
            <a:ext cx="655308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ي خدايي كه با دست قدرت خود به وسيله پرندگاني كوچك سپاه فيل سوران را نابود كردي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6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785880" y="781200"/>
            <a:ext cx="75358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214720" y="4773600"/>
            <a:ext cx="47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َجَعَلَهُمْ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كَعَصْفٍ مَأْكُولٍ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324520" y="1500120"/>
            <a:ext cx="44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139760" y="221472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أَلَمْ تَرَ كَيْفَ فَعَلَ رَبُّكَ بِأَصْحَابِ الْفِيلِ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834200" y="2844720"/>
            <a:ext cx="53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أَلَمْ يَجْعَلْ كَيْدَهُمْ فِي تَضْلِيلٍ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972440" y="3500280"/>
            <a:ext cx="50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أَرْسَلَ عَلَيْهِمْ طَيْرًا أَبَابِيل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957320" y="4130640"/>
            <a:ext cx="51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تَرْمِيهِمْ بِحِجَارَةٍ مِنْ سِجِّيلٍ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82.MP3" descr=""/>
          <p:cNvPicPr/>
          <p:nvPr/>
        </p:nvPicPr>
        <p:blipFill>
          <a:blip r:embed="rId2"/>
          <a:stretch/>
        </p:blipFill>
        <p:spPr>
          <a:xfrm>
            <a:off x="110728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882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071720" y="3189240"/>
            <a:ext cx="707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مشاهده این تقابل نابرابر، زمینه ساز احساس ضعف در جبهه حق و احساس قوت در جبهه باطل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071720" y="1619280"/>
            <a:ext cx="700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دشمنان خدا و قرآن و رسول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با تكيه بر قدرت مادي خود، دربرابر حقیقت اسلام صف آرایی کرده، جز به نابودی آن راضی نمی شون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071720" y="4286160"/>
            <a:ext cx="707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به نظر می رسد که رسول اکرم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و طرفداران جبهه حق، توان مقابله با این دشمنان ابرقدرت را نداشته باشن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تصویر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4714920" y="2060640"/>
            <a:ext cx="345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2  Zar"/>
              </a:rPr>
              <a:t>أَ لَمْ تَرَ كَيْف فَعَلَ رَبُّك بِأَصحَابِ الْفِيل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714920" y="3143160"/>
            <a:ext cx="34574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2  Zar"/>
              </a:rPr>
              <a:t>أَ لَمْ يجْعَلْ كَيْدَهُمْ فى تَضلِيل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42920" y="3108240"/>
            <a:ext cx="28148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2  Zar"/>
              </a:rPr>
              <a:t>وَ أَرْسلَ عَلَيهِمْ طيراً أَبَابِيل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42920" y="4005360"/>
            <a:ext cx="28148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2  Zar"/>
              </a:rPr>
              <a:t>تَرْمِيهِم بحِجَارَةٍ مِّن سِجِّيل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42920" y="4941720"/>
            <a:ext cx="28148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2  Zar"/>
              </a:rPr>
              <a:t>فجَعَلَهُمْ كَعَصفٍ مَّأْكول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متصل کننده پیکان مستقیم 10"/>
          <p:cNvCxnSpPr>
            <a:stCxn id="81" idx="2"/>
            <a:endCxn id="82" idx="0"/>
          </p:cNvCxnSpPr>
          <p:nvPr/>
        </p:nvCxnSpPr>
        <p:spPr>
          <a:xfrm flipH="1">
            <a:off x="6443280" y="2631960"/>
            <a:ext cx="21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متصل کننده پیکان مستقیم 12"/>
          <p:cNvCxnSpPr>
            <a:stCxn id="82" idx="1"/>
            <a:endCxn id="83" idx="3"/>
          </p:cNvCxnSpPr>
          <p:nvPr/>
        </p:nvCxnSpPr>
        <p:spPr>
          <a:xfrm flipH="1" flipV="1">
            <a:off x="3857040" y="342864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متصل کننده پیکان مستقیم 14"/>
          <p:cNvCxnSpPr>
            <a:stCxn id="83" idx="2"/>
            <a:endCxn id="84" idx="0"/>
          </p:cNvCxnSpPr>
          <p:nvPr/>
        </p:nvCxnSpPr>
        <p:spPr>
          <a:xfrm flipH="1">
            <a:off x="2448720" y="3751200"/>
            <a:ext cx="252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متصل کننده پیکان مستقیم 16"/>
          <p:cNvCxnSpPr>
            <a:stCxn id="84" idx="2"/>
            <a:endCxn id="85" idx="0"/>
          </p:cNvCxnSpPr>
          <p:nvPr/>
        </p:nvCxnSpPr>
        <p:spPr>
          <a:xfrm flipH="1">
            <a:off x="2448720" y="4576680"/>
            <a:ext cx="25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4:37Z</dcterms:modified>
  <cp:revision>46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