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723F-11F8-4350-BA84-DA3167AD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09C-CD2C-44B9-9946-7CD7983E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1D0-6266-4117-838D-4F767446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670-18F3-4BB4-A8BE-A4D5D033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9DE-943D-46AE-980F-132B4E24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7DBC-64D8-450F-80FD-49B0F6AE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654E-321F-49B9-8793-86F950C9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74A-44CA-4B4B-A921-761E1742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996-2A12-44FE-8E44-5C884004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42E-FB41-4E51-AA6E-994BD940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14F-9935-404C-AD94-428DE682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138-2B9B-4AC3-AC9F-4CFCE727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CEC7-144F-4C0A-8BEF-74810A5E225D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4" name="Rectangle 4" descr=""/>
          <p:cNvPicPr/>
          <p:nvPr/>
        </p:nvPicPr>
        <p:blipFill>
          <a:blip r:embed="rId2"/>
          <a:stretch/>
        </p:blipFill>
        <p:spPr>
          <a:xfrm>
            <a:off x="30240" y="4138560"/>
            <a:ext cx="365112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besm.wav" descr=""/>
          <p:cNvPicPr/>
          <p:nvPr/>
        </p:nvPicPr>
        <p:blipFill>
          <a:blip r:embed="rId3"/>
          <a:stretch/>
        </p:blipFill>
        <p:spPr>
          <a:xfrm>
            <a:off x="10144080" y="428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0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25440"/>
            <a:ext cx="7772400" cy="147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3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94" name="Text Box 2"/>
          <p:cNvSpPr/>
          <p:nvPr/>
        </p:nvSpPr>
        <p:spPr>
          <a:xfrm>
            <a:off x="5986440" y="1857240"/>
            <a:ext cx="1371600" cy="34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Lotus"/>
              </a:rPr>
              <a:t>پیامبر اکر</a:t>
            </a:r>
            <a:r>
              <a:rPr b="1" lang="fa-IR" sz="1600" spc="-1" strike="noStrike">
                <a:solidFill>
                  <a:srgbClr val="000000"/>
                </a:solidFill>
                <a:latin typeface="Alaem"/>
                <a:cs typeface="Alaem"/>
              </a:rPr>
              <a:t>م</a:t>
            </a:r>
            <a:r>
              <a:rPr b="0" lang="fa-IR" sz="14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986440" y="2428920"/>
            <a:ext cx="1371600" cy="342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Lotus"/>
              </a:rPr>
              <a:t>دشمن ایش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757520" y="2428920"/>
            <a:ext cx="1371600" cy="342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Lotus"/>
              </a:rPr>
              <a:t>فقط او ابتر اس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890880" y="2428920"/>
            <a:ext cx="1371600" cy="342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Lotus"/>
              </a:rPr>
              <a:t>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57520" y="1857240"/>
            <a:ext cx="1371600" cy="34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Lotus"/>
              </a:rPr>
              <a:t>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890880" y="1857240"/>
            <a:ext cx="1371600" cy="34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Lotus"/>
              </a:rPr>
              <a:t>کوثر دار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Lotus"/>
              </a:rPr>
              <a:t>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AutoShape 8"/>
          <p:cNvCxnSpPr/>
          <p:nvPr/>
        </p:nvCxnSpPr>
        <p:spPr>
          <a:xfrm>
            <a:off x="6671880" y="21999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1" name="AutoShape 9"/>
          <p:cNvCxnSpPr/>
          <p:nvPr/>
        </p:nvCxnSpPr>
        <p:spPr>
          <a:xfrm>
            <a:off x="4576320" y="21999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AutoShape 10"/>
          <p:cNvCxnSpPr/>
          <p:nvPr/>
        </p:nvCxnSpPr>
        <p:spPr>
          <a:xfrm>
            <a:off x="2442960" y="21999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AutoShape 11"/>
          <p:cNvCxnSpPr/>
          <p:nvPr/>
        </p:nvCxnSpPr>
        <p:spPr>
          <a:xfrm flipH="1">
            <a:off x="5261760" y="2028960"/>
            <a:ext cx="724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2"/>
          <p:cNvCxnSpPr/>
          <p:nvPr/>
        </p:nvCxnSpPr>
        <p:spPr>
          <a:xfrm flipH="1">
            <a:off x="3128760" y="2028960"/>
            <a:ext cx="762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3"/>
          <p:cNvCxnSpPr/>
          <p:nvPr/>
        </p:nvCxnSpPr>
        <p:spPr>
          <a:xfrm flipH="1">
            <a:off x="5261760" y="2599920"/>
            <a:ext cx="7246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4"/>
          <p:cNvCxnSpPr/>
          <p:nvPr/>
        </p:nvCxnSpPr>
        <p:spPr>
          <a:xfrm flipH="1">
            <a:off x="3128760" y="2599920"/>
            <a:ext cx="762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Text Box 2"/>
          <p:cNvSpPr/>
          <p:nvPr/>
        </p:nvSpPr>
        <p:spPr>
          <a:xfrm>
            <a:off x="6014880" y="3871800"/>
            <a:ext cx="1371600" cy="34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Lotus"/>
              </a:rPr>
              <a:t>پیامبر اکر</a:t>
            </a:r>
            <a:r>
              <a:rPr b="1" lang="fa-IR" sz="1600" spc="-1" strike="noStrike">
                <a:solidFill>
                  <a:srgbClr val="000000"/>
                </a:solidFill>
                <a:latin typeface="Alaem"/>
                <a:cs typeface="Alaem"/>
              </a:rPr>
              <a:t>م</a:t>
            </a:r>
            <a:r>
              <a:rPr b="0" lang="fa-IR" sz="14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014880" y="4443480"/>
            <a:ext cx="1371600" cy="342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Lotus"/>
              </a:rPr>
              <a:t>دشمن ایش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785960" y="4443480"/>
            <a:ext cx="1371600" cy="342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Lotus"/>
              </a:rPr>
              <a:t>فقط او ابتر اس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919680" y="4443480"/>
            <a:ext cx="1371600" cy="342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Lotus"/>
              </a:rPr>
              <a:t>کوثر 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Lotus"/>
              </a:rPr>
              <a:t>ن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Lotus"/>
              </a:rPr>
              <a:t>دار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Lotus"/>
              </a:rPr>
              <a:t>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785960" y="3871800"/>
            <a:ext cx="1371600" cy="34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Lotus"/>
              </a:rPr>
              <a:t>ابتر 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Lotus"/>
              </a:rPr>
              <a:t>نی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Lotus"/>
              </a:rPr>
              <a:t>س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919680" y="3871800"/>
            <a:ext cx="1371600" cy="34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Lotus"/>
              </a:rPr>
              <a:t>کوثر دار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Lotus"/>
              </a:rPr>
              <a:t>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AutoShape 8"/>
          <p:cNvCxnSpPr/>
          <p:nvPr/>
        </p:nvCxnSpPr>
        <p:spPr>
          <a:xfrm>
            <a:off x="6700320" y="42145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AutoShape 9"/>
          <p:cNvCxnSpPr/>
          <p:nvPr/>
        </p:nvCxnSpPr>
        <p:spPr>
          <a:xfrm>
            <a:off x="4605120" y="42145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AutoShape 10"/>
          <p:cNvCxnSpPr/>
          <p:nvPr/>
        </p:nvCxnSpPr>
        <p:spPr>
          <a:xfrm>
            <a:off x="2471400" y="42145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AutoShape 11"/>
          <p:cNvCxnSpPr/>
          <p:nvPr/>
        </p:nvCxnSpPr>
        <p:spPr>
          <a:xfrm flipH="1">
            <a:off x="5290920" y="4043520"/>
            <a:ext cx="724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AutoShape 12"/>
          <p:cNvCxnSpPr/>
          <p:nvPr/>
        </p:nvCxnSpPr>
        <p:spPr>
          <a:xfrm flipH="1">
            <a:off x="3156840" y="40435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13"/>
          <p:cNvCxnSpPr/>
          <p:nvPr/>
        </p:nvCxnSpPr>
        <p:spPr>
          <a:xfrm flipH="1">
            <a:off x="5290920" y="4614840"/>
            <a:ext cx="724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14"/>
          <p:cNvCxnSpPr/>
          <p:nvPr/>
        </p:nvCxnSpPr>
        <p:spPr>
          <a:xfrm flipH="1">
            <a:off x="3156840" y="461484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2286000" y="245916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1800360" y="2158920"/>
            <a:ext cx="554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IranNastaliq"/>
                <a:cs typeface="IranNastaliq"/>
              </a:rPr>
              <a:t>جاودانگی پیامبر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IranNastaliq"/>
                <a:cs typeface="IranNastaliq"/>
              </a:rPr>
              <a:t>در پرتو اعطای کوثر وناپایداری دشمنان بدخواه آن حضرت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800360" y="3500280"/>
            <a:ext cx="55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Elephant"/>
                <a:cs typeface="2  Badr"/>
              </a:rPr>
              <a:t>رسول خدا</a:t>
            </a:r>
            <a:r>
              <a:rPr b="0" lang="fa-IR" sz="18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2  Badr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Elephant"/>
                <a:cs typeface="2  Badr"/>
              </a:rPr>
              <a:t>جاودان است، چون خدایش به او کوثر داده و دشمن بدخواه او، خود ابتر و ناپایدار اس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Neirizi"/>
              <a:ea typeface="Neiriz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898989"/>
              </a:solidFill>
              <a:latin typeface="Neirizi"/>
              <a:ea typeface="Neirizi"/>
            </a:endParaRPr>
          </a:p>
        </p:txBody>
      </p:sp>
      <p:pic>
        <p:nvPicPr>
          <p:cNvPr id="13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1763640" y="420516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إِنَّ شَانِئَكَ هُوَ الْأَبْتَرُ </a:t>
            </a:r>
            <a:r>
              <a:rPr b="1" lang="ar-SA" sz="2800" spc="-1" strike="noStrike">
                <a:solidFill>
                  <a:srgbClr val="005c2a"/>
                </a:solidFill>
                <a:latin typeface="Traditional Arabic"/>
                <a:cs typeface="Traditional Arabic"/>
              </a:rPr>
              <a:t>﴿</a:t>
            </a:r>
            <a:r>
              <a:rPr b="1" lang="fa-IR" sz="2800" spc="-1" strike="noStrike">
                <a:solidFill>
                  <a:srgbClr val="005c2a"/>
                </a:solidFill>
                <a:latin typeface="Traditional Arabic"/>
                <a:ea typeface="Traditional Arabic"/>
              </a:rPr>
              <a:t>3</a:t>
            </a:r>
            <a:r>
              <a:rPr b="1" lang="ar-SA" sz="2800" spc="-1" strike="noStrike">
                <a:solidFill>
                  <a:srgbClr val="005c2a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763640" y="177336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سْمِ اللَّهِ الرَّحْمَنِ الرَّحِیم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763640" y="262728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ea typeface="QuranTaha"/>
              </a:rPr>
              <a:t> إِنَّا أَعْطَینَاكَ الْكَوْثَرَ </a:t>
            </a:r>
            <a:r>
              <a:rPr b="1" lang="ar-SA" sz="2800" spc="-1" strike="noStrike">
                <a:solidFill>
                  <a:srgbClr val="005c2a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5c2a"/>
                </a:solidFill>
                <a:latin typeface="Traditional Arabic"/>
                <a:cs typeface="Traditional Arabic"/>
              </a:rPr>
              <a:t>١</a:t>
            </a:r>
            <a:r>
              <a:rPr b="1" lang="ar-SA" sz="2800" spc="-1" strike="noStrike">
                <a:solidFill>
                  <a:srgbClr val="005c2a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763640" y="344664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صَلِّ لِرَبِّكَ وَانْحَرْ</a:t>
            </a:r>
            <a:r>
              <a:rPr b="1" lang="ar-SA" sz="2800" spc="-1" strike="noStrike">
                <a:solidFill>
                  <a:srgbClr val="005c2a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5c2a"/>
                </a:solidFill>
                <a:latin typeface="Traditional Arabic"/>
                <a:cs typeface="Traditional Arabic"/>
              </a:rPr>
              <a:t>٢</a:t>
            </a:r>
            <a:r>
              <a:rPr b="1" lang="ar-SA" sz="2800" spc="-1" strike="noStrike">
                <a:solidFill>
                  <a:srgbClr val="005c2a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285.MP3" descr=""/>
          <p:cNvPicPr/>
          <p:nvPr/>
        </p:nvPicPr>
        <p:blipFill>
          <a:blip r:embed="rId2"/>
          <a:stretch/>
        </p:blipFill>
        <p:spPr>
          <a:xfrm>
            <a:off x="1071576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24613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3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Rectangle 4" descr=""/>
          <p:cNvPicPr/>
          <p:nvPr/>
        </p:nvPicPr>
        <p:blipFill>
          <a:blip r:embed="rId2"/>
          <a:stretch/>
        </p:blipFill>
        <p:spPr>
          <a:xfrm>
            <a:off x="3681360" y="1689120"/>
            <a:ext cx="1658880" cy="9316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63640" y="2681280"/>
            <a:ext cx="5808600" cy="39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(normal text)"/>
                <a:cs typeface="2  Badr"/>
              </a:rPr>
              <a:t>یاد و نام و مرام رسول خود</a:t>
            </a:r>
            <a:r>
              <a:rPr b="0" lang="fa-IR" sz="18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2  Badr"/>
              </a:rPr>
              <a:t> </a:t>
            </a:r>
            <a:r>
              <a:rPr b="1" lang="fa-IR" sz="2200" spc="-1" strike="noStrike">
                <a:solidFill>
                  <a:srgbClr val="000000"/>
                </a:solidFill>
                <a:latin typeface="(normal text)"/>
                <a:cs typeface="2  Badr"/>
              </a:rPr>
              <a:t>را در عالم وجود جاودانه کردی و دوام عترتش را در کنار قرآن بی مثالت ضمانت کرد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(normal text)"/>
                <a:cs typeface="2  Badr"/>
              </a:rPr>
              <a:t>ما را نیز در خدمت قرآن و عترت، و در مسیر کوثر بی انتهای رسالت قرار ده و از کوره راه بن بست دشمنان بدخواهش برها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تصویر 3" descr=""/>
          <p:cNvPicPr/>
          <p:nvPr/>
        </p:nvPicPr>
        <p:blipFill>
          <a:blip r:embed="rId1"/>
          <a:stretch/>
        </p:blipFill>
        <p:spPr>
          <a:xfrm>
            <a:off x="-500040" y="-500040"/>
            <a:ext cx="10215720" cy="7929720"/>
          </a:xfrm>
          <a:prstGeom prst="rect">
            <a:avLst/>
          </a:prstGeom>
          <a:ln w="0">
            <a:noFill/>
          </a:ln>
        </p:spPr>
      </p:pic>
      <p:pic>
        <p:nvPicPr>
          <p:cNvPr id="53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1390680" y="1054080"/>
            <a:ext cx="64054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1703520" y="1714680"/>
            <a:ext cx="573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ea typeface="2  Badr"/>
              </a:rPr>
              <a:t>«ابتر»!؛ لقبی که دشمنان بدخواه رسول خدا</a:t>
            </a:r>
            <a:r>
              <a:rPr b="0" lang="fa-IR" sz="18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Badr"/>
              </a:rPr>
              <a:t>با کمال بی ادبی، بر او نهاده ا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733400" y="2717640"/>
            <a:ext cx="57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Badr"/>
              </a:rPr>
              <a:t>این کوته فکران امیدوارند که با رحلت آن حضرت، دعوت توحیدی او نیز پایان یاب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733400" y="3689280"/>
            <a:ext cx="570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آنان بر این باورند که فرزند پسر، وارث پدر و ادامه دهنده راه اوست و چون او پسر ندارد، نسلش و در نتیجه راهش ادامه نخواهد یافت و همه چیز به حال اول خود باز خواهد گشت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Neirizi"/>
              <a:ea typeface="Neiriz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898989"/>
              </a:solidFill>
              <a:latin typeface="Neirizi"/>
              <a:ea typeface="Neirizi"/>
            </a:endParaRPr>
          </a:p>
        </p:txBody>
      </p:sp>
      <p:pic>
        <p:nvPicPr>
          <p:cNvPr id="70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1763640" y="420516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إِنَّ شَانِئَكَ هُوَ الْأَبْتَرُ </a:t>
            </a:r>
            <a:r>
              <a:rPr b="1" lang="ar-SA" sz="2800" spc="-1" strike="noStrike">
                <a:solidFill>
                  <a:srgbClr val="005c2a"/>
                </a:solidFill>
                <a:latin typeface="Traditional Arabic"/>
                <a:cs typeface="Traditional Arabic"/>
              </a:rPr>
              <a:t>﴿</a:t>
            </a:r>
            <a:r>
              <a:rPr b="1" lang="fa-IR" sz="2800" spc="-1" strike="noStrike">
                <a:solidFill>
                  <a:srgbClr val="005c2a"/>
                </a:solidFill>
                <a:latin typeface="Traditional Arabic"/>
                <a:ea typeface="Traditional Arabic"/>
              </a:rPr>
              <a:t>3</a:t>
            </a:r>
            <a:r>
              <a:rPr b="1" lang="ar-SA" sz="2800" spc="-1" strike="noStrike">
                <a:solidFill>
                  <a:srgbClr val="005c2a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763640" y="177336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سْمِ اللَّهِ الرَّحْمَنِ الرَّحِیم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63640" y="262728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ea typeface="QuranTaha"/>
              </a:rPr>
              <a:t> إِنَّا أَعْطَینَاكَ الْكَوْثَرَ </a:t>
            </a:r>
            <a:r>
              <a:rPr b="1" lang="ar-SA" sz="2800" spc="-1" strike="noStrike">
                <a:solidFill>
                  <a:srgbClr val="005c2a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5c2a"/>
                </a:solidFill>
                <a:latin typeface="Traditional Arabic"/>
                <a:cs typeface="Traditional Arabic"/>
              </a:rPr>
              <a:t>١</a:t>
            </a:r>
            <a:r>
              <a:rPr b="1" lang="ar-SA" sz="2800" spc="-1" strike="noStrike">
                <a:solidFill>
                  <a:srgbClr val="005c2a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63640" y="344664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صَلِّ لِرَبِّكَ وَانْحَرْ</a:t>
            </a:r>
            <a:r>
              <a:rPr b="1" lang="ar-SA" sz="2800" spc="-1" strike="noStrike">
                <a:solidFill>
                  <a:srgbClr val="005c2a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5c2a"/>
                </a:solidFill>
                <a:latin typeface="Traditional Arabic"/>
                <a:cs typeface="Traditional Arabic"/>
              </a:rPr>
              <a:t>٢</a:t>
            </a:r>
            <a:r>
              <a:rPr b="1" lang="ar-SA" sz="2800" spc="-1" strike="noStrike">
                <a:solidFill>
                  <a:srgbClr val="005c2a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285.MP3" descr=""/>
          <p:cNvPicPr/>
          <p:nvPr/>
        </p:nvPicPr>
        <p:blipFill>
          <a:blip r:embed="rId2"/>
          <a:stretch/>
        </p:blipFill>
        <p:spPr>
          <a:xfrm>
            <a:off x="1071576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4613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4857840" y="1916280"/>
            <a:ext cx="2071440" cy="7966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Badr"/>
              </a:rPr>
              <a:t>إِنَّا أَعْطيْنَك الْكَوْثَر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861080" y="3030480"/>
            <a:ext cx="2071440" cy="7970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Badr"/>
              </a:rPr>
              <a:t>فَصلّ‏ِ لِرَبِّك وَ انحَر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884840" y="4229280"/>
            <a:ext cx="2041560" cy="7966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Badr"/>
              </a:rPr>
              <a:t>إِنَّ شانِئَك هُوَ الأَبْتر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900080" y="2286000"/>
            <a:ext cx="2289240" cy="2286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Badr"/>
              </a:rPr>
              <a:t>امتنان بر رسول خدا</a:t>
            </a:r>
            <a:r>
              <a:rPr b="0" lang="fa-IR" sz="18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Badr"/>
              </a:rPr>
              <a:t>به سبب اعطاي كوثر؛ و ابتر بودن دشمنان ايش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متصل کننده پیکان مستقیم 16"/>
          <p:cNvCxnSpPr>
            <a:stCxn id="83" idx="1"/>
            <a:endCxn id="86" idx="3"/>
          </p:cNvCxnSpPr>
          <p:nvPr/>
        </p:nvCxnSpPr>
        <p:spPr>
          <a:xfrm flipH="1">
            <a:off x="4188600" y="2314440"/>
            <a:ext cx="669240" cy="111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متصل کننده پیکان مستقیم 18"/>
          <p:cNvCxnSpPr>
            <a:stCxn id="85" idx="1"/>
            <a:endCxn id="86" idx="3"/>
          </p:cNvCxnSpPr>
          <p:nvPr/>
        </p:nvCxnSpPr>
        <p:spPr>
          <a:xfrm flipH="1" flipV="1">
            <a:off x="4188960" y="3428280"/>
            <a:ext cx="696240" cy="119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متصل کننده پیکان مستقیم 11"/>
          <p:cNvCxnSpPr>
            <a:stCxn id="83" idx="2"/>
            <a:endCxn id="84" idx="0"/>
          </p:cNvCxnSpPr>
          <p:nvPr/>
        </p:nvCxnSpPr>
        <p:spPr>
          <a:xfrm>
            <a:off x="5893200" y="2712960"/>
            <a:ext cx="3960" cy="317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متصل کننده منحنی 17"/>
          <p:cNvCxnSpPr>
            <a:stCxn id="83" idx="3"/>
            <a:endCxn id="85" idx="3"/>
          </p:cNvCxnSpPr>
          <p:nvPr/>
        </p:nvCxnSpPr>
        <p:spPr>
          <a:xfrm flipH="1">
            <a:off x="6926040" y="2314080"/>
            <a:ext cx="3600" cy="2313720"/>
          </a:xfrm>
          <a:prstGeom prst="curvedConnector5">
            <a:avLst>
              <a:gd name="adj1" fmla="val -8144444"/>
              <a:gd name="adj2" fmla="val 50000"/>
              <a:gd name="adj3" fmla="val -8144444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4:03Z</dcterms:modified>
  <cp:revision>64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