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859-7E23-48D9-83D8-3F58CAD8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D797-73FB-400E-B80D-9070F1D9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6D8-DA60-4FEB-82BA-018D873E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9A5B-C9F4-4E0D-912F-B6F8A761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F772-91CA-4FED-8A77-B368C7BE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8996-D3EC-4A39-9BC4-10EE8C9C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2CE-709E-4CF5-9B58-D4E80B06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10D-C448-423A-AA6A-7A5298E8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ABE-8F07-435A-B66A-6A4F43F1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A34-51B4-4E6E-9E6B-A85E7B59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3A9-201F-41BA-9F2C-41CE9A03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A28A-76D5-4C1F-874E-2E9C3E7E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AD50-4801-4487-A7F9-4B01E95FD737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تصویر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0" y="2286000"/>
            <a:ext cx="2286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ffffff"/>
                </a:solidFill>
                <a:latin typeface="Calibri"/>
                <a:cs typeface="2  Davat"/>
              </a:rPr>
              <a:t>تدبّر د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ffffff"/>
                </a:solidFill>
                <a:latin typeface="Calibri"/>
                <a:cs typeface="2  Davat"/>
              </a:rPr>
              <a:t>سوره مبارک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ffffff"/>
                </a:solidFill>
                <a:latin typeface="Calibri"/>
                <a:cs typeface="2  Davat"/>
              </a:rPr>
              <a:t>بیّن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BESM.wav" descr=""/>
          <p:cNvPicPr/>
          <p:nvPr/>
        </p:nvPicPr>
        <p:blipFill>
          <a:blip r:embed="rId2"/>
          <a:stretch/>
        </p:blipFill>
        <p:spPr>
          <a:xfrm>
            <a:off x="1100124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90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تصویر 1" descr=""/>
          <p:cNvPicPr/>
          <p:nvPr/>
        </p:nvPicPr>
        <p:blipFill>
          <a:blip r:embed="rId1"/>
          <a:stretch/>
        </p:blipFill>
        <p:spPr>
          <a:xfrm>
            <a:off x="0" y="61920"/>
            <a:ext cx="9144000" cy="6734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2023920" y="2921040"/>
            <a:ext cx="509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تصویر 1" descr=""/>
          <p:cNvPicPr/>
          <p:nvPr/>
        </p:nvPicPr>
        <p:blipFill>
          <a:blip r:embed="rId1"/>
          <a:stretch/>
        </p:blipFill>
        <p:spPr>
          <a:xfrm>
            <a:off x="0" y="61920"/>
            <a:ext cx="9144000" cy="67341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-3462840" y="1714680"/>
            <a:ext cx="1606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رسول الله</a:t>
            </a:r>
            <a:r>
              <a:rPr b="0" lang="fa-IR" sz="28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6600" spc="-1" strike="noStrike">
                <a:solidFill>
                  <a:srgbClr val="000000"/>
                </a:solidFill>
                <a:latin typeface="IranNastaliq"/>
                <a:ea typeface="IranNastaliq"/>
              </a:rPr>
              <a:t> فارق كفر و ايمان و جهنم و بهش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571760" y="3286080"/>
            <a:ext cx="59292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Badr"/>
              </a:rPr>
              <a:t>پیامبر اسلام</a:t>
            </a:r>
            <a:r>
              <a:rPr b="0" lang="fa-IR" sz="2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ea typeface="2  Badr"/>
              </a:rPr>
              <a:t> بیّنه الهی است و با آمدن ایشان از سوی خدا، حجت تمام است و تنها معیار کفر و ایمان، کفر یا ایمان به آن حضرت اس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9"/>
          <p:cNvSpPr/>
          <p:nvPr/>
        </p:nvSpPr>
        <p:spPr>
          <a:xfrm>
            <a:off x="1285920" y="1285920"/>
            <a:ext cx="6572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لَمْ يَكُنِ الَّذِينَ كَفَرُوا مِنْ أَهْلِ الْكِتَابِ وَالْمُشْرِكِينَ مُنْفَكِّينَ حَتَّى تَأْتِيَهُمُ الْبَيِّنَةُ 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١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رَسُولٌ مِنَ اللَّهِ يَتْلُو صُحُفًا مُطَهَّرَةً 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٢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فِيهَا كُتُبٌ قَيِّمَةٌ 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٣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تَفَرَّقَ الَّذِينَ أُوتُوا الْكِتَابَ إِلا مِنْ بَعْدِ مَا جَاءَتْهُمُ الْبَيِّنَةُ 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٤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أُمِرُوا إِلا لِيَعْبُدُوا اللَّهَ مُخْلِصِينَ لَهُ الدِّينَ حُنَفَاءَ وَيُقِيمُوا الصَّلاةَ وَيُؤْتُوا الزَّكَاةَ وَذَلِكَ دِينُ الْقَيِّمَةِ 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٥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الَّذِينَ كَفَرُوا مِنْ أَهْلِ الْكِتَابِ وَالْمُشْرِكِينَ فِي نَارِ جَهَنَّمَ خَالِدِينَ فِيهَا أُولَئِكَ هُمْ شَرُّ الْبَرِيَّةِ 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٦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الَّذِينَ آمَنُوا وَعَمِلُوا الصَّالِحَاتِ أُولَئِكَ هُمْ خَيْرُ الْبَرِيَّةِ 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٧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جَزَاؤُهُمْ عِنْدَ رَبِّهِمْ جَنَّاتُ عَدْنٍ تَجْرِي مِنْ تَحْتِهَا الأنْهَارُ خَالِدِينَ فِيهَا أَبَدًا رَضِيَ اللَّهُ عَنْهُمْ وَرَضُوا عَنْهُ ذَلِكَ لِمَنْ خَشِيَ رَبَّهُ 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٨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275.MP3" descr=""/>
          <p:cNvPicPr/>
          <p:nvPr/>
        </p:nvPicPr>
        <p:blipFill>
          <a:blip r:embed="rId2"/>
          <a:stretch/>
        </p:blipFill>
        <p:spPr>
          <a:xfrm>
            <a:off x="11287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2656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2582280" y="1500120"/>
            <a:ext cx="395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پروردگارا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500120" y="2894040"/>
            <a:ext cx="61437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(normal text)"/>
                <a:cs typeface="2  Badr"/>
              </a:rPr>
              <a:t>ما را در راه ايمان به رسول خدا</a:t>
            </a:r>
            <a:r>
              <a:rPr b="0" lang="fa-IR" sz="2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1" lang="fa-IR" sz="2800" spc="-1" strike="noStrike">
                <a:solidFill>
                  <a:srgbClr val="000000"/>
                </a:solidFill>
                <a:latin typeface="(normal text)"/>
                <a:ea typeface="2  Badr"/>
              </a:rPr>
              <a:t> و كتابي كه از جانب خدا آورده است، ثابت قدم بدار و بر انجام كارهاي نيك موفق كن تا در زمره بهترين آفريدگانت باشيم و به مقام رضاي تو نايل شوي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1182600" y="1054080"/>
            <a:ext cx="68518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2239920" y="2921040"/>
            <a:ext cx="46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عکس 3" descr="30018b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500120" y="1428840"/>
            <a:ext cx="60721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ea typeface="2  Badr"/>
              </a:rPr>
              <a:t>  تا قبل از فرستاده شدن رسولی از جانب خدا و تلاوت صحیفه هایی پاک از سوی او، حجّت بر کسی تمام نیست و عذر تقصیر برای همه کسانی که هنوز با آمدن بیّنه مشمول سنّت هدایت نشده باشند، باقی 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500120" y="3000240"/>
            <a:ext cx="607212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ea typeface="2  Badr"/>
              </a:rPr>
              <a:t>  با آمدن رسول خدا</a:t>
            </a:r>
            <a:r>
              <a:rPr b="0" lang="fa-IR" sz="2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1" lang="fa-IR" sz="2400" spc="-1" strike="noStrike">
                <a:solidFill>
                  <a:srgbClr val="000000"/>
                </a:solidFill>
                <a:latin typeface="Calibri"/>
                <a:ea typeface="2  Badr"/>
              </a:rPr>
              <a:t> و تلاوت قرآن از جانب ایشان، حجّت بر همگان تمام شده است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00120" y="4214880"/>
            <a:ext cx="607212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ea typeface="2  Badr"/>
              </a:rPr>
              <a:t>  امّا گویا کافران به این بیّنه یعنی اهل کتاب و مشرکان، هنوز هم خدا را ضامن هدایت خویش می بینن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تصویر 1" descr=""/>
          <p:cNvPicPr/>
          <p:nvPr/>
        </p:nvPicPr>
        <p:blipFill>
          <a:blip r:embed="rId1"/>
          <a:stretch/>
        </p:blipFill>
        <p:spPr>
          <a:xfrm>
            <a:off x="0" y="61920"/>
            <a:ext cx="9144000" cy="6734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9"/>
          <p:cNvSpPr/>
          <p:nvPr/>
        </p:nvSpPr>
        <p:spPr>
          <a:xfrm>
            <a:off x="1285920" y="1285920"/>
            <a:ext cx="6572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لَمْ يَكُنِ الَّذِينَ كَفَرُوا مِنْ أَهْلِ الْكِتَابِ وَالْمُشْرِكِينَ مُنْفَكِّينَ حَتَّى تَأْتِيَهُمُ الْبَيِّنَةُ 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١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رَسُولٌ مِنَ اللَّهِ يَتْلُو صُحُفًا مُطَهَّرَةً 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٢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فِيهَا كُتُبٌ قَيِّمَةٌ 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٣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تَفَرَّقَ الَّذِينَ أُوتُوا الْكِتَابَ إِلا مِنْ بَعْدِ مَا جَاءَتْهُمُ الْبَيِّنَةُ 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٤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أُمِرُوا إِلا لِيَعْبُدُوا اللَّهَ مُخْلِصِينَ لَهُ الدِّينَ حُنَفَاءَ وَيُقِيمُوا الصَّلاةَ وَيُؤْتُوا الزَّكَاةَ وَذَلِكَ دِينُ الْقَيِّمَةِ 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٥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الَّذِينَ كَفَرُوا مِنْ أَهْلِ الْكِتَابِ وَالْمُشْرِكِينَ فِي نَارِ جَهَنَّمَ خَالِدِينَ فِيهَا أُولَئِكَ هُمْ شَرُّ الْبَرِيَّةِ 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٦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الَّذِينَ آمَنُوا وَعَمِلُوا الصَّالِحَاتِ أُولَئِكَ هُمْ خَيْرُ الْبَرِيَّةِ 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٧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جَزَاؤُهُمْ عِنْدَ رَبِّهِمْ جَنَّاتُ عَدْنٍ تَجْرِي مِنْ تَحْتِهَا الأنْهَارُ خَالِدِينَ فِيهَا أَبَدًا رَضِيَ اللَّهُ عَنْهُمْ وَرَضُوا عَنْهُ ذَلِكَ لِمَنْ خَشِيَ رَبَّهُ 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٨</a:t>
            </a:r>
            <a:r>
              <a:rPr b="1" lang="ar-SA" sz="2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275.MP3" descr=""/>
          <p:cNvPicPr/>
          <p:nvPr/>
        </p:nvPicPr>
        <p:blipFill>
          <a:blip r:embed="rId2"/>
          <a:stretch/>
        </p:blipFill>
        <p:spPr>
          <a:xfrm>
            <a:off x="11287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2656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تصویر 1" descr="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5419800" y="1071720"/>
            <a:ext cx="2724120" cy="92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2  Badr"/>
              </a:rPr>
              <a:t>لَمْ يَكُنِ الَّذِينَ كَفَرُوا مِنْ أَهْلِ الْكِتَبِ وَ الْمُشرِكِينَ مُنفَكِّينَ حَتى تَأْتِيهُمُ الْبَيِّنَة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000080" y="1071720"/>
            <a:ext cx="3832200" cy="92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2  Badr"/>
              </a:rPr>
              <a:t>رَسولٌ مِّنَ اللَّهِ يَتْلُوا صحُفاً مُّطهَّرَةً ِفيهَا كُتُبٌ قَيِّمَة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419800" y="2357280"/>
            <a:ext cx="2724120" cy="9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2  Badr"/>
              </a:rPr>
              <a:t>وَ مَا تَفَرَّقَ الَّذِينَ أُوتُوا الْكِتَب إِلا مِن بَعْدِ مَا جَاءَتهُمُ البی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000080" y="2357280"/>
            <a:ext cx="3832200" cy="9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2  Badr"/>
              </a:rPr>
              <a:t>وَ مَا أُمِرُواْ إِلَّا لِيَعْبُدُواْ اللَّهَ مخُْلِصِينَ لَهُ الدِّينَ حُنَفَاءَ وَ يُقِيمُواْ الصَّلَوةَ وَ يُؤْتُواْ الزَّكَوةَ  وَ ذَالِكَ دِينُ الْقَيِّمَ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000080" y="3571920"/>
            <a:ext cx="4643640" cy="9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2  Badr"/>
              </a:rPr>
              <a:t>إِنَّ الَّذِينَ كَفَرُوا مِنْ أَهْلِ الْكِتَبِ وَ الْمُشرِكِينَ فى نَارِ جَهَنَّمَ خَلِدِينَ فِيهَا أُولَئك هُمْ شرُّ الْبرِيَّة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000080" y="4572000"/>
            <a:ext cx="4643640" cy="12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2  Badr"/>
              </a:rPr>
              <a:t>إِنَّ الَّذِينَ آمَنُوا وَعَمِلُوا الصَّالِحَاتِ أُولَئِكَ هُمْ خَيْرُ الْبَرِيَّةِ * جَزَاؤُهُمْ عِنْدَ رَبِّهِمْ جَنَّاتُ عَدْنٍ تَجْرِي مِنْ تَحْتِهَا الأنْهَارُ خَالِدِينَ فِيهَا أَبَدًا رَضِيَ اللَّهُ عَنْهُمْ وَرَضُوا عَنْهُ ذَلِكَ لِمَنْ خَشِيَ رَبَّه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متصل کننده مستقیم 10"/>
          <p:cNvSpPr/>
          <p:nvPr/>
        </p:nvSpPr>
        <p:spPr>
          <a:xfrm flipH="1">
            <a:off x="4832280" y="153684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متصل کننده مستقیم 12"/>
          <p:cNvSpPr/>
          <p:nvPr/>
        </p:nvSpPr>
        <p:spPr>
          <a:xfrm flipH="1">
            <a:off x="4832280" y="282240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11"/>
          <p:cNvCxnSpPr>
            <a:stCxn id="64" idx="2"/>
          </p:cNvCxnSpPr>
          <p:nvPr/>
        </p:nvCxnSpPr>
        <p:spPr>
          <a:xfrm rot="5400000">
            <a:off x="5693400" y="3592440"/>
            <a:ext cx="1394640" cy="781560"/>
          </a:xfrm>
          <a:prstGeom prst="bentConnector3">
            <a:avLst>
              <a:gd name="adj1" fmla="val 1005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Right Brace 13"/>
          <p:cNvSpPr/>
          <p:nvPr/>
        </p:nvSpPr>
        <p:spPr>
          <a:xfrm>
            <a:off x="5715000" y="3571920"/>
            <a:ext cx="285840" cy="221436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2214360"/>
              <a:gd name="textAreaBottom" fmla="*/ 2207160 h 22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16200" y="10800"/>
                  <a:pt x="21600" y="10800"/>
                </a:cubicBezTo>
                <a:cubicBezTo>
                  <a:pt x="162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14"/>
          <p:cNvCxnSpPr>
            <a:stCxn id="62" idx="2"/>
            <a:endCxn id="64" idx="0"/>
          </p:cNvCxnSpPr>
          <p:nvPr/>
        </p:nvCxnSpPr>
        <p:spPr>
          <a:xfrm flipH="1">
            <a:off x="6780960" y="2001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6:28Z</dcterms:modified>
  <cp:revision>389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